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90080"/>
            <a:ext cx="77724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682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900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900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250236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68280"/>
            <a:ext cx="250236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68280"/>
            <a:ext cx="250236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90080"/>
            <a:ext cx="250236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90080"/>
            <a:ext cx="250236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90080"/>
            <a:ext cx="250236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37926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68280"/>
            <a:ext cx="37926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8000" y="177480"/>
            <a:ext cx="89280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68280"/>
            <a:ext cx="37926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900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37926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682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900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68280"/>
            <a:ext cx="37926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90080"/>
            <a:ext cx="7772400" cy="230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ffff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558120"/>
            <a:ext cx="147960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sitos de Software, para Garantia da Qualidad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928520" cy="1673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3882960"/>
            <a:ext cx="1935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708280"/>
            <a:ext cx="89280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nd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. Introdução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. Engenharia de Requisitos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II. Qualidade dos Requisitos, durante Elicita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V. Gerência de Requisit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0" y="3882960"/>
            <a:ext cx="1935000" cy="2210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9285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é a Engenharia de Requisitos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engenharia de requisitos estabelece um processo para a definição de requisitos, baseado n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lici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nális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egoc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as expectativas do cliente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te processo deve lidar com diferentes pontos de vista, e usar uma combinação de métodos, ferramentas e pessoal.  O produto desse processo é um modelo, do qual um documento de requisitos é produzido.  Este processo é perene e acontece num contexto previamente definido a que chamamos de Universo de Informaçõ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86000" y="2735280"/>
            <a:ext cx="2167200" cy="20019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enhar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3560" y="838080"/>
            <a:ext cx="1943280" cy="119124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formações de sistemas pré-existentes (ambiente le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560" y="2692440"/>
            <a:ext cx="1943280" cy="64260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ecessidades dos Stakehol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560" y="3489480"/>
            <a:ext cx="1943280" cy="91692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drões da Organização (Ambiente, áre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560" y="4697280"/>
            <a:ext cx="1943280" cy="64260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is e regulamentaçõ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6093000"/>
            <a:ext cx="211140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07040" y="4737240"/>
            <a:ext cx="0" cy="13572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5022720"/>
            <a:ext cx="13446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782880" y="4736880"/>
            <a:ext cx="0" cy="28548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951360"/>
            <a:ext cx="74772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021120"/>
            <a:ext cx="74772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1306440"/>
            <a:ext cx="171936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7640" y="1306440"/>
            <a:ext cx="0" cy="142884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9960" y="3016080"/>
            <a:ext cx="2017800" cy="82548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sitos Resul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9960" y="4089240"/>
            <a:ext cx="2017800" cy="82548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os do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53200" y="4451400"/>
            <a:ext cx="89676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0" y="3397320"/>
            <a:ext cx="896760" cy="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1760" y="2635200"/>
            <a:ext cx="2590920" cy="25909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05440" y="17971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os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/O da Engenharia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92120" y="5575320"/>
            <a:ext cx="1943280" cy="916920"/>
          </a:xfrm>
          <a:prstGeom prst="rect">
            <a:avLst/>
          </a:prstGeom>
          <a:solidFill>
            <a:srgbClr val="99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formações dos processos de negó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23440" y="117936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ão pessoas, organizações ou sistemas 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rão afetados pelo sistem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suem influência direta ou indireta nos requisi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guns envolv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uários finais: usam o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ros sistemas: recebem ou fornecem dados ao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ssoas envolvidas nos processos da organização afetados pelo sistema: podem ter a sua rotina alterada pelo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são Stakeholders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04640" y="1628640"/>
            <a:ext cx="1676520" cy="9907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genh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Sis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4480" y="2695680"/>
            <a:ext cx="0" cy="3124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14480" y="5819760"/>
            <a:ext cx="685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872480" y="5057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62040" y="3228840"/>
            <a:ext cx="0" cy="259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7680" y="3686040"/>
            <a:ext cx="0" cy="2133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29280" y="414324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00880" y="46004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81160" y="2085840"/>
            <a:ext cx="533520" cy="380880"/>
            <a:chOff x="2081160" y="2085840"/>
            <a:chExt cx="533520" cy="380880"/>
          </a:xfrm>
        </p:grpSpPr>
        <p:sp>
          <p:nvSpPr>
            <p:cNvPr id="141" name=""/>
            <p:cNvSpPr/>
            <p:nvPr/>
          </p:nvSpPr>
          <p:spPr>
            <a:xfrm>
              <a:off x="2614680" y="2085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81160" y="20858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147840" y="2695680"/>
            <a:ext cx="533160" cy="304560"/>
            <a:chOff x="3147840" y="2695680"/>
            <a:chExt cx="533160" cy="304560"/>
          </a:xfrm>
        </p:grpSpPr>
        <p:sp>
          <p:nvSpPr>
            <p:cNvPr id="144" name=""/>
            <p:cNvSpPr/>
            <p:nvPr/>
          </p:nvSpPr>
          <p:spPr>
            <a:xfrm>
              <a:off x="3681000" y="2695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47840" y="26956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367160" y="3152880"/>
            <a:ext cx="533160" cy="304560"/>
            <a:chOff x="4367160" y="3152880"/>
            <a:chExt cx="533160" cy="304560"/>
          </a:xfrm>
        </p:grpSpPr>
        <p:sp>
          <p:nvSpPr>
            <p:cNvPr id="147" name=""/>
            <p:cNvSpPr/>
            <p:nvPr/>
          </p:nvSpPr>
          <p:spPr>
            <a:xfrm>
              <a:off x="4900320" y="3152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7160" y="31528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67360" y="3610080"/>
            <a:ext cx="533160" cy="304560"/>
            <a:chOff x="5967360" y="3610080"/>
            <a:chExt cx="533160" cy="304560"/>
          </a:xfrm>
        </p:grpSpPr>
        <p:sp>
          <p:nvSpPr>
            <p:cNvPr id="150" name=""/>
            <p:cNvSpPr/>
            <p:nvPr/>
          </p:nvSpPr>
          <p:spPr>
            <a:xfrm>
              <a:off x="6500520" y="3610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7360" y="36100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10360" y="3990960"/>
            <a:ext cx="533160" cy="304560"/>
            <a:chOff x="7110360" y="3990960"/>
            <a:chExt cx="533160" cy="304560"/>
          </a:xfrm>
        </p:grpSpPr>
        <p:sp>
          <p:nvSpPr>
            <p:cNvPr id="153" name=""/>
            <p:cNvSpPr/>
            <p:nvPr/>
          </p:nvSpPr>
          <p:spPr>
            <a:xfrm>
              <a:off x="7643520" y="39909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10360" y="39909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52560" y="24670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71880" y="300024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90840" y="345744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dif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15080" y="391464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58080" y="437184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15920"/>
            <a:ext cx="88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sitos no Ciclo d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780000" y="1484280"/>
            <a:ext cx="1008000" cy="1513080"/>
          </a:xfrm>
          <a:prstGeom prst="line">
            <a:avLst/>
          </a:prstGeom>
          <a:ln w="57240">
            <a:solidFill>
              <a:srgbClr val="ff99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627280" y="1341360"/>
            <a:ext cx="2232000" cy="1079640"/>
          </a:xfrm>
          <a:prstGeom prst="line">
            <a:avLst/>
          </a:prstGeom>
          <a:ln w="57240">
            <a:solidFill>
              <a:srgbClr val="ff99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4680" y="817560"/>
            <a:ext cx="3657600" cy="1523880"/>
          </a:xfrm>
          <a:prstGeom prst="rect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icitaçã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álise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gociaçã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tapas da Engenharia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ocesso de Engenharia de Requisitos é constituído, geralmente, pelas seguintes fas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1 - Elicitação d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2 - Análise d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3 - Negociação d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Elicitaçã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guntar o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rquês. Ex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cafeteira deve ser feita de aç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 a razão dist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de me explicar porquê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 o raciocínio por detrás dist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Elicitaçã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rque se for de vidro, a cafeteira pode quebrar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sit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feteira deve ser feita de material resistente, tal com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á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uret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ço ou outro metal inoxidá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Elicitação de Requisitos – Exercí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sito descrito pelo cliente: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“A cafeteira deve ter uma luz vermelha, que pisca quando o aparelho está ligado. Quando a água chega na temperatura esperada, a luz vermelha permanece ligada sem piscar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is seriam os questionamentos adequados para esta  situaçã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is seriam os reais requisito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ERVAÇÃO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parar requisito e solu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Clientes usualmente confundem e misturam a requisição com a solução que eles imagin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65920" y="1371600"/>
            <a:ext cx="1744560" cy="1523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371600"/>
            <a:ext cx="1744920" cy="1523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120" y="1371600"/>
            <a:ext cx="1744560" cy="1523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55920"/>
            <a:ext cx="1600200" cy="11912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ção dos 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8840" y="1371600"/>
            <a:ext cx="1744560" cy="152388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210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ção do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1692360"/>
            <a:ext cx="160020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ta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543480"/>
            <a:ext cx="1676520" cy="2025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s do negó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 a ser resolv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ições do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3543480"/>
            <a:ext cx="1828800" cy="2025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utura da organ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ínio da aplic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as exist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543480"/>
            <a:ext cx="1981440" cy="2025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ção dos envolv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zação das me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ro do conhe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543480"/>
            <a:ext cx="1981080" cy="2025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os dos envolv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os do domín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os da organ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057400"/>
            <a:ext cx="3812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133720"/>
            <a:ext cx="3808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2133720"/>
            <a:ext cx="3808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895480"/>
            <a:ext cx="0" cy="3812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2895480"/>
            <a:ext cx="0" cy="3812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2895480"/>
            <a:ext cx="0" cy="3812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895480"/>
            <a:ext cx="0" cy="38124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276720"/>
            <a:ext cx="64767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6160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ção do esco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Elicitaçã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2708280"/>
            <a:ext cx="89280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nd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. Introdu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I. Engenharia de Requisitos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II. Qualidade dos Requisitos, durante Elicita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V. Gerência de Requisit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0" y="3882960"/>
            <a:ext cx="1935000" cy="221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9285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hecimento do domínio de aplicaç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stá distribuído em livros, manuais, pesso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nvolve terminologia específica, não familiar ao analista de requisi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volvidos (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odem não ter uma idéia clara dos requisitos ou podem não conseguir expressá-los adequadam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odem não estarem familiarizados com os recursos computacionai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odem ter necessidades bem diferentes uns dos outr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Elicitação de Requisitos – Problemas comu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Análise – Verificação x Validaçã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cação (Com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mos construindo o produto corretamente 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ção (O q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mos construindo o produto correto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Análise – Validação com Base em Protótip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5055" t="19739" r="18010" b="29341"/>
          <a:stretch/>
        </p:blipFill>
        <p:spPr>
          <a:xfrm>
            <a:off x="347760" y="836640"/>
            <a:ext cx="8432640" cy="5654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076720" y="1557360"/>
            <a:ext cx="2305080" cy="1797120"/>
          </a:xfrm>
          <a:prstGeom prst="wedgeEllipseCallout">
            <a:avLst>
              <a:gd name="adj1" fmla="val 34226"/>
              <a:gd name="adj2" fmla="val 7402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ndi os Requisitos. É disso mesmo que você precisa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35640" y="4292640"/>
            <a:ext cx="1801800" cy="1150920"/>
          </a:xfrm>
          <a:prstGeom prst="wedgeEllipseCallout">
            <a:avLst>
              <a:gd name="adj1" fmla="val 70879"/>
              <a:gd name="adj2" fmla="val -7151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mm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 ! Manda construir 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Análise – Verificaçã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mos construído o produto de maneira correta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cações são feitas com base em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spe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Análise – Verificações por Inspeçõ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tilizadas em qualquer tipo de artefato gerado pelo processo de desenvolvi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speção pode detectar de 30% a 90% dos erros exist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écnica de leitura aplicável a um artefato, buscando a localização de erros ou defeitos no mesmo, segundo um critério pré-estabelec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Análise – Verificações por Inspeçõ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1916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1447920"/>
            <a:ext cx="79246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1240" y="3352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p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84360" y="3809880"/>
            <a:ext cx="26668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84960" y="1447560"/>
            <a:ext cx="312408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447920"/>
            <a:ext cx="266688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4960" y="3809880"/>
            <a:ext cx="31240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9552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27400" y="3995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écnicas de lei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724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tef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971800"/>
            <a:ext cx="16747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 serem  inspecion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ara conduzir a inspe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1760" y="47340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eck li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bstração de er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8560" y="4724280"/>
            <a:ext cx="1752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ada em Pontos de Fu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192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p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2759040"/>
            <a:ext cx="11383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rgan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oder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nspe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9360" y="1600200"/>
            <a:ext cx="838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160020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2920" y="160020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56480" y="1600200"/>
            <a:ext cx="838080" cy="457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65520" y="160020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98760" y="160020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8760" y="160344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laneja-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2120" y="1693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tec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99160" y="1693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89520" y="1693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rre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93880" y="160164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isão ge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6560" y="160344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ompa-nh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7560" y="1828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424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4960" y="1828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164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Análise – Verificações por Inspeçõ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speções baseadas em check-lis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spetores (QA) utilizam uma lista com os itens a serem verific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da artefato tem uma lista específica (Documento de Requisitos, Casos de Uso, Glossários, Léxico Ampliado da Linguagem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defeitos são anotados no artefato sendo analis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ós a revisão, é realizada uma reunião onde os problemas encontrados são relatados aos desenvolv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Relação entre Elicitação e Análise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tes processos são fortemente relacio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urante a elicitação é inevitável realizar anál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cesso de Elicitação d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s requisitos do sistema são elicitados através dos envolvidos (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takeholder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 com o sistema, documentos do sistema, conhecimento do domínio e estudos do merc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cesso de Análise d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s requisitos são avaliados em relação a consistência e completude, através da V&amp;V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74640" y="11728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scussão sobr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requisitos problemáticos são discutidos junto aos envolvidos (stakeholder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orização dos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requisitos conflitantes são priorizados em relação à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riticidad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para tomada de decis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cordo sobr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s soluções são identificadas e é feito um acordo sobre o conjunto de requisitos. Isso é importante 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948360" y="4871880"/>
            <a:ext cx="2116440" cy="1581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Negociaçã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4419720"/>
            <a:ext cx="7924680" cy="14475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523880"/>
            <a:ext cx="7848720" cy="1447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75248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1752480"/>
            <a:ext cx="3048120" cy="9907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175248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828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e de necess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8446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e de consistência e integr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1828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e de vi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4648320"/>
            <a:ext cx="1523880" cy="9903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4732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ão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4648320"/>
            <a:ext cx="2133720" cy="9903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4648320"/>
            <a:ext cx="1905120" cy="99036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4732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inamento 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4724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rdo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200400"/>
            <a:ext cx="297180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3200400"/>
            <a:ext cx="152388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3200400"/>
            <a:ext cx="198108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292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 desnecessá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32925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 conflitantes e incompl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3276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 inv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90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ÁL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CI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4191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4191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209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14600" y="5181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5105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uxo dos Processos de Análise e Negociação de Requisit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77880" y="117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amente, sentenças que expressam as necessidades dos clientes e que condicionam a qualidade do soft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rviços e funções fornecidos pelo sist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 sob as quais o sistema deve o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utros sist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formações sobre o domínio de aplicação (Escop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são Requisitos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77880" y="11811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ste em definir um ou mais testes que permitirão testar o sistema, quando estiver implemen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execução do sistema pode ser avaliado através dos testes defin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ificuldade para definir os testes pode implicar, eventualmente, em algum problema com o requisi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cesso de Verificação. Fase de Teste de Requisito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8000" y="2708280"/>
            <a:ext cx="89280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X) Agend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. Introdu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I. Engenharia de Requisito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. Qualidade dos Requisitos, durante Elicita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V. Gerência de Requisit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58000" y="3882960"/>
            <a:ext cx="1935000" cy="2210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9285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sitos Não Funciona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2520" y="1622520"/>
          <a:ext cx="8229600" cy="462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 inverific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 verific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banco de dados ZZZ deve ser flexível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banco de dados ZZZ deve possuir oito campos por registr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5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sistema XYZ deve ser seguro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Z deve parar sua operação se uma pessoa se aproximar a mais de 2 metros de uma de suas partes móvei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Z deve desligar os aquecedores se 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da água exceder 37°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Z deve estar dentro dos padrões estabelecidos pela norma N567 seção 3.6 para temperaturas de superfícies externa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sistema ABC deve processar depósitos rapidamente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sistema ABC deve escanear os dados do usuário e conta de cada folheto de depósito em 2 segundos ou menos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72600" y="1189080"/>
            <a:ext cx="83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sitos Não Funcionais devem ser elaborados até que se tornem verificáve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tenças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sistema deve + [verbo] + [complemento de agente] + [condições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Verb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é um verbo simples que expresse a funcionalidade daquele requisi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mplemento de agent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é a identificação de um agente relacionado com o requisito; esse complemento pode ser descrito pelo objeto indireto.  Agente pode ser uma pessoa, uma instituição, um grupo ou um dispositivo físico externo ao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s sentenças podem ser de três tipos:  funcionais, não-funcionais e invers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tenças de Requisitos – Exempl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emitir um recibo para o cli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emitir o recibo para o cliente em no máximo 2 segun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cadastrar o cliente, desde que o cliente possua identificação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transformar uma fita disponível em fita emprestada, quando a fita for alugada pelo clien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cadastrar bibliotecários.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verificar a identidade do bibliotecár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não pode deixar que um livro fique na reserva mais de um mês.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 sistema deve tornar um livro em livro emprestado, quando um usuário pegar este livro emprestado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sitos Inverificáve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42800" y="162576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lavras não verificáve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íveis substitu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ig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úmero máximo de pas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a de funcionalidades presentes em outras aplicaçõ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us ou prompts para auxiliar usu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mensõ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os mínimos de hardw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s operacionais em que deve funcion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que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mensões aceitáveis (em número de Byte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í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áveis que podem acomodar uma gama de mudanças de val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ções que implementam uma de várias possibili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72960" y="118260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umas palavras levam a requisitos impossíveis de serem verfica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ributos de uma boa espeficicaçã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re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mbiguidade (Unicidade de senti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le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mpli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a escr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rez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84360" y="1622520"/>
          <a:ext cx="7764480" cy="4827600"/>
        </p:xfrm>
        <a:graphic>
          <a:graphicData uri="http://schemas.openxmlformats.org/drawingml/2006/table">
            <a:tbl>
              <a:tblPr/>
              <a:tblGrid>
                <a:gridCol w="2722320"/>
                <a:gridCol w="5042160"/>
              </a:tblGrid>
              <a:tr h="664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 Requisito cla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usuá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engenheiro de teste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ado deseja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ula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s de componente …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içõ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ando as funções de teste QQ e TT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0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 Requisito va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 geral o sistema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isa ou não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 ser capaz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is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diagnosticar possíveis erros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verificar isto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 um prazo razoáve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biguida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sistema deve enviar relatórios de produtividade dos programadores, analistas ou desenvolvedores do projeto mensalmente ou quando requisitado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"Realizar rotina de importação de dados periódica de preço de fluido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"Identificar e associar as intervenções que são complementares às outras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sistema deve emitir uma mensagem de atenção visual ou auditiva no evento de falha do sistema de refrigeraçã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sitos Múltipl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sistema deve manter dados estatísticos sobre compra, venda e movimentação do estoque de materiais de limpeza. Informação relativa a comissão de vendedores também deve ser mant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dastro das atividades de um projeto e produtos e funcionário alocados na ativ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28800" y="1471680"/>
            <a:ext cx="72864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sitos Mal Escr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sistema poderá ser acessado remotamente por qualquer unidade internacional da Petrobras, com isso, ele deverá ter um desempenho compatível ao acess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a improvável eventualidade de falha no sistema de refrigeração, o sistema deve mandar mensagem para a chave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8000" y="2708280"/>
            <a:ext cx="89280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nd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. Introdu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I. Engenharia de Requisitos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III. Qualidade dos Requisitos, durante Elicitação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(x)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. Gerência de Requisit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58000" y="3882960"/>
            <a:ext cx="1935000" cy="2210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9285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rência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6440" y="11811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enciar requisitos é a tarefa de garantir que as solicitações dos clientes estejam sendo atendidas pelo processo de produção do softw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 isso torna-se de fundamental importância que estas solicitações estejam relacionadas com os produtos de software 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quirements alloc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É o processo para controlar as mudanças dos requisitos do sistema, que ocorrem durante ou após o desenvolvi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ividad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enciar as mudanças dos requisitos consolid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enciar os relacionamentos entre os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enciar as dependências entre o documento de requisitos durante o desenvolvimento do sistema e de softw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7365960" y="5226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fo cu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7240" y="17557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27280" y="1755720"/>
            <a:ext cx="1981440" cy="1295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200" y="17557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4194000"/>
            <a:ext cx="1676160" cy="129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1480" y="427032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2400" y="4270320"/>
            <a:ext cx="1523880" cy="1295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08720" y="42703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liar se custo acei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5480" y="1809720"/>
            <a:ext cx="175284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r validade da mud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5200" y="1800360"/>
            <a:ext cx="139392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r requisitos afe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70080" y="4575240"/>
            <a:ext cx="12956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liar 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6880" y="4438800"/>
            <a:ext cx="14479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 mud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99080" y="18097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r requisitos depen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51120" y="7650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3280" y="900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dido mudanç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0600" y="23652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460600" y="152676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82000" y="42908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o ou pedido rejei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08720" y="24415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1706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sta re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365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dido vá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66120" y="30510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317240" y="373680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87600" y="3397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a mudanças de requi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27080" y="4879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4720" y="4019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udanças re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27080" y="503244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55680" y="5565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o rejei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17600" y="3736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0560" y="551484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fo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317600" y="548964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94320" y="3957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fo cu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18000" y="4879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14640" y="1316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dido rejei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32440" y="55148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fo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703920" y="560556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956280" y="449856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56280" y="51084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xo da Gerência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rência de Requisitos. Rastreabilidad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écnica usada para prover relacionamento entre requisitos, projeto e implementação final do siste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É uma característica de sistemas nos quais os requisitos são claramente ligados às suas fontes e aos artefatos criados, durante o ciclo de vida de desenvolvimento do siste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a parte crítica na gerência de mudança de requisitos é a avaliação do impacto de uma mudança no siste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mudança tem impactos variados em função do estágio de desenvolvim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ções necessárias para rastre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endências entre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o da necessidade dos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ção dos requisi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rência de Requisitos. Rastreabilidad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rência de Requisitos. Rastreabilidad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92160" y="692280"/>
          <a:ext cx="5356440" cy="58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692280"/>
                    <a:ext cx="535644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’s all, folks 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694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b2b2b2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 o propósito da disciplina de gerência de requisitos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b2b2b2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ntexto na análise de requisitos, diferencie o validação e verific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b2b2b2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lie o requisi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 geral, o sistema deve processar as notas de alunos com alta performance e garantia de disponibilidade mensal de 98% para o horário comercial no final do semestre, obtida com base em redundância do servidor de banco de dados. O cálculo de matrícula deve ser executado com base no levantamento de inadimplências do aluno, se hou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Requisitos não refletem as necessidades reais dos clientes/usuá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Requisitos são inconsistentes ou incompl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dispendioso mudar os Requisitos após um acor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problemas apresentados pelos clientes/usuários tem fronteiras mal definidas (abert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is os problemas mais frequentes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sto de Reparo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71720" y="1409760"/>
          <a:ext cx="6999120" cy="45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09760"/>
                    <a:ext cx="699912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pos de Requisit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sitos Fun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 são requisitos diretamente ligados a funcionalidade do software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 seja, descrevem regras de negóc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sitos Não Fun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NF são requisitos que expressam restrições que o software deve atender ou qualidades específicas que o software deve ter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lacionados com ambien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908000" y="642960"/>
            <a:ext cx="5257800" cy="5790960"/>
            <a:chOff x="1908000" y="642960"/>
            <a:chExt cx="5257800" cy="5790960"/>
          </a:xfrm>
        </p:grpSpPr>
        <p:sp>
          <p:nvSpPr>
            <p:cNvPr id="58" name=""/>
            <p:cNvSpPr/>
            <p:nvPr/>
          </p:nvSpPr>
          <p:spPr>
            <a:xfrm>
              <a:off x="5870160" y="2547720"/>
              <a:ext cx="114300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70160" y="1633320"/>
              <a:ext cx="1143000" cy="68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9080" y="5214960"/>
              <a:ext cx="1143000" cy="1218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89080" y="2547720"/>
              <a:ext cx="1143000" cy="24386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9080" y="1633320"/>
              <a:ext cx="1143000" cy="68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9080" y="642960"/>
              <a:ext cx="1143000" cy="68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00" y="2547720"/>
              <a:ext cx="114300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8000" y="1633320"/>
              <a:ext cx="1143000" cy="68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89080" y="170964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Produ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9080" y="7189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Não Funcionai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8000" y="170964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Process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70160" y="170964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Extern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00" y="262404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Distribui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00" y="32335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Implement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38433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Padrõ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00" y="3157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8000" y="37670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2760" y="262404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Usabilida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9080" y="32335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Confiabilida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89080" y="384336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Seguranç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89080" y="445284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Eficiê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9080" y="37670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9080" y="43765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9080" y="3157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9080" y="52909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Desempenh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89080" y="590076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Armazenam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9080" y="5824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4200" y="262404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Interoperabilida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70160" y="32335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de Cus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0160" y="384336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sitos  de Legislaç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70160" y="37670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70160" y="3157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41160" y="148104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2600" y="1328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1160" y="1481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3680" y="1481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1160" y="2319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0000" y="2319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8560" y="2319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8560" y="498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pos de Requisitos. Classificação dos Requisitos Não Funcionais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77480"/>
            <a:ext cx="89280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pos de Requisitos – Exempl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sistema deve prover um formulário de entrada para  a entrada dos resultados dos testes clínicos de um paci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sistema deve emitir um recibo para o cliente, com  o tempo máximo de 8 segundos após a trans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sistema não pode apagar informação de um cli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17080" y="18972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(Requisito Fun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7080" y="317016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(Requisito Não Fun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7080" y="4149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(Requisito Fun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21:41:38Z</dcterms:created>
  <dc:creator/>
  <dc:description/>
  <dc:language>en-US</dc:language>
  <cp:lastModifiedBy>romarciu</cp:lastModifiedBy>
  <dcterms:modified xsi:type="dcterms:W3CDTF">2007-09-01T10:59:45Z</dcterms:modified>
  <cp:revision>92</cp:revision>
  <dc:subject/>
  <dc:title>Requisitos de Software, para Garantia da Qualidade.</dc:title>
</cp:coreProperties>
</file>