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9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907588" cy="6858000"/>
  <p:notesSz cx="684371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43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1" lang="pt-BR" sz="1200" spc="-1" strike="noStrike">
                <a:solidFill>
                  <a:srgbClr val="ffff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74720" y="731880"/>
            <a:ext cx="529416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2960" y="4642920"/>
            <a:ext cx="5016240" cy="4397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1" lang="pt-BR" sz="1200" spc="-1" strike="noStrike">
                <a:solidFill>
                  <a:srgbClr val="ffff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1" lang="pt-BR" sz="1200" spc="-1" strike="noStrike">
                <a:solidFill>
                  <a:srgbClr val="ffff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9757CA0-59A8-44D1-8F76-D41CD4F3A7FB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83431BD-4520-465D-B160-C0326DB287B7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777960" y="733320"/>
            <a:ext cx="5290920" cy="36640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4360" y="4641480"/>
            <a:ext cx="54734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F50DD86-7BA3-4B88-8E99-29F0B60E7A6E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81000" y="73332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4360" y="4641480"/>
            <a:ext cx="54734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C2488FF-CB5C-4AAC-AE35-200BD039AC78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777960" y="733320"/>
            <a:ext cx="5290920" cy="36640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4360" y="4641480"/>
            <a:ext cx="54734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41B53FB-1BBF-474E-B024-31632A45CA2E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777960" y="733320"/>
            <a:ext cx="5290920" cy="36640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4360" y="4641480"/>
            <a:ext cx="54734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7B61844-E967-4606-BDA8-B71C21319387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777960" y="733320"/>
            <a:ext cx="5290920" cy="36640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4360" y="4641480"/>
            <a:ext cx="54734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9644729-CBD8-4959-95D0-EB39B9B330B7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777960" y="733320"/>
            <a:ext cx="5290920" cy="36640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4360" y="4641480"/>
            <a:ext cx="54734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9800" y="3647160"/>
            <a:ext cx="950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98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06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3880" y="105264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960" y="105264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9800" y="364716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3880" y="364716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960" y="364716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868-546A-4B75-AF2E-FAAC428A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3FC-C4E3-4BFC-9150-C38BEBD4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A55-92CE-4865-B1DF-CE7CF3CA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14E-4560-40A4-BB74-86C2F53C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0CD-1639-47DB-A58F-ECBA28D3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8520" y="-547920"/>
            <a:ext cx="964872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FC6-79CA-44B4-8435-CBB3347D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98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AE1-2BC1-4E08-9EEB-5FEC4DA0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06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EBA-1C1A-4834-AEE3-616D94C2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9800" y="3647160"/>
            <a:ext cx="950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AAD-1698-4006-8D07-ED6661E4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9800" y="3647160"/>
            <a:ext cx="950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DA6-A347-40AC-9A4B-AE8C2B29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98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06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4DE-1F24-4409-965A-A71CF054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13880" y="105264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27960" y="105264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9800" y="364716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13880" y="364716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27960" y="364716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CAC-FC6F-419A-BE25-391DA5D3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520" y="-547920"/>
            <a:ext cx="964872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98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06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9800" y="3647160"/>
            <a:ext cx="950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200160" y="6669000"/>
            <a:ext cx="95058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5840" y="-27000"/>
            <a:ext cx="9921960" cy="576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1160" y="409680"/>
            <a:ext cx="8132760" cy="426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8256960" y="114840"/>
            <a:ext cx="574920" cy="865080"/>
          </a:xfrm>
          <a:prstGeom prst="rtTriangl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0" t="28672" r="0" b="13823"/>
          <a:stretch/>
        </p:blipFill>
        <p:spPr>
          <a:xfrm>
            <a:off x="8624880" y="552600"/>
            <a:ext cx="120816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96520" y="990720"/>
            <a:ext cx="766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643D-94A1-40AC-9F4E-0172C08808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3040" y="2394000"/>
            <a:ext cx="842004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15236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rcRect l="0" t="23866" r="0" b="7235"/>
          <a:stretch/>
        </p:blipFill>
        <p:spPr>
          <a:xfrm>
            <a:off x="1496880" y="333360"/>
            <a:ext cx="295128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96520" y="990720"/>
            <a:ext cx="766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erdana"/>
              </a:rPr>
              <a:t>Qualidade de Softwar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68520" y="2781000"/>
            <a:ext cx="8337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rência de Configuração &amp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rência de Mudanç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Verdana"/>
              </a:rPr>
              <a:t>Mais duas disciplinas, para um processo de desenvolvimento de software melhor controlado 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Marcius Rodrig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mrodriguesx@hotmail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203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224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229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eito de Configuraç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ado de um ou mais itens que compõe um software em determinado momento, incluindo o relacionamento entre e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eito de Configuraç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f12000monza1.jpg"/>
          <p:cNvPicPr/>
          <p:nvPr/>
        </p:nvPicPr>
        <p:blipFill>
          <a:blip r:embed="rId2"/>
          <a:stretch/>
        </p:blipFill>
        <p:spPr>
          <a:xfrm>
            <a:off x="631800" y="1306440"/>
            <a:ext cx="2521080" cy="168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295800" y="861840"/>
            <a:ext cx="3809880" cy="947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rcRect l="49089" t="0" r="0" b="0"/>
          <a:stretch/>
        </p:blipFill>
        <p:spPr>
          <a:xfrm>
            <a:off x="7472520" y="946080"/>
            <a:ext cx="1939680" cy="1409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1214280" y="3538440"/>
            <a:ext cx="3810240" cy="1409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3295800" y="1870200"/>
            <a:ext cx="3809880" cy="1409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rcRect l="51003" t="0" r="0" b="0"/>
          <a:stretch/>
        </p:blipFill>
        <p:spPr>
          <a:xfrm>
            <a:off x="7550280" y="2705040"/>
            <a:ext cx="1866600" cy="1409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828720" y="5272200"/>
            <a:ext cx="3665520" cy="1355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5745240" y="4186080"/>
            <a:ext cx="3024000" cy="2267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054560" y="1069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02600" y="2160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99200" y="2692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5960" y="304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76600" y="4722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960" y="530712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263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284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289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eito de Versão e Rele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ersã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Instância de um IC, que difere, de algum modo, de outras instâncias do mesmo I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lea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Versão entregue ao cli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trole de Versõ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objetivo do versionamento é gerenciar as versões evolutivas e corretivas, implementadas através das mudanç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icar quais IC foram mudados (com base na alteração da versão) e o que foi muda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310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331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336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eito da Gerência de Configuraç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CS é uma disciplina para descrever a estrutura do produto, identificando o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ens de Configuração (IC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que são tratados como entidades de uma versão determinad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ta da definição das configurações, ou seja, criação, identificação e versionamento de artefatos componen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eito da Gerência de Configuraç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 elementos básicos de controle de uma configuração são os ítens de configuração (IC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m item de configuração é todo e qualquer ente passível de manipulação, ou seja, que possa ser univocamente identificado e gerencia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ão normalmente considerados ICs, documentos e código (seja fonte, executável etc.) e eles são obtidos através de um processo de decomposição que terá como resultado um conjunto de objetos hierarquizados e logicamente inter-relacionad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eito da Gerência de Configuraç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84160" y="1052640"/>
          <a:ext cx="7959960" cy="49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4160" y="1052640"/>
                    <a:ext cx="795996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104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125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130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elação entre Configuração e Vers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processo de produção de software, um objeto em desenvolvimento não tem um comportamento estático, ele evolui com o temp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ma-se de versão ao estado particular de um objeto e, por configuração, entende-se a relação entre as versões de um objeto composto, ou seja, configuração é uma instância do sistema composta da união de uma versão específica de cada objeto compon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unções da G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funções da Gerência de Configuração sã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icação de configuração (que itens constituem uma configuraçã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e de configuração (que passos no processo de alteração afetam uma configuraçã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ditoria de configuração (quais são as diferenças entre as versõ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abilização da situação de configuração (que modificações foram feitas por determinado programado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7240" y="78840"/>
            <a:ext cx="92091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rência de Configuraç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87480" y="2707920"/>
            <a:ext cx="31752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latório de A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-1095480" y="4395960"/>
            <a:ext cx="417528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latór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pendências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576600" y="4052880"/>
            <a:ext cx="5665680" cy="1606680"/>
            <a:chOff x="3576600" y="4052880"/>
            <a:chExt cx="5665680" cy="1606680"/>
          </a:xfrm>
        </p:grpSpPr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3576600" y="4052880"/>
              <a:ext cx="566568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3585240" y="4801680"/>
              <a:ext cx="5656680" cy="381240"/>
            </a:xfrm>
            <a:prstGeom prst="rect">
              <a:avLst/>
            </a:prstGeom>
            <a:noFill/>
            <a:ln w="28440">
              <a:solidFill>
                <a:srgbClr val="8e00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3587760" y="1959120"/>
            <a:ext cx="5654520" cy="20318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 rot="16200000">
            <a:off x="2332800" y="2767320"/>
            <a:ext cx="2024280" cy="41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4c16a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2589120" y="4647960"/>
            <a:ext cx="1558800" cy="41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4c16a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84280" y="1963800"/>
            <a:ext cx="8454960" cy="29779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131760" y="4084560"/>
            <a:ext cx="9648720" cy="527040"/>
          </a:xfrm>
          <a:prstGeom prst="rect">
            <a:avLst/>
          </a:prstGeom>
          <a:ln w="28440">
            <a:solidFill>
              <a:srgbClr val="336699"/>
            </a:solidFill>
            <a:miter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uditoria de Mudanç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668600" y="1598760"/>
          <a:ext cx="5948280" cy="39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598760"/>
                    <a:ext cx="594828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0" name=""/>
          <p:cNvGrpSpPr/>
          <p:nvPr/>
        </p:nvGrpSpPr>
        <p:grpSpPr>
          <a:xfrm>
            <a:off x="847800" y="2021040"/>
            <a:ext cx="8421120" cy="3474360"/>
            <a:chOff x="847800" y="2021040"/>
            <a:chExt cx="8421120" cy="3474360"/>
          </a:xfrm>
        </p:grpSpPr>
        <p:graphicFrame>
          <p:nvGraphicFramePr>
            <p:cNvPr id="371" name=""/>
            <p:cNvGraphicFramePr/>
            <p:nvPr/>
          </p:nvGraphicFramePr>
          <p:xfrm>
            <a:off x="3081600" y="2021040"/>
            <a:ext cx="6187320" cy="1711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81600" y="2021040"/>
                      <a:ext cx="6187320" cy="1711080"/>
                    </a:xfrm>
                    <a:prstGeom prst="rect">
                      <a:avLst/>
                    </a:prstGeom>
                    <a:ln w="19080">
                      <a:solidFill>
                        <a:srgbClr val="8e001d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73" name=""/>
            <p:cNvGraphicFramePr/>
            <p:nvPr/>
          </p:nvGraphicFramePr>
          <p:xfrm>
            <a:off x="847800" y="5067000"/>
            <a:ext cx="5217480" cy="42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7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47800" y="5067000"/>
                      <a:ext cx="5217480" cy="428400"/>
                    </a:xfrm>
                    <a:prstGeom prst="rect">
                      <a:avLst/>
                    </a:prstGeom>
                    <a:ln w="19080">
                      <a:solidFill>
                        <a:srgbClr val="8e001d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uditoria de Mudanç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592200" y="1606680"/>
            <a:ext cx="6326280" cy="3943080"/>
            <a:chOff x="592200" y="1606680"/>
            <a:chExt cx="6326280" cy="394308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592200" y="1606680"/>
              <a:ext cx="6326280" cy="39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383120" y="3085200"/>
              <a:ext cx="4577400" cy="336960"/>
            </a:xfrm>
            <a:prstGeom prst="rect">
              <a:avLst/>
            </a:prstGeom>
            <a:noFill/>
            <a:ln w="19080">
              <a:solidFill>
                <a:srgbClr val="8e00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4583160" y="2081160"/>
            <a:ext cx="4991040" cy="1133640"/>
          </a:xfrm>
          <a:prstGeom prst="rect">
            <a:avLst/>
          </a:prstGeom>
          <a:ln w="38160">
            <a:solidFill>
              <a:srgbClr val="8e001d"/>
            </a:solidFill>
            <a:miter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mparação Baseline x Estado Atua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1100160" y="1967040"/>
            <a:ext cx="7324560" cy="3508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425680" y="4181400"/>
            <a:ext cx="304956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24040" y="2462040"/>
            <a:ext cx="3291120" cy="3102120"/>
          </a:xfrm>
          <a:prstGeom prst="rect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378160" y="4876920"/>
          <a:ext cx="67658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8160" y="4876920"/>
                    <a:ext cx="6765840" cy="1079280"/>
                  </a:xfrm>
                  <a:prstGeom prst="rect">
                    <a:avLst/>
                  </a:prstGeom>
                  <a:ln w="28440">
                    <a:solidFill>
                      <a:srgbClr val="8e001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formidade com Polític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Quando ocorre a GC 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876240" y="1170000"/>
            <a:ext cx="810900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397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418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423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o contexto da GC, o que são baselines 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co no processo de desenvolvimento de software, caracterizado pela liberação de um ou mais IC aprovados. (Pressma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pecificação ou produto que foi formalmente revisado e sobre o qual foi estabelecido um acordo. Serve como base para implementações (desenvolvimentos) subsequentes, podendo apenas ser mudada por controles de mudança (IEE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eração de uma baseline é o momento no qual é acordado que um ou mais IC estão em conformidade com os requisitos do projeto e devem ser protegidos contra alterações não autorizadas. Após o estabelecimento de uma configuração-base, toda e qualquer alteração sobre os itens dessa configuração deve ser formalmente controlad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tivação para a G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que mudou no sistema, da versão 2.5 para a 4.1”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ão consigo reproduzir determinado defeito nesta versão do sistema. Para melhorar, não sei como conseguir a versão que contém o problema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sitos e código fonte não estão sincronizados. Código fonte e programa executável não estão sincronizados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ão sabia que necessitava também compilar o módulo XYZ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ão sei quais testes foram executados nesta nova versão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is desenvolvedores trabalham separadamente no mesmo artefato. O último a fazer mudanças sempre desfaz o trabalho realizado pelo primeiro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enefícios da adoção de baselines na G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m baseline oferece um ponto estável e uma imagem dos artefatos de desenvolvimento.  É a partir desse ponto estável que os novos projetos podem ser criados. O novo projeto, como uma ramificação separada, pode ser isolado das mudanças subseqüentes que serão efetuadas no projeto original (na ramificação principal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ma baseline permite que a equipe desfaça as mudanças caso as atualizações sejam consideradas instáveis ou não confiávei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ma baseline permite reproduzir erros reportados, pois você pode recriar a configuração de determinado releas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 que envolve a GC 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Organização define o escopo (eixo X, abrangência) e granularidade (eixo Y, profundidade) da GC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mplos de Itens de Configuração (IC). Escopo d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tefato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fraestrutur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Código Fo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Servidores de banco de d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Executáveis compil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Roteado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Compilado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Swit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Documentos de requisi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Casos de teste, estimati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Ferramentas de desenvolvimento de sistem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 que envolve a GC 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le lembrar que existe um compromisso entre a granularidade, visibilidade e gerenciamento da configuraçã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gundo a norma NBR ISO 10007, quanto maior a granularidade, mais difícil a visibilidade e maior o esforço de controle (acarretando um maior custo). Um número muito pequeno de ICs (decomposição insuficiente) leva a dificuldades de manutenção e limita as possibilidades de gerenciamen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escolha do melhor equilíbrio entre essas premissas é de caráter puramente gerencial e deve ser estudada caso a cas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448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469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474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r exemplo, GC para Inf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631800" y="3432240"/>
            <a:ext cx="8605800" cy="619200"/>
          </a:xfrm>
          <a:prstGeom prst="rect">
            <a:avLst/>
          </a:prstGeom>
          <a:solidFill>
            <a:srgbClr val="cad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31800" y="4083120"/>
            <a:ext cx="8605800" cy="619200"/>
          </a:xfrm>
          <a:prstGeom prst="rect">
            <a:avLst/>
          </a:prstGeom>
          <a:solidFill>
            <a:srgbClr val="cad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1800" y="4732200"/>
            <a:ext cx="8605800" cy="1360800"/>
          </a:xfrm>
          <a:prstGeom prst="rect">
            <a:avLst/>
          </a:prstGeom>
          <a:solidFill>
            <a:srgbClr val="cad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Cloud"/>
          <p:cNvSpPr/>
          <p:nvPr/>
        </p:nvSpPr>
        <p:spPr>
          <a:xfrm>
            <a:off x="3014640" y="4965840"/>
            <a:ext cx="6120000" cy="925200"/>
          </a:xfrm>
          <a:prstGeom prst="pie">
            <a:avLst/>
          </a:prstGeom>
          <a:solidFill>
            <a:srgbClr val="afb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155080" y="4952880"/>
            <a:ext cx="279360" cy="254160"/>
          </a:xfrm>
          <a:prstGeom prst="can">
            <a:avLst>
              <a:gd name="adj" fmla="val 50000"/>
            </a:avLst>
          </a:prstGeom>
          <a:solidFill>
            <a:srgbClr val="566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89480" y="5210280"/>
            <a:ext cx="279360" cy="253800"/>
          </a:xfrm>
          <a:prstGeom prst="can">
            <a:avLst>
              <a:gd name="adj" fmla="val 50000"/>
            </a:avLst>
          </a:prstGeom>
          <a:solidFill>
            <a:srgbClr val="566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16720" y="4979880"/>
            <a:ext cx="279360" cy="254160"/>
          </a:xfrm>
          <a:prstGeom prst="can">
            <a:avLst>
              <a:gd name="adj" fmla="val 50000"/>
            </a:avLst>
          </a:prstGeom>
          <a:solidFill>
            <a:srgbClr val="566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10080" y="5083200"/>
            <a:ext cx="279360" cy="253800"/>
          </a:xfrm>
          <a:prstGeom prst="can">
            <a:avLst>
              <a:gd name="adj" fmla="val 50000"/>
            </a:avLst>
          </a:prstGeom>
          <a:solidFill>
            <a:srgbClr val="566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37400" y="5381640"/>
            <a:ext cx="22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estrutura de R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85880" y="5079960"/>
            <a:ext cx="19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5880" y="4218120"/>
            <a:ext cx="19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rv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5880" y="3562200"/>
            <a:ext cx="287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plic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54480" y="4194000"/>
            <a:ext cx="1003320" cy="3747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03600" y="4194000"/>
            <a:ext cx="1003320" cy="374760"/>
          </a:xfrm>
          <a:prstGeom prst="rect">
            <a:avLst/>
          </a:prstGeom>
          <a:solidFill>
            <a:srgbClr val="5664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656320" y="4194000"/>
            <a:ext cx="1003320" cy="374760"/>
          </a:xfrm>
          <a:prstGeom prst="rect">
            <a:avLst/>
          </a:prstGeom>
          <a:solidFill>
            <a:srgbClr val="5664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07240" y="4194000"/>
            <a:ext cx="1001520" cy="374760"/>
          </a:xfrm>
          <a:prstGeom prst="rect">
            <a:avLst/>
          </a:prstGeom>
          <a:solidFill>
            <a:srgbClr val="5664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58160" y="4194000"/>
            <a:ext cx="1003320" cy="3747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29160" y="3544920"/>
            <a:ext cx="453960" cy="374760"/>
          </a:xfrm>
          <a:prstGeom prst="rect">
            <a:avLst/>
          </a:prstGeom>
          <a:solidFill>
            <a:srgbClr val="5664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78280" y="3544920"/>
            <a:ext cx="453960" cy="3747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31000" y="3544920"/>
            <a:ext cx="453960" cy="374760"/>
          </a:xfrm>
          <a:prstGeom prst="rect">
            <a:avLst/>
          </a:prstGeom>
          <a:solidFill>
            <a:srgbClr val="5664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80120" y="3544920"/>
            <a:ext cx="454320" cy="3747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232840" y="3544920"/>
            <a:ext cx="453960" cy="374760"/>
          </a:xfrm>
          <a:prstGeom prst="rect">
            <a:avLst/>
          </a:prstGeom>
          <a:solidFill>
            <a:srgbClr val="5664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00600" y="5407200"/>
            <a:ext cx="279360" cy="253800"/>
          </a:xfrm>
          <a:prstGeom prst="can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05840" y="5106960"/>
            <a:ext cx="279360" cy="254160"/>
          </a:xfrm>
          <a:prstGeom prst="can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34440" y="5286240"/>
            <a:ext cx="279360" cy="254160"/>
          </a:xfrm>
          <a:prstGeom prst="can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50000" y="5041800"/>
            <a:ext cx="279360" cy="254160"/>
          </a:xfrm>
          <a:prstGeom prst="can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56320" y="2558880"/>
            <a:ext cx="1003320" cy="73980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11680" y="276228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30760" y="356544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356544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2360" y="4226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88080" y="4226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093160" y="4226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83080" y="356544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8160" y="356544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02600" y="356544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29240" y="4226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35760" y="4226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31800" y="2446200"/>
            <a:ext cx="8605800" cy="3214800"/>
            <a:chOff x="631800" y="2446200"/>
            <a:chExt cx="8605800" cy="3214800"/>
          </a:xfrm>
        </p:grpSpPr>
        <p:sp>
          <p:nvSpPr>
            <p:cNvPr id="523" name=""/>
            <p:cNvSpPr/>
            <p:nvPr/>
          </p:nvSpPr>
          <p:spPr>
            <a:xfrm>
              <a:off x="631800" y="2446200"/>
              <a:ext cx="8605800" cy="954000"/>
            </a:xfrm>
            <a:prstGeom prst="rect">
              <a:avLst/>
            </a:prstGeom>
            <a:solidFill>
              <a:srgbClr val="8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5880" y="2612880"/>
              <a:ext cx="31114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renciamento de Servi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3354480" y="2558880"/>
              <a:ext cx="5607000" cy="3102120"/>
              <a:chOff x="3354480" y="2558880"/>
              <a:chExt cx="5607000" cy="310212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3354480" y="2558880"/>
                <a:ext cx="5607000" cy="3102120"/>
                <a:chOff x="3354480" y="2558880"/>
                <a:chExt cx="5607000" cy="3102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354480" y="4194000"/>
                  <a:ext cx="1003320" cy="374760"/>
                </a:xfrm>
                <a:prstGeom prst="rect">
                  <a:avLst/>
                </a:prstGeom>
                <a:solidFill>
                  <a:srgbClr val="8e001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656320" y="4194000"/>
                  <a:ext cx="1003320" cy="374760"/>
                </a:xfrm>
                <a:prstGeom prst="rect">
                  <a:avLst/>
                </a:prstGeom>
                <a:solidFill>
                  <a:srgbClr val="2f65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958160" y="4194000"/>
                  <a:ext cx="1003320" cy="374760"/>
                </a:xfrm>
                <a:prstGeom prst="rect">
                  <a:avLst/>
                </a:prstGeom>
                <a:solidFill>
                  <a:srgbClr val="2f65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778280" y="3544920"/>
                  <a:ext cx="453960" cy="374400"/>
                </a:xfrm>
                <a:prstGeom prst="rect">
                  <a:avLst/>
                </a:prstGeom>
                <a:solidFill>
                  <a:srgbClr val="8e001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080120" y="3544920"/>
                  <a:ext cx="454320" cy="374400"/>
                </a:xfrm>
                <a:prstGeom prst="rect">
                  <a:avLst/>
                </a:prstGeom>
                <a:solidFill>
                  <a:srgbClr val="2f65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656320" y="2558880"/>
                  <a:ext cx="1003320" cy="739800"/>
                </a:xfrm>
                <a:prstGeom prst="rect">
                  <a:avLst/>
                </a:prstGeom>
                <a:solidFill>
                  <a:srgbClr val="8e001d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492360" y="4225680"/>
                  <a:ext cx="72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o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788080" y="4225680"/>
                  <a:ext cx="72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o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093160" y="4225680"/>
                  <a:ext cx="72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o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611680" y="2762280"/>
                  <a:ext cx="108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ervice 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5003640" y="3300120"/>
                  <a:ext cx="1046160" cy="244800"/>
                </a:xfrm>
                <a:custGeom>
                  <a:avLst/>
                  <a:gdLst/>
                  <a:ahLst/>
                  <a:rect l="l" t="t" r="r" b="b"/>
                  <a:pathLst>
                    <a:path w="659" h="173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659" y="96"/>
                      </a:lnTo>
                      <a:lnTo>
                        <a:pt x="659" y="17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flipV="1">
                  <a:off x="6264360" y="3300120"/>
                  <a:ext cx="1046160" cy="244800"/>
                </a:xfrm>
                <a:custGeom>
                  <a:avLst/>
                  <a:gdLst/>
                  <a:ahLst/>
                  <a:rect l="l" t="t" r="r" b="b"/>
                  <a:pathLst>
                    <a:path w="659" h="173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659" y="96"/>
                      </a:lnTo>
                      <a:lnTo>
                        <a:pt x="659" y="17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>
                  <a:off x="3878280" y="3930480"/>
                  <a:ext cx="1046160" cy="265320"/>
                </a:xfrm>
                <a:custGeom>
                  <a:avLst/>
                  <a:gdLst/>
                  <a:ahLst/>
                  <a:rect l="l" t="t" r="r" b="b"/>
                  <a:pathLst>
                    <a:path w="659" h="173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659" y="96"/>
                      </a:lnTo>
                      <a:lnTo>
                        <a:pt x="659" y="17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76720" y="3930480"/>
                  <a:ext cx="986040" cy="265320"/>
                </a:xfrm>
                <a:custGeom>
                  <a:avLst/>
                  <a:gdLst/>
                  <a:ahLst/>
                  <a:rect l="l" t="t" r="r" b="b"/>
                  <a:pathLst>
                    <a:path w="659" h="173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659" y="96"/>
                      </a:lnTo>
                      <a:lnTo>
                        <a:pt x="659" y="17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6235560" y="3930480"/>
                  <a:ext cx="1005120" cy="265320"/>
                </a:xfrm>
                <a:custGeom>
                  <a:avLst/>
                  <a:gdLst/>
                  <a:ahLst/>
                  <a:rect l="l" t="t" r="r" b="b"/>
                  <a:pathLst>
                    <a:path w="659" h="173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659" y="96"/>
                      </a:lnTo>
                      <a:lnTo>
                        <a:pt x="659" y="17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392960" y="3930480"/>
                  <a:ext cx="1046160" cy="265320"/>
                </a:xfrm>
                <a:custGeom>
                  <a:avLst/>
                  <a:gdLst/>
                  <a:ahLst/>
                  <a:rect l="l" t="t" r="r" b="b"/>
                  <a:pathLst>
                    <a:path w="659" h="173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659" y="96"/>
                      </a:lnTo>
                      <a:lnTo>
                        <a:pt x="659" y="17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035760" y="4559040"/>
                  <a:ext cx="0" cy="54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098960" y="4566960"/>
                  <a:ext cx="1666800" cy="905040"/>
                </a:xfrm>
                <a:custGeom>
                  <a:avLst/>
                  <a:gdLst/>
                  <a:ahLst/>
                  <a:rect l="l" t="t" r="r" b="b"/>
                  <a:pathLst>
                    <a:path w="1050" h="563">
                      <a:moveTo>
                        <a:pt x="1050" y="0"/>
                      </a:moveTo>
                      <a:lnTo>
                        <a:pt x="1050" y="186"/>
                      </a:lnTo>
                      <a:lnTo>
                        <a:pt x="0" y="186"/>
                      </a:lnTo>
                      <a:lnTo>
                        <a:pt x="0" y="56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611520" y="4562280"/>
                  <a:ext cx="385920" cy="874800"/>
                </a:xfrm>
                <a:custGeom>
                  <a:avLst/>
                  <a:gdLst/>
                  <a:ahLst/>
                  <a:rect l="l" t="t" r="r" b="b"/>
                  <a:pathLst>
                    <a:path w="243" h="583">
                      <a:moveTo>
                        <a:pt x="0" y="0"/>
                      </a:moveTo>
                      <a:lnTo>
                        <a:pt x="0" y="205"/>
                      </a:lnTo>
                      <a:lnTo>
                        <a:pt x="243" y="205"/>
                      </a:lnTo>
                      <a:lnTo>
                        <a:pt x="243" y="58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00600" y="5406840"/>
                  <a:ext cx="279360" cy="254160"/>
                </a:xfrm>
                <a:prstGeom prst="can">
                  <a:avLst>
                    <a:gd name="adj" fmla="val 50000"/>
                  </a:avLst>
                </a:prstGeom>
                <a:solidFill>
                  <a:srgbClr val="2f65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232680" y="4559040"/>
                  <a:ext cx="1209600" cy="619200"/>
                </a:xfrm>
                <a:custGeom>
                  <a:avLst/>
                  <a:gdLst/>
                  <a:ahLst/>
                  <a:rect l="l" t="t" r="r" b="b"/>
                  <a:pathLst>
                    <a:path w="762" h="390">
                      <a:moveTo>
                        <a:pt x="0" y="0"/>
                      </a:moveTo>
                      <a:lnTo>
                        <a:pt x="0" y="192"/>
                      </a:lnTo>
                      <a:lnTo>
                        <a:pt x="762" y="192"/>
                      </a:lnTo>
                      <a:lnTo>
                        <a:pt x="762" y="39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35720" y="4568760"/>
                  <a:ext cx="2144880" cy="782640"/>
                </a:xfrm>
                <a:custGeom>
                  <a:avLst/>
                  <a:gdLst/>
                  <a:ahLst/>
                  <a:rect l="l" t="t" r="r" b="b"/>
                  <a:pathLst>
                    <a:path w="1351" h="49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1351" y="103"/>
                      </a:lnTo>
                      <a:lnTo>
                        <a:pt x="1351" y="49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305840" y="5106960"/>
                  <a:ext cx="279360" cy="253800"/>
                </a:xfrm>
                <a:prstGeom prst="can">
                  <a:avLst>
                    <a:gd name="adj" fmla="val 50000"/>
                  </a:avLst>
                </a:prstGeom>
                <a:solidFill>
                  <a:srgbClr val="2f65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434440" y="5286240"/>
                  <a:ext cx="279360" cy="254160"/>
                </a:xfrm>
                <a:prstGeom prst="can">
                  <a:avLst>
                    <a:gd name="adj" fmla="val 50000"/>
                  </a:avLst>
                </a:prstGeom>
                <a:solidFill>
                  <a:srgbClr val="2f65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814920" y="4568760"/>
                  <a:ext cx="2124000" cy="519120"/>
                </a:xfrm>
                <a:custGeom>
                  <a:avLst/>
                  <a:gdLst/>
                  <a:ahLst/>
                  <a:rect l="l" t="t" r="r" b="b"/>
                  <a:pathLst>
                    <a:path w="1280" h="327">
                      <a:moveTo>
                        <a:pt x="0" y="0"/>
                      </a:moveTo>
                      <a:lnTo>
                        <a:pt x="0" y="109"/>
                      </a:lnTo>
                      <a:lnTo>
                        <a:pt x="1280" y="109"/>
                      </a:lnTo>
                      <a:lnTo>
                        <a:pt x="1280" y="327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850000" y="5041800"/>
                  <a:ext cx="279360" cy="253800"/>
                </a:xfrm>
                <a:prstGeom prst="can">
                  <a:avLst>
                    <a:gd name="adj" fmla="val 50000"/>
                  </a:avLst>
                </a:prstGeom>
                <a:solidFill>
                  <a:srgbClr val="8e00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>
                <a:off x="7045200" y="3565440"/>
                <a:ext cx="54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730760" y="3565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5" name=""/>
          <p:cNvSpPr/>
          <p:nvPr/>
        </p:nvSpPr>
        <p:spPr>
          <a:xfrm>
            <a:off x="4503600" y="2558880"/>
            <a:ext cx="1003320" cy="739800"/>
          </a:xfrm>
          <a:prstGeom prst="rect">
            <a:avLst/>
          </a:prstGeom>
          <a:solidFill>
            <a:srgbClr val="56646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07240" y="2558880"/>
            <a:ext cx="1001520" cy="739800"/>
          </a:xfrm>
          <a:prstGeom prst="rect">
            <a:avLst/>
          </a:prstGeom>
          <a:solidFill>
            <a:srgbClr val="56646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64000" y="276228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70520" y="2762280"/>
            <a:ext cx="10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1800" y="1746360"/>
            <a:ext cx="8605800" cy="684000"/>
          </a:xfrm>
          <a:prstGeom prst="rect">
            <a:avLst/>
          </a:prstGeom>
          <a:solidFill>
            <a:srgbClr val="8d9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85880" y="1755720"/>
            <a:ext cx="31114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u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4629240" y="1847880"/>
            <a:ext cx="676080" cy="5158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5791320" y="1847880"/>
            <a:ext cx="676080" cy="51588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6967440" y="1847880"/>
            <a:ext cx="67644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2"/>
          <a:srcRect l="33655" t="24192" r="22180" b="16597"/>
          <a:stretch/>
        </p:blipFill>
        <p:spPr>
          <a:xfrm>
            <a:off x="1857240" y="1352520"/>
            <a:ext cx="5970600" cy="48355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943520" y="1851120"/>
            <a:ext cx="403200" cy="2714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rcRect l="33500" t="17191" r="22435" b="19278"/>
          <a:stretch/>
        </p:blipFill>
        <p:spPr>
          <a:xfrm>
            <a:off x="1886040" y="1341360"/>
            <a:ext cx="5906880" cy="52005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r exemplo, GC para Inf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luindo, o objetivo da GC é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abelecer e manter a integridade dos produtos de trabalho (artefato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icar e documentar as características funcionais e físicas dos I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ar a alteração destas característic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578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599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604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tivação para a GMu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Sistema funcionava ontem ! O que aconteceu”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zemos mudanças no sistema, sem ter a visibilidade dos riscos e impacto que isto poderia causar. Por conta disso, os 200 operadores do call center estão parados, sem sistema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ova versão do sistema está lenta, porque o DBA não participou das alterações no modelo de dados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rência de Mudanç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range a infraestrutura organizacional necessária para avaliar o custo e programar o impacto de uma mudança solicitada sobre o produto exist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Gerenciamento de Solicitações de Mudança envolve o trabalho da Equipe de Revisão de Mudança ou do Comitê de Controle de Mudanç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tivação para a G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Se você não sabe para onde vai,  qualquer caminho serve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ada a definição da Gerência de Mudancas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al a relação entre a Gerência de Mudanças e Gerência de Configuração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rência de Mudanç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olicitação de Mudança (RfC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Artefato formalmente submetido, usado para rastrear todas as solicitações dos envolvidos (novas características, solicitações de melhoria, conserto de defeitos, mudança de requisitos), juntamente com as informações de status durante o ciclo de vida do projeto. O histórico das mudanças é mantido com a Rf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omitê de Controle de Mudança (CCB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Comitê que supervisiona o processo de mudanças. Composto por todos os stakeholders. Em projetos pequenos, um único membro da equipe, como o gerente de projeto ou o arquiteto de software, pode desempenhar esse pape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629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650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655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luxo Típico de um Processo de GMu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2"/>
          <a:srcRect l="0" t="0" r="0" b="5075"/>
          <a:stretch/>
        </p:blipFill>
        <p:spPr>
          <a:xfrm>
            <a:off x="868320" y="984240"/>
            <a:ext cx="83329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luxo Típico de um Processo de GMu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384200" y="981000"/>
            <a:ext cx="635652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151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172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177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nto fundamental da G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O que é Rastreabilidade ?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astreabilida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31800" y="907920"/>
            <a:ext cx="8626680" cy="57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ício da rastreabilida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20880" y="790560"/>
            <a:ext cx="800892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tinuação da cadeia de rastreabilida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2440" y="958680"/>
            <a:ext cx="3186360" cy="5697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185640" y="857160"/>
            <a:ext cx="6753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enciamento de Implementaçõ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e de Dependência entre implementaçõ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riz de Rastreabilidade (Traceability Matrix) para os artefatos contempla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Requisitos - Casos de Us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Casos de Uso - Implement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Casos de Uso - Casos de Tes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Casos de Teste - Er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Liberações - Casos de 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Liberações - Casos de Tes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Erros - Liber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3:41:29Z</dcterms:created>
  <dc:creator>WROMERO</dc:creator>
  <dc:description/>
  <dc:language>en-US</dc:language>
  <cp:lastModifiedBy>romarciu</cp:lastModifiedBy>
  <cp:lastPrinted>2003-01-12T23:02:13Z</cp:lastPrinted>
  <dcterms:modified xsi:type="dcterms:W3CDTF">2007-09-22T02:58:51Z</dcterms:modified>
  <cp:revision>523</cp:revision>
  <dc:subject/>
  <dc:title>Slide sem título </dc:title>
</cp:coreProperties>
</file>