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15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9AE0-5A57-4C44-9346-97875C5B408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struir sistemas é entender os proble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Uma evolução progressiva do entend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istem semelhanças e diferenças entre o Teste de Software e Garantia da Qualidade de Softwa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artindo do pressuposto q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s objetivos são os mesmos: eliminar erros de um programa de computar e com isso aumentar a sua qualidade Os meios são diferentes porque o teste visa retirar er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320" y="3843720"/>
            <a:ext cx="899136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0" y="112536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320" y="384372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3600" y="384372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2895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6520" y="1125360"/>
            <a:ext cx="2895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56720" y="1125360"/>
            <a:ext cx="2895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320" y="3843720"/>
            <a:ext cx="2895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6520" y="3843720"/>
            <a:ext cx="2895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56720" y="3843720"/>
            <a:ext cx="2895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438768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3600" y="1125360"/>
            <a:ext cx="438768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3600" y="1125360"/>
            <a:ext cx="438768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320" y="384372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438768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3600" y="112536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0" y="384372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0" y="112536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320" y="3843720"/>
            <a:ext cx="899136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320" y="3843720"/>
            <a:ext cx="899136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3600" y="112536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320" y="384372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3600" y="384372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2895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16520" y="1125360"/>
            <a:ext cx="2895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6720" y="1125360"/>
            <a:ext cx="2895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320" y="3843720"/>
            <a:ext cx="2895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16520" y="3843720"/>
            <a:ext cx="2895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6720" y="3843720"/>
            <a:ext cx="2895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438768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3600" y="1125360"/>
            <a:ext cx="438768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600" y="1125360"/>
            <a:ext cx="438768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320" y="384372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438768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600" y="112536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0" y="384372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0" y="112536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320" y="3843720"/>
            <a:ext cx="899136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"/>
          <p:cNvSpPr/>
          <p:nvPr/>
        </p:nvSpPr>
        <p:spPr>
          <a:xfrm>
            <a:off x="0" y="6607080"/>
            <a:ext cx="9144000" cy="254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11160" y="530280"/>
            <a:ext cx="915516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11160" y="711360"/>
            <a:ext cx="701856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6973920" y="622440"/>
            <a:ext cx="109440" cy="252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597720"/>
            <a:ext cx="1332000" cy="2696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00040" y="1988640"/>
            <a:ext cx="5445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66688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i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4716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94788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173400" y="2349360"/>
            <a:ext cx="5463720" cy="722160"/>
            <a:chOff x="3173400" y="2349360"/>
            <a:chExt cx="5463720" cy="72216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3173400" y="2355840"/>
              <a:ext cx="857160" cy="65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255840" y="3071520"/>
              <a:ext cx="533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31960" y="2349360"/>
              <a:ext cx="510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600" spc="-1" strike="noStrike">
                  <a:solidFill>
                    <a:srgbClr val="000000"/>
                  </a:solidFill>
                  <a:latin typeface="Verdana"/>
                </a:rPr>
                <a:t>Testes de Softwar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6318720" y="6129360"/>
            <a:ext cx="24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cius Rodrig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stes de Software: Termos e Definiçõ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3760920" y="2779560"/>
            <a:ext cx="1592280" cy="120672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e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14520" y="2963880"/>
            <a:ext cx="2057400" cy="838080"/>
          </a:xfrm>
          <a:prstGeom prst="rightArrow">
            <a:avLst>
              <a:gd name="adj1" fmla="val 50000"/>
              <a:gd name="adj2" fmla="val 61372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38960" y="2963880"/>
            <a:ext cx="2057400" cy="838080"/>
          </a:xfrm>
          <a:prstGeom prst="rightArrow">
            <a:avLst>
              <a:gd name="adj1" fmla="val 50000"/>
              <a:gd name="adj2" fmla="val 61372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l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4343400" y="894960"/>
            <a:ext cx="432000" cy="6794640"/>
          </a:xfrm>
          <a:custGeom>
            <a:avLst/>
            <a:gdLst>
              <a:gd name="textAreaLeft" fmla="*/ 0 w 432000"/>
              <a:gd name="textAreaRight" fmla="*/ 155880 w 432000"/>
              <a:gd name="textAreaTop" fmla="*/ 177120 h 6794640"/>
              <a:gd name="textAreaBottom" fmla="*/ 6617520 h 679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60600" y="1916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04800" y="462744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85920" y="19162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ód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38960" y="191448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o / Ope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stes de Software: Termos e Definiçõ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Especificação do Produto (Requisitos Funcionais ou Não Funcionais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Documento pelo qual estabelece-se o que um software deve fazer. Este documento deve ser elaborado com base nos requisitos do client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É parte do software e também deve ser testado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Pode ser mais ou menos formal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Por definição: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Um software possui qualidade enquanto atender às especificaçõe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 que é um Bug ?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Quando o software </a:t>
            </a: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não faz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 algo que </a:t>
            </a: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foi especificado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Quando o software </a:t>
            </a: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faz 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algo que a </a:t>
            </a: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especificação diz que não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 faz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Bug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Bug do Ponto Flutuante do Pentium, 1994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(4195835 / 3145727) * 3145727 – 4195835 = 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A INTEL detectou o problema e não o considerou crítico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Custo da reposição dos processadores foi de </a:t>
            </a: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US$400 milhões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Bug do Ano 200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Decorrente do uso de 87, 56 para representar 1987 ou 1956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Estima-se que mais </a:t>
            </a: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de US$ 1 bilhão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 foi gasto na correçã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Qual a origem dos Bugs ?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Especificação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Projeto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Código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Outros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5%   Ref. Patton, 200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Os erros do código são eliminados, em geral, na compilação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Um projeto ruim pode induzir a erros, mas é a falta de entendimento do problema (necessidade do cliente, ou requisitos) a grande causa de erro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stes de Software: Termos e Definições para CQ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Precisão [precision]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Fornecimento de resultados com muitas casas decimais, com grandeza de detalh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Acuracidade [accuracy]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Fornecimento de resultados certos. Com os detalhes correto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Verificação [verification]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Relacionada com a confirmação de algo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Garante que estamos desenvolvendo o sistema corretamente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Validação [validation]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Relacionada com a validação de algo, para confirmar que algo está de acordo com o esperad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Garante que estamos desenvolvendo o sistema corret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Revisão [revision]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É uma verificação, implica que foi visto uma vez e será re-vist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Inspeção [inspection]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É uma verificação/revisão mais detalhada, feita com autoridade (inspetor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stes de Software: Termos e Definições para CQ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Garantia da Qualidade [Quality Assurance]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Garantia da qualidade do processo, normalmente tomando providências anteriores ao processo acontecer. Capacitação, seleção de métodos e procedimento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Controle de Qualidade [Quality Control]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Controla (mede) a qualidade de um produto. Necessário que o produto esteja pront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ode adotar duas abordagens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ode limitar-se a aferir o nível de qualidade, dentro de uma escala definida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ode ser dicotômico: passa / não passa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Não muda, necessariamente, a qualidade. Apenas a mede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Teste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teste é uma ferramenta para a Garantia da Qualidade, através do Controle de Qualidade realizado antes, durante e após o desenvolviment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Qualidad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que o cliente espera, com base nos requisitos formalizados durante a fase de Análise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stes de Software: Medição do Nível de Qualidad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Eficiência [efficiency]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Relacionada com o desempenho de alg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m engenharia, é realizar uma tarefa com uso otimizado de recursos. Um motor é mais eficiente que outro se consumir menos combustível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Eficácia [efficacy]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Relizar algo com sucesso. A solução é eficaz se realmente consegue resolver o problema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Não está ligada à eficiência da solução.</a:t>
            </a:r>
            <a:br>
              <a:rPr sz="1600"/>
            </a:b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Qualidade [quality]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Concordância com a expectativa do cliente / usuári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Confiabilidade [reliability]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ropriedade de quem se pode confiar. Que dá resultados estáveis, que se pode depender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Não está ligada à qualidade da soluçã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stes de Software: Medição do Nível de Qualidad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Desempenho [performance]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ropriedade ligada ao tempo para se obter um resultado. Quanto maior o desempenho, mais rápido se obtem o resultad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Usabilidade [usability]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ropriedade de algo que pode ser usado com facilidade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Portabilidade [portability]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Que pode ser transportado para outro lugar. Um software que pode ser executado em outras máquinas. Que pode se portado para outras máquina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Completitude [completeness]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ropriedade de quem está completo. Atributo de quem não necessita de alteraçõe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Corretitude [correctness]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ropriedade de quem está certo. Que oferece resultados esperado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Escalabilidade [scalability]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ropriedade do sistema em crescer a escala de consumo, levando-se em conta o nível de desempenho e confiabilidade necessári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stes de Software: Medição do Nível de Qualidad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Ambiquidade [ambiquity]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contrário da clareza. Pode criar confusãon interpretaçã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Clareza [clarity]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que está claro e não cria confusão na sua interpretaçã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Consistência [consistency]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Que oferece resultados coerentes com os dados fornecido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Manutenabilidade, Manutenência [maintenance]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ropriedade de quem pode ser mantido, que recebe manutenção com facilidade.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Um aspecto de qualidade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Testabilidade [testability]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ropriedade de quem é testável. Propriedade de quem pode ser testad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orque estudarmos Testes de Software ?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mo assegurar que um sistema desenvolvido realmente atende aos Requisitos 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 que envolve a disciplina de Testes de Software ? Quais conceitos, técnicas e tecnologias podem ser adotadas para que se estabeleça um processo de testes profissional 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tendendo o que o existe no mercado sobre a disciplina de Testes, o que posso utilizar no meu ambiente de trabalho 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mo elevar minha maturidade profissional sobre Qualidade de Software, no que diz respeito ao Controle de Qualidade – traduzindo, Teste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spectos dos Testes de Softwa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Ferramenta (meio) para garantia da funcionalidade do software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Deve fazer parte do processo de desenvolvimento de forma peren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Garante a qualidade do produto entregue (CQ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Não proporciona qualidad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Não interfere em todos os aspectos da qualidad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Cust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Consome recursos (aumenta o custo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Praz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Interfere 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SIM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no prazo do desenvolvimento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prazo é estendido por conta do retrabalho de codificação, durante o Desenvolviment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as o esforço na fase de Operação é reduzido, devido à estabilidade do sistem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xiomas(*) de Teste de Softwa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rebuchet MS"/>
              </a:rPr>
              <a:t>Axiomas de Testes de Software são afirmações sobre testes, que vamos admitir como válida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rebuchet MS"/>
              </a:rPr>
              <a:t>Obs.: Academicamente, estes axiomas não são aceitos como tal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rebuchet MS"/>
              </a:rPr>
              <a:t>(*) 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axioma 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(cs ou ss) [Do gr. axioma, pelo lat. axioma.]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S. m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1. Filos. Premissa imediatamente evidente que se admite como universalmente verdadeira sem exigência de demonstraçã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3. Lóg. Proposição que se admite como verdadeira porque dela se podem deduzir as proposições de uma teoria ou de um sistema lógico ou matemátic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rebuchet MS"/>
              </a:rPr>
              <a:t>Ref. Aurélio, Dicionário Eletrônico, 1994</a:t>
            </a:r>
            <a:r>
              <a:rPr b="0" i="1" lang="pt-BR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xiomas de Teste de Softwa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número de entradas possíveis é muito grand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número de saídas possíveis é muito grand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número de caminhos (internos) é muito grand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 especificação do software é usualmente subjetiva, dúbia ou incomplet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 avaliação de alguns aspectos do software é subjetiv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s critérios de avaliação podem mudar com o temp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x.: Um simples entrada de um número inteiro pode receber um grande número de possibilidades: número inteiros, números reais, caracteres, símbolos como “.” “,” “backspace”... (ver o exemplo do Pentium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"/>
          <p:cNvSpPr/>
          <p:nvPr/>
        </p:nvSpPr>
        <p:spPr>
          <a:xfrm>
            <a:off x="1301400" y="1395360"/>
            <a:ext cx="6518880" cy="441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É impossível testar um programa complet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xiomas de Teste de Softwa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rebuchet MS"/>
              </a:rPr>
              <a:t>Se uma funcionalidade não é testada, ela pode conter um bug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rebuchet MS"/>
              </a:rPr>
              <a:t>Não é viável se testar todas as funcionalidad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rebuchet MS"/>
              </a:rPr>
              <a:t>Assim, deve-se decidir </a:t>
            </a:r>
            <a:r>
              <a:rPr b="1" i="1" lang="pt-BR" sz="1600" spc="-1" strike="noStrike">
                <a:solidFill>
                  <a:srgbClr val="000000"/>
                </a:solidFill>
                <a:latin typeface="Trebuchet MS"/>
              </a:rPr>
              <a:t>o que</a:t>
            </a:r>
            <a:r>
              <a:rPr b="0" i="1" lang="pt-BR" sz="1600" spc="-1" strike="noStrike">
                <a:solidFill>
                  <a:srgbClr val="000000"/>
                </a:solidFill>
                <a:latin typeface="Trebuchet MS"/>
              </a:rPr>
              <a:t> e </a:t>
            </a:r>
            <a:r>
              <a:rPr b="1" i="1" lang="pt-BR" sz="1600" spc="-1" strike="noStrike">
                <a:solidFill>
                  <a:srgbClr val="000000"/>
                </a:solidFill>
                <a:latin typeface="Trebuchet MS"/>
              </a:rPr>
              <a:t>quanto</a:t>
            </a:r>
            <a:r>
              <a:rPr b="0" i="1" lang="pt-BR" sz="1600" spc="-1" strike="noStrike">
                <a:solidFill>
                  <a:srgbClr val="000000"/>
                </a:solidFill>
                <a:latin typeface="Trebuchet MS"/>
              </a:rPr>
              <a:t> testar, e </a:t>
            </a:r>
            <a:r>
              <a:rPr b="1" i="1" lang="pt-BR" sz="1600" spc="-1" strike="noStrike">
                <a:solidFill>
                  <a:srgbClr val="000000"/>
                </a:solidFill>
                <a:latin typeface="Trebuchet MS"/>
              </a:rPr>
              <a:t>o que não testa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835280" y="3212640"/>
            <a:ext cx="0" cy="3124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6180120"/>
            <a:ext cx="5348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0520" y="327168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Númer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de bu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57360" y="618660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Qtd de Tes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46240" y="3360600"/>
            <a:ext cx="4216320" cy="2590920"/>
          </a:xfrm>
          <a:custGeom>
            <a:avLst/>
            <a:gdLst/>
            <a:ahLst/>
            <a:rect l="l" t="t" r="r" b="b"/>
            <a:pathLst>
              <a:path w="2656" h="1632">
                <a:moveTo>
                  <a:pt x="0" y="1632"/>
                </a:moveTo>
                <a:cubicBezTo>
                  <a:pt x="332" y="1632"/>
                  <a:pt x="664" y="1632"/>
                  <a:pt x="1008" y="1488"/>
                </a:cubicBezTo>
                <a:cubicBezTo>
                  <a:pt x="1352" y="1344"/>
                  <a:pt x="1792" y="1016"/>
                  <a:pt x="2064" y="768"/>
                </a:cubicBezTo>
                <a:cubicBezTo>
                  <a:pt x="2336" y="520"/>
                  <a:pt x="2656" y="80"/>
                  <a:pt x="264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69920" y="3703680"/>
            <a:ext cx="4724640" cy="2146320"/>
          </a:xfrm>
          <a:custGeom>
            <a:avLst/>
            <a:gdLst/>
            <a:ahLst/>
            <a:rect l="l" t="t" r="r" b="b"/>
            <a:pathLst>
              <a:path w="2976" h="1352">
                <a:moveTo>
                  <a:pt x="0" y="24"/>
                </a:moveTo>
                <a:cubicBezTo>
                  <a:pt x="80" y="12"/>
                  <a:pt x="160" y="0"/>
                  <a:pt x="240" y="24"/>
                </a:cubicBezTo>
                <a:cubicBezTo>
                  <a:pt x="320" y="48"/>
                  <a:pt x="344" y="80"/>
                  <a:pt x="480" y="168"/>
                </a:cubicBezTo>
                <a:cubicBezTo>
                  <a:pt x="616" y="256"/>
                  <a:pt x="848" y="424"/>
                  <a:pt x="1056" y="552"/>
                </a:cubicBezTo>
                <a:cubicBezTo>
                  <a:pt x="1264" y="680"/>
                  <a:pt x="1504" y="816"/>
                  <a:pt x="1728" y="936"/>
                </a:cubicBezTo>
                <a:cubicBezTo>
                  <a:pt x="1952" y="1056"/>
                  <a:pt x="2192" y="1208"/>
                  <a:pt x="2400" y="1272"/>
                </a:cubicBezTo>
                <a:cubicBezTo>
                  <a:pt x="2608" y="1336"/>
                  <a:pt x="2800" y="1352"/>
                  <a:pt x="2976" y="132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07560" y="331164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Custo dos Tes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54920" y="5140440"/>
            <a:ext cx="180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(número) Custo d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bugs existent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29720" y="3476520"/>
            <a:ext cx="142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Ponto de Ót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de tes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55880" y="3997440"/>
            <a:ext cx="843120" cy="108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92360" y="5113440"/>
            <a:ext cx="3249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37160" y="4884840"/>
            <a:ext cx="0" cy="1447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143000"/>
            <a:ext cx="5486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45440" y="1393920"/>
            <a:ext cx="7038360" cy="441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O Teste de Software é uma relação de custo/benefí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xiomas de Teste de Softwa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Um médico não pode afirmar com exatidão que uma pessoa não tem nenhuma doenç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Um analista de teste de software pode, no máximo, afirmar que não existem indícios de bugs no software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Se continuar a testar, ou aumentar o critério de procura, pode encontrar outros bug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1115640" y="1395360"/>
            <a:ext cx="6893640" cy="441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Os Testes não podem garantir que bugs não exi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xiomas de Teste de Softwa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s bugs tem origem em um entendimento equivocado do problem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ste entendimento gera uma “família” de erro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Um erro acaba justificando outr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ssim como com insetos, se voce vê uma barata na cozinha, com certeza existem outras (muitas outras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Paradoxo do Pesticida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s mesmos testes aplicados repetidas vezes podem não detectar falhas que ainda permanecem no programa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"/>
          <p:cNvSpPr/>
          <p:nvPr/>
        </p:nvSpPr>
        <p:spPr>
          <a:xfrm>
            <a:off x="1353960" y="1395360"/>
            <a:ext cx="6416640" cy="441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Quanto mais bugs você acha, mais erros exi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56520" y="4808520"/>
            <a:ext cx="5418360" cy="441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Os bugs se tornam resistentes aos tes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xiomas de Teste de Softwa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Diversas razões para não se corrigir os bug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Falta de tempo ou de recurso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ouca importância do bug, existem soluções alternativas (reset no computador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 correção é muito arriscada. Melhor evitar que as condições de erro aconteçam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Simplesmente não vale a pena ou não é um bug de verdade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"/>
          <p:cNvSpPr/>
          <p:nvPr/>
        </p:nvSpPr>
        <p:spPr>
          <a:xfrm>
            <a:off x="1292040" y="1395360"/>
            <a:ext cx="6537240" cy="441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Não é possível corrigir todos os bugs encont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xiomas de Teste de Softwa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 Especificação pode estar errada mesm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sistema deve ser comportar assim mesm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 percepção do analista de teste está errada, O sistema é dificil de entender e pode estar cert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x. Erros de tradução/ interpretaçã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m um relatório os dados apareciam incorretos, e se relatou a falha como um defeito no software. Uma investigação mais aprofundada mostrou que estava-se interpretando os campos de forma errada e o software estava correto. O erro estava no relatório e no seu us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Last update user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:  último usuário que atualizou o document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Last user update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:  última data de atualização do documento pelo usuári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Last user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:  data do último uso do document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Last username  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:  nome do último usuário do document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Last update       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:  data da última atualização do document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1729800" y="1395360"/>
            <a:ext cx="5670000" cy="441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É difícil dizer que um bug é um bug me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xiomas de Teste de Softwa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Deve-se assumir que as especificações vão muda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ambiente é alterado enquanto o software evolui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"/>
          <p:cNvSpPr/>
          <p:nvPr/>
        </p:nvSpPr>
        <p:spPr>
          <a:xfrm>
            <a:off x="1324800" y="1395360"/>
            <a:ext cx="6464160" cy="441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 especificação do software nunca está comp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xiomas de Teste de Softwa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Ninguem gosta de ser o portador de más notícia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analista deve contribuir para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Um relato imparcial e profissional do bug é a melhor polític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Um relato positivo é sempre bem vindo, comemore um baixo número de bug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x.1 O programa está muito ruim. Não executa nada do que foi especificado. Já no início do uso do sistema , teclando Arquivo&gt; Abrir... o programa apresenta uma mensagem de erro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x.2. Bug encontrado na operação Arquivo&gt;Abrir...O programa exibe a mensagem: Nenhum arquivo foi localizada. O programa deveria exibir uma janela de diálogo para seleção de um arquiv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"/>
          <p:cNvSpPr/>
          <p:nvPr/>
        </p:nvSpPr>
        <p:spPr>
          <a:xfrm>
            <a:off x="1524600" y="1395360"/>
            <a:ext cx="6069240" cy="441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Os analistas de teste não são muito pop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bjetivo e Tópico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presentar conceitos e técnicas sobre TESTES DE SOFTWAR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Tópic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trodução: Princípios, limitações, conceitos básicos e terminologia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este Funciona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este Estrutura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este de Caixa Pret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utomação da Atividades de Test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Ferramentas de Suporte ao teste de software. Exercícios prático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xiomas de Teste de Softwa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 atividade de teste de software é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- uma atividade técnic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- exige bons conhecimentos de programaçã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- Organização é essencia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- facilidade de expressão escrit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- exige diplomacia e profissionalism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- exige experiênci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as também pode ser divertida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"/>
          <p:cNvSpPr/>
          <p:nvPr/>
        </p:nvSpPr>
        <p:spPr>
          <a:xfrm>
            <a:off x="640800" y="1395360"/>
            <a:ext cx="7844760" cy="441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Teste de Software é uma atividade técnica e exige discip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Questões para discussão..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alculadora: 5.000 – 5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É possivel se ter um produto de alta qualidade e baixa confiabilidade ? Se você achar que sim, dê um exemplo. Como testar um problema deste tipo 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or que é impossível se testar um programa completamente 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200400" y="4114800"/>
            <a:ext cx="2971800" cy="25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32000" y="1844280"/>
            <a:ext cx="544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Os Testes no Processo de Desenvolvimento</a:t>
            </a:r>
            <a:endParaRPr b="1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3335400" y="2803320"/>
            <a:ext cx="54864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5f5f5f"/>
                </a:solidFill>
                <a:latin typeface="Trebuchet MS"/>
              </a:rPr>
              <a:t>Como os testes se enquadram nas abordagens de desenvolvimento de software</a:t>
            </a:r>
            <a:endParaRPr b="0" i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2666880"/>
            <a:ext cx="5715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 Processo de Desenvolvimento de Softwa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processo de desenvolvimento de software (independente do modelo)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Documentos de Projet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Requisitos do Client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odelo do sistema, diagramas e fluxos (UML, DFD, MER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specificação das unidades e dos component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Componentes do Códig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Código comentado, e demais component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rquivos de Help, manuai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ensagens de aviso e de erro, aplicativos de distribuição e instalação,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Icones, comandos, outros arquivo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"/>
          <p:cNvSpPr/>
          <p:nvPr/>
        </p:nvSpPr>
        <p:spPr>
          <a:xfrm>
            <a:off x="1713240" y="2178360"/>
            <a:ext cx="1569240" cy="52020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Documento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Proje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40720" y="2178360"/>
            <a:ext cx="1413720" cy="52020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Compo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de Códi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7160" y="1828800"/>
            <a:ext cx="113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nálise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06400" y="1828800"/>
            <a:ext cx="126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str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06800" y="1828800"/>
            <a:ext cx="126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24382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29000" y="2438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91240" y="24382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s Modelos de Desenvolviment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odelos de Desenvolvimento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odelo Caótic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odelo em Cascat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odelo em Espira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Dois modelos de processo são mais utilizados atualmente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- RUP – Rational Unified Process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- XP – Extreme Programming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Como cada um trata a disciplina de Testes 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odelo Caótic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6240" y="112068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sistema é um produto de uma série de tentativas e erro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Funciona somente para pequenos projeto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Teste pode ser introduzido com forma de avaliar erros do produto final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m geral não existem especificações documentada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 analista deve criar os seus próprios critérios e estratégias de teste/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4114800"/>
            <a:ext cx="2895480" cy="2438280"/>
          </a:xfrm>
          <a:prstGeom prst="irregularSeal2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95680" y="4724280"/>
            <a:ext cx="914400" cy="99072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76920" y="5181480"/>
            <a:ext cx="152280" cy="15264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5486400"/>
            <a:ext cx="76320" cy="2286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33920" y="525780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86400" y="525780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72200" y="4724280"/>
            <a:ext cx="1143000" cy="990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57150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666520" y="624852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odelo em Cascata – Tradiciona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4149720"/>
            <a:ext cx="899172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xiste uma grande ênfase na especificação do produt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Não permite a sobreposição de etapas. Uma etapa precisa terminar para começar a outra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Funciona bem para projetos “</a:t>
            </a:r>
            <a:r>
              <a:rPr b="0" i="1" lang="pt-BR" sz="1600" spc="-1" strike="noStrike">
                <a:solidFill>
                  <a:srgbClr val="000000"/>
                </a:solidFill>
                <a:latin typeface="Trebuchet MS"/>
              </a:rPr>
              <a:t>bem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pt-BR" sz="1600" spc="-1" strike="noStrike">
                <a:solidFill>
                  <a:srgbClr val="000000"/>
                </a:solidFill>
                <a:latin typeface="Trebuchet MS"/>
              </a:rPr>
              <a:t>comportados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” onde há um razoável entendimento do problema e estabilidade dos requisito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Teste começa muito no final e pode fazer pouca coisa para prevenir erros </a:t>
            </a:r>
            <a:r>
              <a:rPr b="1" lang="pt-BR" sz="1600" spc="-1" strike="noStrike">
                <a:solidFill>
                  <a:srgbClr val="ff0000"/>
                </a:solidFill>
                <a:latin typeface="Trebuchet MS"/>
              </a:rPr>
              <a:t>(GQ x CQ)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"/>
          <p:cNvSpPr/>
          <p:nvPr/>
        </p:nvSpPr>
        <p:spPr>
          <a:xfrm>
            <a:off x="692280" y="1197000"/>
            <a:ext cx="1066680" cy="53352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8960" y="1806480"/>
            <a:ext cx="1066680" cy="53352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ál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8280" y="2416320"/>
            <a:ext cx="1066680" cy="53316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21280" y="3025800"/>
            <a:ext cx="1447560" cy="53352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gram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45160" y="3711600"/>
            <a:ext cx="1295280" cy="60948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30360" y="1349280"/>
            <a:ext cx="533520" cy="457200"/>
          </a:xfrm>
          <a:custGeom>
            <a:avLst/>
            <a:gdLst>
              <a:gd name="textAreaLeft" fmla="*/ 0 w 533520"/>
              <a:gd name="textAreaRight" fmla="*/ 533880 w 533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916130"/>
                <a:lnTo>
                  <a:pt x="9185" y="121"/>
                </a:lnTo>
                <a:arcTo wR="10800" hR="10800" stAng="-5916130" swAng="591613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97040" y="1959120"/>
            <a:ext cx="533520" cy="457200"/>
          </a:xfrm>
          <a:custGeom>
            <a:avLst/>
            <a:gdLst>
              <a:gd name="textAreaLeft" fmla="*/ 0 w 533520"/>
              <a:gd name="textAreaRight" fmla="*/ 533880 w 533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916130"/>
                <a:lnTo>
                  <a:pt x="9185" y="121"/>
                </a:lnTo>
                <a:arcTo wR="10800" hR="10800" stAng="-5916130" swAng="591613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16360" y="2568600"/>
            <a:ext cx="533520" cy="457200"/>
          </a:xfrm>
          <a:custGeom>
            <a:avLst/>
            <a:gdLst>
              <a:gd name="textAreaLeft" fmla="*/ 0 w 533520"/>
              <a:gd name="textAreaRight" fmla="*/ 533880 w 533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916130"/>
                <a:lnTo>
                  <a:pt x="9185" y="121"/>
                </a:lnTo>
                <a:arcTo wR="10800" hR="10800" stAng="-5916130" swAng="591613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40240" y="3254400"/>
            <a:ext cx="533520" cy="457200"/>
          </a:xfrm>
          <a:custGeom>
            <a:avLst/>
            <a:gdLst>
              <a:gd name="textAreaLeft" fmla="*/ 0 w 533520"/>
              <a:gd name="textAreaRight" fmla="*/ 533880 w 533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916130"/>
                <a:lnTo>
                  <a:pt x="9185" y="121"/>
                </a:lnTo>
                <a:arcTo wR="10800" hR="10800" stAng="-5916130" swAng="591613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73960" y="3559320"/>
            <a:ext cx="914400" cy="99036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54840" y="4016520"/>
            <a:ext cx="152640" cy="15228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31160" y="4321080"/>
            <a:ext cx="76320" cy="2286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odelo em Espira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Realiza ciclos na forma de uma espiral onde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1. São determinados objetivos, alternativas e restriçõ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2. São identificados e mitigados os risco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3. O escopo atual é desenvolvido e testad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4. Com base no resultado, decide-se se deve haver mais uma volta (ciclo / iteração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Cada ciclo é uma cascata, mas os avanços são controlados e repetido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O Teste está incorporado ao desenvolviment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s resultados do teste podem influenciar mais no desenvolviment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RUP e XP baseaiam-se em variações deste model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stes no RUP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906768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76160" indent="-304560">
              <a:spcBef>
                <a:spcPts val="400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RUP – Rational Unified Process incorpora o teste com rigo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76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76160" indent="-304560">
              <a:spcBef>
                <a:spcPts val="400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método é mais formal, rigoroso e apoiado em projeto e modelagem (UML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117440" y="2187720"/>
            <a:ext cx="676764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Relato de Bugs (modelo básico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340000" y="907920"/>
            <a:ext cx="4448160" cy="564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4267080"/>
            <a:ext cx="9144000" cy="21337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ercado de Trabalho na Área de Qualidade e Test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rogramador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nalista de Sistema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Desenvolvedo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ngenheiro de Softwar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Testador 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Test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Analista de Test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Engenheiro de Teste de Softwar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Engenheiro de Software especializado em Teste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148280" y="4506840"/>
            <a:ext cx="928440" cy="1082880"/>
            <a:chOff x="4148280" y="4506840"/>
            <a:chExt cx="928440" cy="108288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4148280" y="4506840"/>
              <a:ext cx="928440" cy="10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 txBox="1"/>
            <p:nvPr/>
          </p:nvSpPr>
          <p:spPr>
            <a:xfrm>
              <a:off x="4148280" y="4506840"/>
              <a:ext cx="928440" cy="108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19280" y="981000"/>
            <a:ext cx="1727280" cy="1511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804000" y="1125360"/>
            <a:ext cx="1824120" cy="1463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867280" y="4834080"/>
            <a:ext cx="1103400" cy="1258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4920" y="2662200"/>
            <a:ext cx="1793880" cy="1558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7315200" y="4581360"/>
            <a:ext cx="1614600" cy="10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ndice de Testes do RUP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990720"/>
            <a:ext cx="7315200" cy="54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1.  Introdu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2. Cenários para T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3. Estratégia de T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3.1 Tipos de T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3.1.1 Teste Fun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3.1.2 Teste do Ciclo de Negó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3.1.3 Teste da Interface do Usuá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3.1.4 Perfil do Desempen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3.1.5 Teste de Car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3.1.6 Teste de St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3.1.7 Teste de Volu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3.1.8 Teste de Segurança e controle de ace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3.1.9 Teste de Falha e Recuper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3.1.10 Teste de Configur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3.1.11 Teste de Instal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3.2 Ferram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4. 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5. Marcos do Proje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6. Produtos do T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6.1 Modelos de T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6.2 Log de T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6.3 Relatório de defei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7 Apêndice: Tarefas de proje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stes no XP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XP é um método mais informal, “leve” e menos rigorosos que o RUP, apoiado em incrementos sucessivos de código, sem excesso de documentação e modelagem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ntre as 12 práticas sugeridas pelo XP, algumas intimamente relacionam-se com Teste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caso extremo do XP em que todo o desenvolvimento é orientado ao teste é o que se chama de </a:t>
            </a: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Test Driven Development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, um método novo e ainda pouco difundid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08000" y="4869000"/>
            <a:ext cx="8928000" cy="1368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ste de Software, utilizado como Especificação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Testes de Sofware garantem a funcionalidade do sistem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Testes de Software podem até definir o que o sistema precisa fazer (especificação do sistema formatada como descrição de um Teste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Uma abordagem incentivada pelas “Metodologias Ágeis”, tal como o XP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rebuchet MS"/>
              </a:rPr>
              <a:t>Test Before Code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usa o Teste como forma de especificação </a:t>
            </a: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(!!!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Um grupo (especificador) diz o que quer, descrevendo como testar a funcionalidade solicitada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rebuchet MS"/>
              </a:rPr>
              <a:t>NESTA ABORDAGEM, É TAMBÉM FUNÇÂO DO CLIENTE DEFINIR COMO O SISTEMA SERÁ TESTAD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rebuchet MS"/>
              </a:rPr>
              <a:t>SE O SISTEMA PASSAR NO TESTE, ESTÁ APROVADO (HOMOLOGADO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DD – Test Driven Design 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 Teste levado ao extrem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Teste como “fundação” da metodologia de desenvolviment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processo de desenvolvimento é invertido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Não se desenvolve o código e depois o teste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rimeiro se desenvolve o teste e só então o códig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or passos evolutivos, acrescentam-se funcionalidad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que são testada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Se o teste falha, a funcionalidade é corrigida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Se o teste passa, acrescenta-se mais funcionalidade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372360" y="907920"/>
            <a:ext cx="25826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1197000"/>
            <a:ext cx="9144000" cy="543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Time Coeso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- O requerente faz parte da equipe de desenvolviment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Jogo do Planejamento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-</a:t>
            </a:r>
            <a:r>
              <a:rPr b="0" lang="pt-BR" sz="1400" spc="-1" strike="noStrike">
                <a:solidFill>
                  <a:srgbClr val="800000"/>
                </a:solidFill>
                <a:latin typeface="Trebuchet MS"/>
              </a:rPr>
              <a:t> C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olocar as funcionalidades de maior valor possível para o client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Versões Pequenas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- O software é entregue em pequenas versões para que o clie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Testes do Cliente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- O cliente define testes automatizados que são os critérios de aceitação do softwar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Desenvolvimento Orientado a Testes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- Antes </a:t>
            </a:r>
            <a:r>
              <a:rPr b="0" lang="pt-BR" sz="1400" spc="-1" strike="noStrike">
                <a:solidFill>
                  <a:srgbClr val="800000"/>
                </a:solidFill>
                <a:latin typeface="Trebuchet MS"/>
              </a:rPr>
              <a:t>da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implementação, é escrito o cenário de test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Integração Contínua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- </a:t>
            </a:r>
            <a:r>
              <a:rPr b="0" lang="pt-BR" sz="1400" spc="-1" strike="noStrike">
                <a:solidFill>
                  <a:srgbClr val="800000"/>
                </a:solidFill>
                <a:latin typeface="Trebuchet MS"/>
              </a:rPr>
              <a:t>O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sistema é compilado diversas vezes por dia e todos os testes unitários são executado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Design Simples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- O código está, a qualquer momento, na forma mais simples que passe todos os testes. </a:t>
            </a:r>
            <a:r>
              <a:rPr b="0" lang="pt-BR" sz="1400" spc="-1" strike="noStrike">
                <a:solidFill>
                  <a:srgbClr val="800000"/>
                </a:solidFill>
                <a:latin typeface="Trebuchet MS"/>
              </a:rPr>
              <a:t>Nada é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adicionado prevendo necessidades futur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Refactoring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- A cada nova funcionalidade a estrutura do código </a:t>
            </a:r>
            <a:r>
              <a:rPr b="0" lang="pt-BR" sz="1400" spc="-1" strike="noStrike">
                <a:solidFill>
                  <a:srgbClr val="800000"/>
                </a:solidFill>
                <a:latin typeface="Trebuchet MS"/>
              </a:rPr>
              <a:t>é trabalhada 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até que ele fique na sua forma mais simpl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Programação em Pares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- Todo código de execução e de testes é escrito por dois desenvolvedores no mesmo computado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Revezamento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- As duplas de programação são revezadas, em média, a cada 2h. O projeto não fica à mercê de uma falha individual de qualquer desenvolvedo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Propriedade Coletiva do Código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- E equipe como um todo é responsável por cada arquivo de código. Não é preciso pedir autorização para o "dono" daquele arquivo para fazer qualquer alteraçã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Padrão de Código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- Todo código é desenvolvido seguindo um padrão definido pela equip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Metáfora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- O time usa uma metáfora para poder comunicar-se sobre o problema desconhecido usando termos familiar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Ritmo Sustentável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- Fazer horas extras por períodos prolongados é contraproducent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s 12 Práticas do XP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6320" y="990720"/>
            <a:ext cx="8762760" cy="47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stes do Client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- O cliente define testes automatizados que são os critérios de aceitação do software. 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A especificação são os próprios testes. No extremo temos o Test Driven Desig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Quem define os testes é o próprio cliente, minimiza erros de especifica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esenvolvimento Orientado a Teste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- Antes 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d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implementação, é 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crito o cenário de test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Os módulos são desenvolvidos sob um ambiente de tes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Os testes devem ser automatiz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tegração Contínu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istema é compilado diversas vezes por dia 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dos os testes unitários são executados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semp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É importante automatizar os testes para poder executá-los continu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ogramação em Pare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- Todo código de execução e de testes é escrito por dois desenvolvedores no mesmo computado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O software está sendo constantemente revisado por alguem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O teste é contínuo com a program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5 Práticas do XP ligadas diretamente ao Teste de Softwa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Integração entre os processos de Desenvolvimento e Testes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Visão Nível 0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3278160" y="2874600"/>
            <a:ext cx="2571840" cy="7117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cess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60880" y="4194000"/>
            <a:ext cx="2630160" cy="92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cess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s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8" idx="1"/>
            <a:endCxn id="257" idx="1"/>
          </p:cNvCxnSpPr>
          <p:nvPr/>
        </p:nvCxnSpPr>
        <p:spPr>
          <a:xfrm flipH="1" rot="10800000">
            <a:off x="3250080" y="3229920"/>
            <a:ext cx="18360" cy="1424520"/>
          </a:xfrm>
          <a:prstGeom prst="bentConnector3">
            <a:avLst>
              <a:gd name="adj1" fmla="val -1254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57" idx="3"/>
            <a:endCxn id="258" idx="3"/>
          </p:cNvCxnSpPr>
          <p:nvPr/>
        </p:nvCxnSpPr>
        <p:spPr>
          <a:xfrm>
            <a:off x="5859000" y="3230280"/>
            <a:ext cx="41760" cy="1424520"/>
          </a:xfrm>
          <a:prstGeom prst="bentConnector3">
            <a:avLst>
              <a:gd name="adj1" fmla="val 63565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" name=""/>
          <p:cNvSpPr/>
          <p:nvPr/>
        </p:nvSpPr>
        <p:spPr>
          <a:xfrm>
            <a:off x="6199200" y="3622680"/>
            <a:ext cx="173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dutos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88520" y="3622680"/>
            <a:ext cx="158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sultados 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s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Dois tipos de Testes são de extrema importância para o Controle de Qualidade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Debug de código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: Testes realizados pelos próprios desenvolvedor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Testes de funcionalidade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: Testes realizados por uma equipe independente do desenvolviment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Integração entre os processos de Desenvolvimento e Testes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Visão Nível 1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152280" y="1752480"/>
            <a:ext cx="2067120" cy="8413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anej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s Tes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52480" y="3124080"/>
            <a:ext cx="2067120" cy="8413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s Tes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657600" y="4419720"/>
            <a:ext cx="2066760" cy="8413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lato 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u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09680" y="2590920"/>
            <a:ext cx="6098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9880" y="396252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15000" y="48769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10280" y="1774080"/>
            <a:ext cx="2025720" cy="366012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c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286000" y="2209680"/>
            <a:ext cx="4648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23720" y="1828800"/>
            <a:ext cx="28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dutos do Desenvolv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Integração entre os processos de Desenvolvimento e Testes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Visão Nível 2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209680" y="1143000"/>
            <a:ext cx="1828800" cy="1371600"/>
            <a:chOff x="2209680" y="1143000"/>
            <a:chExt cx="1828800" cy="1371600"/>
          </a:xfrm>
        </p:grpSpPr>
        <p:sp>
          <p:nvSpPr>
            <p:cNvPr id="276" name=""/>
            <p:cNvSpPr/>
            <p:nvPr/>
          </p:nvSpPr>
          <p:spPr>
            <a:xfrm>
              <a:off x="2209680" y="1143000"/>
              <a:ext cx="705240" cy="3286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Planej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dos Tes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80280" y="1707840"/>
              <a:ext cx="705960" cy="3294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Execuçã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dos Tes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33240" y="2185920"/>
              <a:ext cx="705240" cy="3286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Relato d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Bug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912400" y="1470600"/>
              <a:ext cx="207360" cy="17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03160" y="2055600"/>
              <a:ext cx="138960" cy="1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6896160" y="1341360"/>
            <a:ext cx="2057400" cy="76212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ál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35280" y="1700280"/>
            <a:ext cx="312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635280" y="5105520"/>
            <a:ext cx="312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1066680"/>
            <a:ext cx="1263600" cy="576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lanej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os Te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96160" y="2427120"/>
            <a:ext cx="2057400" cy="76212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96160" y="3522600"/>
            <a:ext cx="2057400" cy="76212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tr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924680" y="2103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96160" y="4640400"/>
            <a:ext cx="2057400" cy="76176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g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209680" y="2286000"/>
            <a:ext cx="1828800" cy="1371600"/>
            <a:chOff x="2209680" y="2286000"/>
            <a:chExt cx="1828800" cy="1371600"/>
          </a:xfrm>
        </p:grpSpPr>
        <p:sp>
          <p:nvSpPr>
            <p:cNvPr id="290" name=""/>
            <p:cNvSpPr/>
            <p:nvPr/>
          </p:nvSpPr>
          <p:spPr>
            <a:xfrm>
              <a:off x="2209680" y="2286000"/>
              <a:ext cx="705240" cy="3286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Planej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dos Tes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80280" y="2850840"/>
              <a:ext cx="705960" cy="3294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Execuçã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dos Tes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33240" y="3328920"/>
              <a:ext cx="705240" cy="3286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Relato d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Bug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12400" y="2613600"/>
              <a:ext cx="207360" cy="17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3160" y="3198600"/>
              <a:ext cx="138960" cy="1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2209680" y="3429000"/>
            <a:ext cx="1828800" cy="1371600"/>
            <a:chOff x="2209680" y="3429000"/>
            <a:chExt cx="1828800" cy="1371600"/>
          </a:xfrm>
        </p:grpSpPr>
        <p:sp>
          <p:nvSpPr>
            <p:cNvPr id="296" name=""/>
            <p:cNvSpPr/>
            <p:nvPr/>
          </p:nvSpPr>
          <p:spPr>
            <a:xfrm>
              <a:off x="2209680" y="3429000"/>
              <a:ext cx="705240" cy="3286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Planej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dos Tes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80280" y="3993840"/>
              <a:ext cx="705960" cy="3294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Execuçã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dos Tes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33240" y="4471920"/>
              <a:ext cx="705240" cy="3286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Relato d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Bug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912400" y="3756600"/>
              <a:ext cx="207360" cy="17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03160" y="4341600"/>
              <a:ext cx="138960" cy="1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209680" y="4572000"/>
            <a:ext cx="1828800" cy="1371600"/>
            <a:chOff x="2209680" y="4572000"/>
            <a:chExt cx="1828800" cy="1371600"/>
          </a:xfrm>
        </p:grpSpPr>
        <p:sp>
          <p:nvSpPr>
            <p:cNvPr id="302" name=""/>
            <p:cNvSpPr/>
            <p:nvPr/>
          </p:nvSpPr>
          <p:spPr>
            <a:xfrm>
              <a:off x="2209680" y="4572000"/>
              <a:ext cx="705240" cy="3286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Planej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dos Tes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80280" y="5136840"/>
              <a:ext cx="705960" cy="3294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Execuçã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dos Tes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33240" y="5614920"/>
              <a:ext cx="705240" cy="3286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Relato d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Bug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12400" y="4899600"/>
              <a:ext cx="207360" cy="17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03160" y="5484600"/>
              <a:ext cx="138960" cy="1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600200" y="1219320"/>
            <a:ext cx="52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00200" y="1447920"/>
            <a:ext cx="595440" cy="75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16000" y="1773360"/>
            <a:ext cx="107964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8360" y="1773360"/>
            <a:ext cx="1727280" cy="273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35280" y="2819520"/>
            <a:ext cx="312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35280" y="3962520"/>
            <a:ext cx="312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924680" y="31910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924680" y="43099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132000" y="1844280"/>
            <a:ext cx="544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Testes de Caixa Preta</a:t>
            </a:r>
            <a:endParaRPr b="1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3335400" y="2803320"/>
            <a:ext cx="54864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5f5f5f"/>
                </a:solidFill>
                <a:latin typeface="Trebuchet MS"/>
              </a:rPr>
              <a:t>O que são os Testes de Caixa Preta ou Testes Funcionais</a:t>
            </a:r>
            <a:endParaRPr b="0" i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2666880"/>
            <a:ext cx="5715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4120" y="4038480"/>
            <a:ext cx="1295280" cy="129564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Qual o objetivo do Analista de Testes Software ?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385920" y="2044440"/>
            <a:ext cx="8353440" cy="31788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1. Encontrar bug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2. Analisar a aderência do sistema a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requisitos documentados, sendo que a identifi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os bugs é a consequência natural de tal anális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assificação dos Test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4419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Quanto ao Acesso ao Códig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Sem acesso ao código (Caixa Preta) Testes Funcionai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Com acesso ao código (Caixa Branca) Testes Estruturai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Quanto ao Estado do Softwar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Em execução: Dinâmic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Sem execução: Estátic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144440" y="3906720"/>
          <a:ext cx="6840360" cy="2581560"/>
        </p:xfrm>
        <a:graphic>
          <a:graphicData uri="http://schemas.openxmlformats.org/drawingml/2006/table">
            <a:tbl>
              <a:tblPr/>
              <a:tblGrid>
                <a:gridCol w="2280960"/>
                <a:gridCol w="2278080"/>
                <a:gridCol w="2281320"/>
              </a:tblGrid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triz de Tes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stá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nâm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m acesso ao cód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este da Especificação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este no Modelo UML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nuais, folhetos, ícones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este do Software executando, Teste de Carga, Teste de St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m acesso ao cód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lkthru, Revisão e Inspeção do Cód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este de Unidade, Teste de Componente, Teste de Cober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371160" y="1125360"/>
            <a:ext cx="838044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Neste teste, o analista de teste só se interessa pela entrada e pela saída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Não interessa como o sistema processa internamente as entradas para produzir a saída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Teste Estátic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Refere-se ao teste de algo que está parado, que pode ser examinado e revisado. Por exemplo: a especificação, o model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Teste Dinâmic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Refere-se ao teste de algo que pode ser executado, usado.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or exemplo: o sistema de software em execuçã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ste de Caixa Preta (Black Box Testing) 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132000" y="1844280"/>
            <a:ext cx="544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este Estático: Validação &amp; Verificação da Especificação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335400" y="2803320"/>
            <a:ext cx="54864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5f5f5f"/>
                </a:solidFill>
                <a:latin typeface="Trebuchet MS"/>
              </a:rPr>
              <a:t>O que os Testes da Especificação devem levar em conta</a:t>
            </a:r>
            <a:endParaRPr b="0" i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2666880"/>
            <a:ext cx="5715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34120" y="4038480"/>
            <a:ext cx="1295280" cy="129564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Porque avaliar uma especificação ?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62080" y="1125360"/>
            <a:ext cx="859608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Justificativa Econômica: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Corrigir os erros mais cedo é mais barato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(diminui o retrabalho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Justificativa Técnica :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valiar o entendimento do problema,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aior fonte de erro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Justificativa de Prazo :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liminar o retrabalho, prazos menor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aior fonte de erro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Com tantas justificativas, porque é tão pouco realizado ?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erfil pessoal, falta de qualificação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resunção dos projetistas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desenvolvedor gosta de desenvolver e não de especificar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já entendi o problema, posso programar agora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ressão dos gerentes 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ste da Especificaçã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98440" y="1125360"/>
            <a:ext cx="8523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analista de teste deve se colocar no papel dos envolvidos no processo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No papel do Cliente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 Especificação (Requisitos) traduz as necessidades 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No papel lado do Desenvolvedor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qui estão todas as informações que necessárias 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No papel do Computador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É possível executar esta especificação com um programa 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 Especificação deve se adaptar aos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adrões adotados na empresa (ambiente, indústria, mercado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Software legado (integração, não redundância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adrões de consistência e clareza (não ambiguidade, objetividade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ste da Especificação, para evitar informações incoerent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57200" y="2076480"/>
            <a:ext cx="4114800" cy="27208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4572000" y="3494160"/>
            <a:ext cx="4103640" cy="24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Questões para discussão..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99880" y="1125360"/>
            <a:ext cx="8523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m base numa Especificação,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 sistema deve ser compatível com o sistema operacional Windows 95, 98 ou superior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ado que o sistema ainda não está pronto, como vocês testarão este Requisito 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asos de Test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strutura Típica de um caso de teste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Identificador: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Numeração ou nome do Caso de Test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Itens Testados: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módulo, sistema, unidad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Especificação de Entrada: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Valores de entrada, situação inicial desejad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Comandos a serem executados, roteiro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 serem seguido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Saída esperada: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Lista de Valores de saída, situação final desejada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132000" y="1844280"/>
            <a:ext cx="5445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estes Dinâmicos: Validação &amp; Verificação da Aplicação como uma caixa preta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3335400" y="2803320"/>
            <a:ext cx="54864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5f5f5f"/>
                </a:solidFill>
                <a:latin typeface="Trebuchet MS"/>
              </a:rPr>
              <a:t>Casos de Teste</a:t>
            </a:r>
            <a:endParaRPr b="0" i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2666880"/>
            <a:ext cx="5715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34120" y="4038480"/>
            <a:ext cx="1295280" cy="129564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ste dinâmico de caixa preta: Casos de Test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82400" y="1125360"/>
            <a:ext cx="816444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Casos de Testes para passar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ara verificar que o sistema esta funcionando corretament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São executados em primeiro luga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Garantem que o sistema faz o que se propõe (validação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Casos de Testes para falha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ara identificar os limites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Forçar mensagens e controles das situações de erros prevista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Identificar bugs não previstos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Garantir a segurança e robustez do sistem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"/>
          <p:cNvSpPr/>
          <p:nvPr/>
        </p:nvSpPr>
        <p:spPr>
          <a:xfrm>
            <a:off x="1818000" y="1300680"/>
            <a:ext cx="5495040" cy="6433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000000"/>
                </a:solidFill>
                <a:uFillTx/>
                <a:latin typeface="Verdana"/>
              </a:rPr>
              <a:t>Casos de Teste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são seqüências de entradas específic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selecionadas para avaliar um sistema de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ercado de Trabalho na Área de Qualidade e Test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84160" y="981000"/>
            <a:ext cx="735804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Seleção de Casos de Test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34800" y="1127160"/>
            <a:ext cx="8452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Selecionar os casos de teste é uma da mais importantes tarefas do analista de teste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Como é impossível se testar TODAS as possibilidades, deve-se lançar mão da equivalência de testes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 classificação de equivalência é um processo de racionalmente se reduzir a enorme (virtualmente infinita) possibilidade de casos de teste para um número menor equivalente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Dois casos de teste são equivalentes se eles testam a mesma coisa e revelam o mesmo err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ara se identificar os testes equivalentes deve-se procurar por grupos similares de entradas, saídas similares, operações similares. Estes grupos são classes equivalentes de teste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Corre-se o risco de eliminar testes que poderiam revelar bugs escondidos (Ex INTEL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x. Calculadora 1 + 1  ;  5 + 5  são dois testes equivalentes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2 + 3 ;   2 * 3  não são equivalentes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ste Funcional, Carga, Stress e Regressã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07880" y="1125360"/>
            <a:ext cx="8307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Teste de Funcional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: Validação de que o sistema processa as informações conforme o esperado. Ou seja, mediante à entradas de dados conhecidas, transações conhecidas devolvem dados de retorno (resultados) conhecidos e esperados. Gerelmente relacionado com requisitos funcionai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Teste de Carga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: Validação do desempenho e estabilidade do sistema, mediante a uma carga esperada de usuários. Adequado para garantir que a aplicação pode suportar a carga transacional para qual foi projetada. Relacionado com requisitos não funcionai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Teste de Stress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: Validação do desempenho e estabilidade do sistema, mediante a uma carga extrema de usuários. Adequado para identificação do limite da aplicação, ou seja, em que momento o sistema parará de funcionar por motivo de concorrência de recursos (ponto de ruptura)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Teste de Regressão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: Validação de que as funções de um sistema que operavam corretamente antes de uma mudança, continuam operando corretamente após tal mudança. Ou seja, a mudança não acarretou em efeitos colaterais no comportamento do sistema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stes e o CMM (Exemplo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95280" y="1050840"/>
            <a:ext cx="8327520" cy="5473440"/>
            <a:chOff x="395280" y="1050840"/>
            <a:chExt cx="8327520" cy="5473440"/>
          </a:xfrm>
        </p:grpSpPr>
        <p:grpSp>
          <p:nvGrpSpPr>
            <p:cNvPr id="352" name=""/>
            <p:cNvGrpSpPr/>
            <p:nvPr/>
          </p:nvGrpSpPr>
          <p:grpSpPr>
            <a:xfrm>
              <a:off x="399960" y="1055520"/>
              <a:ext cx="8317080" cy="5462640"/>
              <a:chOff x="399960" y="1055520"/>
              <a:chExt cx="8317080" cy="546264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399960" y="1055520"/>
                <a:ext cx="8317080" cy="927720"/>
                <a:chOff x="399960" y="1055520"/>
                <a:chExt cx="8317080" cy="9277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399960" y="1055520"/>
                  <a:ext cx="8317080" cy="9277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399960" y="1055520"/>
                  <a:ext cx="8316720" cy="927360"/>
                  <a:chOff x="399960" y="1055520"/>
                  <a:chExt cx="8316720" cy="92736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465840" y="1055520"/>
                    <a:ext cx="8184240" cy="92736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6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CMM Nível 3, Atividade 5: KPA de ENGENHARIA DE PRODUTO DE SOFTWARE (EPS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399960" y="1055520"/>
                    <a:ext cx="8316720" cy="927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8" name=""/>
              <p:cNvGrpSpPr/>
              <p:nvPr/>
            </p:nvGrpSpPr>
            <p:grpSpPr>
              <a:xfrm>
                <a:off x="399960" y="1983600"/>
                <a:ext cx="8317080" cy="928080"/>
                <a:chOff x="399960" y="1983600"/>
                <a:chExt cx="8317080" cy="9280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399960" y="1983600"/>
                  <a:ext cx="8317080" cy="9280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0" name=""/>
                <p:cNvGrpSpPr/>
                <p:nvPr/>
              </p:nvGrpSpPr>
              <p:grpSpPr>
                <a:xfrm>
                  <a:off x="399960" y="1983600"/>
                  <a:ext cx="8316720" cy="927720"/>
                  <a:chOff x="399960" y="1983600"/>
                  <a:chExt cx="8316720" cy="92772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>
                    <a:off x="465840" y="1983600"/>
                    <a:ext cx="8184240" cy="92772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Teste de Software é executado de acordo com processo de software definid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399960" y="1983600"/>
                    <a:ext cx="8316720" cy="927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3" name=""/>
              <p:cNvGrpSpPr/>
              <p:nvPr/>
            </p:nvGrpSpPr>
            <p:grpSpPr>
              <a:xfrm>
                <a:off x="399960" y="2912040"/>
                <a:ext cx="8317080" cy="3606120"/>
                <a:chOff x="399960" y="2912040"/>
                <a:chExt cx="8317080" cy="3606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465840" y="2912040"/>
                  <a:ext cx="8184600" cy="360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) Os critérios de testes são desenvolvidos e revisados com os clientes e usuários finai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) Métodos efetivos são empregados nos testes de software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) A adequação dos testes é determinada por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. O nível do teste executado (teste unitário, teste de integração, teste de sistema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. A estratégia selecionada (caixa-preta, caixa-branca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. A cobertura do teste a ser alcançada (testes de condições, testes de caminhos básico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) Teste de regressão é executado, em cada nível de teste, sempre que estamos executando 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testes ou quando o ambiente mudou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) Os planos de testes, procedimentos de testes e casos de testes são convenientemente mudados, sempre que os requisitos solicitados, modelagem do software ou código forem modificad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99960" y="2912040"/>
                  <a:ext cx="8317080" cy="360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6" name=""/>
            <p:cNvSpPr/>
            <p:nvPr/>
          </p:nvSpPr>
          <p:spPr>
            <a:xfrm>
              <a:off x="395280" y="1050840"/>
              <a:ext cx="8327520" cy="547344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stes e o CMM (Exemplo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395280" y="1049400"/>
            <a:ext cx="8321400" cy="5474880"/>
            <a:chOff x="395280" y="1049400"/>
            <a:chExt cx="8321400" cy="5474880"/>
          </a:xfrm>
        </p:grpSpPr>
        <p:grpSp>
          <p:nvGrpSpPr>
            <p:cNvPr id="369" name=""/>
            <p:cNvGrpSpPr/>
            <p:nvPr/>
          </p:nvGrpSpPr>
          <p:grpSpPr>
            <a:xfrm>
              <a:off x="399960" y="1053720"/>
              <a:ext cx="8310960" cy="5465160"/>
              <a:chOff x="399960" y="1053720"/>
              <a:chExt cx="8310960" cy="546516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399960" y="1053720"/>
                <a:ext cx="8310960" cy="858960"/>
                <a:chOff x="399960" y="1053720"/>
                <a:chExt cx="8310960" cy="8589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399960" y="1053720"/>
                  <a:ext cx="8310960" cy="85896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2" name=""/>
                <p:cNvGrpSpPr/>
                <p:nvPr/>
              </p:nvGrpSpPr>
              <p:grpSpPr>
                <a:xfrm>
                  <a:off x="399960" y="1053720"/>
                  <a:ext cx="8310600" cy="858600"/>
                  <a:chOff x="399960" y="1053720"/>
                  <a:chExt cx="8310600" cy="85860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>
                    <a:off x="465840" y="1053720"/>
                    <a:ext cx="8178120" cy="85860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6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CMM Nível 3, Atividade 7: KPA de ENGENHARIA DE PRODUTO DE SOFTWARE (EPS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399960" y="1053720"/>
                    <a:ext cx="8310600" cy="858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5" name=""/>
              <p:cNvGrpSpPr/>
              <p:nvPr/>
            </p:nvGrpSpPr>
            <p:grpSpPr>
              <a:xfrm>
                <a:off x="399960" y="1913040"/>
                <a:ext cx="8310960" cy="1073880"/>
                <a:chOff x="399960" y="1913040"/>
                <a:chExt cx="8310960" cy="107388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99960" y="1913040"/>
                  <a:ext cx="8310960" cy="10738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7" name=""/>
                <p:cNvGrpSpPr/>
                <p:nvPr/>
              </p:nvGrpSpPr>
              <p:grpSpPr>
                <a:xfrm>
                  <a:off x="399960" y="1913040"/>
                  <a:ext cx="8310600" cy="1073520"/>
                  <a:chOff x="399960" y="1913040"/>
                  <a:chExt cx="8310600" cy="107352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>
                    <a:off x="465840" y="1913040"/>
                    <a:ext cx="8178120" cy="107352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Testes de Sistema e Aceitação são planejados e executados para demonstrar que o software satisfaz os requisitos definidos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399960" y="1913040"/>
                    <a:ext cx="8310600" cy="1073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0" name=""/>
              <p:cNvGrpSpPr/>
              <p:nvPr/>
            </p:nvGrpSpPr>
            <p:grpSpPr>
              <a:xfrm>
                <a:off x="399960" y="2987280"/>
                <a:ext cx="8310960" cy="3531600"/>
                <a:chOff x="399960" y="2987280"/>
                <a:chExt cx="8310960" cy="353160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465840" y="2987280"/>
                  <a:ext cx="8178480" cy="353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)  Os testes de sistema e aceitação são documentados num planejamento de teste, onde serão revisados e aprovados pelos clientes e usuários finai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)  Os casos de testes e procedimentos de testes são planejados e preparados por um grupo de teste independente dos desenvolvedores de software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)  Os casos de testes e procedimentos de testes são revisados e revisados por clientes e usuários finais, antes do teste ser executado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)  Teste de software deve ser executado junto com “</a:t>
                  </a:r>
                  <a:r>
                    <a:rPr b="0" i="1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oftware-baseline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” e “</a:t>
                  </a:r>
                  <a:r>
                    <a:rPr b="0" i="1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ocumentação-baseline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“ de requisitos de negócio e do  software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)   Os problemas identificados durante os testes devem ser documentados e acompanhados até serem encerrad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6) Os testes devem ser documentados e usados com base para determinar quanto o software esta satisfazendo os requisitos estabelecid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99960" y="2987280"/>
                  <a:ext cx="8310960" cy="353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3" name=""/>
            <p:cNvSpPr/>
            <p:nvPr/>
          </p:nvSpPr>
          <p:spPr>
            <a:xfrm>
              <a:off x="395280" y="1049400"/>
              <a:ext cx="8321400" cy="547488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Pontos para Revisã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 estimativa de esforço para os testes é proporcional ao esforço para desenvolviment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 fase de Testes tende a se diluir no processo de desenvolviment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odelos mais antigos posicionam os Testes no fim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odelos mais recentes trazem os Testes para o meio do cicl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s testes são baseados em Test Case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Definir um Test Case é o maior trabalho do Analista de Teste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Clique para + detalhes"/>
          <p:cNvPicPr/>
          <p:nvPr/>
        </p:nvPicPr>
        <p:blipFill>
          <a:blip r:embed="rId1"/>
          <a:stretch/>
        </p:blipFill>
        <p:spPr>
          <a:xfrm>
            <a:off x="3564000" y="3284640"/>
            <a:ext cx="2232000" cy="19206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132000" y="1844280"/>
            <a:ext cx="5445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estes Dinâmicos: Automação de Testes Funcionais e Testes de Desempenho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3335400" y="2803320"/>
            <a:ext cx="54864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5f5f5f"/>
                </a:solidFill>
                <a:latin typeface="Trebuchet MS"/>
              </a:rPr>
              <a:t>Ferramentas para Testes de Caixa Preta</a:t>
            </a:r>
            <a:endParaRPr b="0" i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2666880"/>
            <a:ext cx="5715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34120" y="4038480"/>
            <a:ext cx="1295280" cy="129564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enefícios da Automaçã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Ciclos de testes mais rápidos, confiáveis e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brangente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roposta de redução dos custos, prazos e esforços dos testes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l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iberando tempo para usuários e analista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Contribuição na liberação de aplicativos para produção com menos falhas, mais estabilidade e maior qualidade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iscos da Automação (Pontos de Falha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propósito da atividade do teste (objetivo x meio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critério para escolha do que automatizar (não deve ser subjetivo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planejamento dos teste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 equipe, que deve ter perfil adequado e receber treinament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a aplicação da tecnologia (execução dos testes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orque Automatizar Testes ?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68360" y="1677960"/>
            <a:ext cx="1942920" cy="2513880"/>
            <a:chOff x="468360" y="1677960"/>
            <a:chExt cx="1942920" cy="2513880"/>
          </a:xfrm>
        </p:grpSpPr>
        <p:sp>
          <p:nvSpPr>
            <p:cNvPr id="397" name=""/>
            <p:cNvSpPr/>
            <p:nvPr/>
          </p:nvSpPr>
          <p:spPr>
            <a:xfrm>
              <a:off x="735120" y="3546720"/>
              <a:ext cx="1447560" cy="6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Sem Tes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a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1"/>
            <a:stretch/>
          </p:blipFill>
          <p:spPr>
            <a:xfrm>
              <a:off x="468360" y="1677960"/>
              <a:ext cx="1942920" cy="158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9" name=""/>
          <p:cNvGrpSpPr/>
          <p:nvPr/>
        </p:nvGrpSpPr>
        <p:grpSpPr>
          <a:xfrm>
            <a:off x="5862600" y="1373040"/>
            <a:ext cx="2743200" cy="4670640"/>
            <a:chOff x="5862600" y="1373040"/>
            <a:chExt cx="2743200" cy="4670640"/>
          </a:xfrm>
        </p:grpSpPr>
        <p:sp>
          <p:nvSpPr>
            <p:cNvPr id="400" name=""/>
            <p:cNvSpPr/>
            <p:nvPr/>
          </p:nvSpPr>
          <p:spPr>
            <a:xfrm>
              <a:off x="6014880" y="3546360"/>
              <a:ext cx="2286000" cy="24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Teste Automatiz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Velocid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Repetitivid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Program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brangên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onfiabilid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Reusabilid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1" name="" descr=""/>
            <p:cNvPicPr/>
            <p:nvPr/>
          </p:nvPicPr>
          <p:blipFill>
            <a:blip r:embed="rId2"/>
            <a:stretch/>
          </p:blipFill>
          <p:spPr>
            <a:xfrm>
              <a:off x="5862600" y="1373040"/>
              <a:ext cx="2743200" cy="22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2" name=""/>
          <p:cNvGrpSpPr/>
          <p:nvPr/>
        </p:nvGrpSpPr>
        <p:grpSpPr>
          <a:xfrm>
            <a:off x="3157560" y="1677960"/>
            <a:ext cx="2228760" cy="3625200"/>
            <a:chOff x="3157560" y="1677960"/>
            <a:chExt cx="2228760" cy="3625200"/>
          </a:xfrm>
        </p:grpSpPr>
        <p:sp>
          <p:nvSpPr>
            <p:cNvPr id="403" name=""/>
            <p:cNvSpPr/>
            <p:nvPr/>
          </p:nvSpPr>
          <p:spPr>
            <a:xfrm>
              <a:off x="3386160" y="3546720"/>
              <a:ext cx="1981080" cy="17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Teste Man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onsumo de tem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Baixa confiabilid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Recursos human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Inconsistên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4" name="" descr=""/>
            <p:cNvPicPr/>
            <p:nvPr/>
          </p:nvPicPr>
          <p:blipFill>
            <a:blip r:embed="rId3"/>
            <a:stretch/>
          </p:blipFill>
          <p:spPr>
            <a:xfrm>
              <a:off x="3157560" y="1677960"/>
              <a:ext cx="2228760" cy="1735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stes que devem ser Automatizado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Testes que precisem ser executados a cada nova versão do aplicativo (teste de regressão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Testes que utilizam uma grande variação de dados para a mesma açã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Testes de carga e stres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ercado de Trabalho na Área de Qualidade e Test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31159"/>
          <a:stretch/>
        </p:blipFill>
        <p:spPr>
          <a:xfrm>
            <a:off x="0" y="981000"/>
            <a:ext cx="9144000" cy="47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stes que não devem ser Automatizado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Testes de usabilidad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Testes de apenas uma execuçã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Testes com execução imediat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Testes sem metodologia, baseados na intuiçã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Testes sem resultados previsívei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gestão de Critério para Automaçã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"/>
          <p:cNvSpPr/>
          <p:nvPr/>
        </p:nvSpPr>
        <p:spPr>
          <a:xfrm>
            <a:off x="247680" y="1619280"/>
            <a:ext cx="8610480" cy="4114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19360" y="1846440"/>
            <a:ext cx="228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Universo de possíveis tes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42960" y="2381400"/>
            <a:ext cx="7315200" cy="25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93520" y="2838600"/>
            <a:ext cx="330912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Narrow"/>
              </a:rPr>
              <a:t>Testes</a:t>
            </a: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 “Regressiv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Narrow"/>
              </a:rPr>
              <a:t>(automatizad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Validam as correções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se tudo estiver como antes, continua funcionando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(estabilidade e confiabilidade da versã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009800" y="2381400"/>
            <a:ext cx="1752480" cy="2666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106280" y="2865600"/>
            <a:ext cx="157356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Narrow"/>
              </a:rPr>
              <a:t>Tes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Progressiv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Narrow"/>
              </a:rPr>
              <a:t>(manuais e automa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Validam as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nov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e melhor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(evolução da versã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aturidade para Automação de Test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"/>
          <p:cNvSpPr/>
          <p:nvPr/>
        </p:nvSpPr>
        <p:spPr>
          <a:xfrm>
            <a:off x="1371600" y="4902120"/>
            <a:ext cx="6095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Narrow"/>
              </a:rPr>
              <a:t>Não há equipe independente de teste; desenvolvedores testam </a:t>
            </a:r>
            <a:r>
              <a:rPr b="0" i="1" lang="pt-BR" sz="1800" spc="-1" strike="noStrike">
                <a:solidFill>
                  <a:srgbClr val="000000"/>
                </a:solidFill>
                <a:latin typeface="Arial Narrow"/>
              </a:rPr>
              <a:t>ad ho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371600" y="4089240"/>
            <a:ext cx="6095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Narrow"/>
              </a:rPr>
              <a:t>Equipe independente para testes, mas sem processo estruturado   (</a:t>
            </a:r>
            <a:r>
              <a:rPr b="0" i="1" lang="pt-BR" sz="1800" spc="-1" strike="noStrike">
                <a:solidFill>
                  <a:srgbClr val="000000"/>
                </a:solidFill>
                <a:latin typeface="Arial Narrow"/>
              </a:rPr>
              <a:t>ad hoc)</a:t>
            </a:r>
            <a:r>
              <a:rPr b="0" lang="pt-BR" sz="1800" spc="-1" strike="noStrike">
                <a:solidFill>
                  <a:srgbClr val="000000"/>
                </a:solidFill>
                <a:latin typeface="Arial Narrow"/>
              </a:rPr>
              <a:t> e sem geração de documentação (Massa de Testes, Casos de Testes e guarda de Evidência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371600" y="3265560"/>
            <a:ext cx="6095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Narrow"/>
              </a:rPr>
              <a:t>Equipe independente para testes e com processo definido, porém não institucionalizado. Geração de documentação par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452680"/>
            <a:ext cx="6095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Narrow"/>
              </a:rPr>
              <a:t>Equipe independente para testes, com processo definido, executado e gerenciado. Foco em testes funcionais, capacidade para testes de regress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371600" y="1639800"/>
            <a:ext cx="6095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Narrow"/>
              </a:rPr>
              <a:t>Equipe independente para testes, com processo definido, executado e gerenciado. Foco em testes funcionais e testes de desempenh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1639800"/>
            <a:ext cx="60962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95280" y="245268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95280" y="32655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40892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490212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5715000"/>
            <a:ext cx="60962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95280" y="1639800"/>
            <a:ext cx="0" cy="4075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391520" y="1639800"/>
            <a:ext cx="0" cy="4075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-884160" y="3343320"/>
            <a:ext cx="3279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 Narrow"/>
              </a:rPr>
              <a:t>Maturidade do Processo de Tes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 Narrow"/>
              </a:rPr>
              <a:t>I  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Arial Narrow"/>
              </a:rPr>
              <a:t>        II             III            IV         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 </a:t>
            </a:r>
            <a:r>
              <a:rPr b="1" lang="pt-BR" sz="1800" spc="-1" strike="noStrike">
                <a:solidFill>
                  <a:srgbClr val="ff0000"/>
                </a:solidFill>
                <a:latin typeface="Arial Narrow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18900000">
            <a:off x="584280" y="5277960"/>
            <a:ext cx="304560" cy="30492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rot="8100000">
            <a:off x="583920" y="1620360"/>
            <a:ext cx="304560" cy="30492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81040" y="1271520"/>
            <a:ext cx="35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A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72680" y="5614920"/>
            <a:ext cx="498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Baix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295280"/>
            <a:ext cx="838080" cy="457200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4572000"/>
              <a:gd name="textAreaBottom" fmla="*/ 4531320 h 4572000"/>
            </a:gdLst>
            <a:ahLst/>
            <a:rect l="textAreaLeft" t="textAreaTop" r="textAreaRight" b="textAreaBottom"/>
            <a:pathLst>
              <a:path w="21600" h="117794">
                <a:moveTo>
                  <a:pt x="3600" y="0"/>
                </a:moveTo>
                <a:arcTo wR="3600" hR="3600" stAng="16200000" swAng="-5400000"/>
                <a:lnTo>
                  <a:pt x="0" y="114194"/>
                </a:lnTo>
                <a:arcTo wR="3600" hR="3600" stAng="10800000" swAng="-5400000"/>
                <a:lnTo>
                  <a:pt x="18000" y="117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486200" y="3710160"/>
            <a:ext cx="1600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s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tomatiz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7543440" y="2057040"/>
            <a:ext cx="762120" cy="16002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7543440" y="2895120"/>
            <a:ext cx="762120" cy="7621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o Manual ao Automatizad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5880240" y="3078000"/>
            <a:ext cx="2514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Arial"/>
              </a:rPr>
              <a:t>M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00120" y="1447920"/>
            <a:ext cx="7924680" cy="2057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828720" y="1805040"/>
            <a:ext cx="7238520" cy="1269720"/>
            <a:chOff x="828720" y="1805040"/>
            <a:chExt cx="7238520" cy="1269720"/>
          </a:xfrm>
        </p:grpSpPr>
        <p:sp>
          <p:nvSpPr>
            <p:cNvPr id="443" name=""/>
            <p:cNvSpPr/>
            <p:nvPr/>
          </p:nvSpPr>
          <p:spPr>
            <a:xfrm>
              <a:off x="828720" y="1805040"/>
              <a:ext cx="1523880" cy="839880"/>
            </a:xfrm>
            <a:prstGeom prst="rect">
              <a:avLst/>
            </a:prstGeom>
            <a:solidFill>
              <a:srgbClr val="99ff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42840" y="2043360"/>
              <a:ext cx="1294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Executar ações dos usuári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52600" y="2224080"/>
              <a:ext cx="38052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733480" y="1805040"/>
              <a:ext cx="1523520" cy="839880"/>
            </a:xfrm>
            <a:prstGeom prst="rect">
              <a:avLst/>
            </a:prstGeom>
            <a:solidFill>
              <a:srgbClr val="99ff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47960" y="1951200"/>
              <a:ext cx="12949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Aguardar o processo se complet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57360" y="2224080"/>
              <a:ext cx="3808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38600" y="1805040"/>
              <a:ext cx="1523520" cy="839880"/>
            </a:xfrm>
            <a:prstGeom prst="rect">
              <a:avLst/>
            </a:prstGeom>
            <a:solidFill>
              <a:srgbClr val="99ff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63800" y="1859040"/>
              <a:ext cx="14220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Comparar o resultado do teste com o resultado esper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62480" y="2237040"/>
              <a:ext cx="3805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543360" y="1805040"/>
              <a:ext cx="1523880" cy="839880"/>
            </a:xfrm>
            <a:prstGeom prst="rect">
              <a:avLst/>
            </a:prstGeom>
            <a:solidFill>
              <a:srgbClr val="99ff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57840" y="1859040"/>
              <a:ext cx="1294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Repetir todos os passos até toda a aplicação ser verifica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4" name=""/>
            <p:cNvCxnSpPr>
              <a:stCxn id="452" idx="2"/>
              <a:endCxn id="443" idx="2"/>
            </p:cNvCxnSpPr>
            <p:nvPr/>
          </p:nvCxnSpPr>
          <p:spPr>
            <a:xfrm rot="5400000">
              <a:off x="4446360" y="-211680"/>
              <a:ext cx="2160" cy="5715360"/>
            </a:xfrm>
            <a:prstGeom prst="bentConnector3">
              <a:avLst>
                <a:gd name="adj1" fmla="val 23880000"/>
              </a:avLst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55" name=""/>
          <p:cNvSpPr/>
          <p:nvPr/>
        </p:nvSpPr>
        <p:spPr>
          <a:xfrm>
            <a:off x="4356000" y="5440320"/>
            <a:ext cx="4038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a8a644"/>
                </a:solidFill>
                <a:latin typeface="Arial"/>
              </a:rPr>
              <a:t>Automat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0120" y="3733920"/>
            <a:ext cx="7924680" cy="2133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828720" y="4091040"/>
            <a:ext cx="5555880" cy="1320120"/>
            <a:chOff x="828720" y="4091040"/>
            <a:chExt cx="5555880" cy="1320120"/>
          </a:xfrm>
        </p:grpSpPr>
        <p:sp>
          <p:nvSpPr>
            <p:cNvPr id="458" name=""/>
            <p:cNvSpPr/>
            <p:nvPr/>
          </p:nvSpPr>
          <p:spPr>
            <a:xfrm>
              <a:off x="828720" y="4092480"/>
              <a:ext cx="1523880" cy="99180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942840" y="4404960"/>
              <a:ext cx="12956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Gerar scripts automatiz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352600" y="4587840"/>
              <a:ext cx="381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27360" y="4091040"/>
              <a:ext cx="1523880" cy="99180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841480" y="4404960"/>
              <a:ext cx="12956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Adicionar pontos de verific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51240" y="4587840"/>
              <a:ext cx="381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632480" y="4091040"/>
              <a:ext cx="1523880" cy="99180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46600" y="4404960"/>
              <a:ext cx="1295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Executar os tes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4" idx="3"/>
              <a:endCxn id="464" idx="2"/>
            </p:cNvCxnSpPr>
            <p:nvPr/>
          </p:nvCxnSpPr>
          <p:spPr>
            <a:xfrm flipH="1">
              <a:off x="5393520" y="4587840"/>
              <a:ext cx="762840" cy="495360"/>
            </a:xfrm>
            <a:prstGeom prst="bentConnector4">
              <a:avLst>
                <a:gd name="adj1" fmla="val -29981"/>
                <a:gd name="adj2" fmla="val 166327"/>
              </a:avLst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132000" y="1844280"/>
            <a:ext cx="5445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KPI’s – Key Performance Indicators para Testes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3335400" y="2803320"/>
            <a:ext cx="54864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5f5f5f"/>
                </a:solidFill>
                <a:latin typeface="Trebuchet MS"/>
              </a:rPr>
              <a:t>Uso de MÉTRICAS para visão da eficiência e eficácia do processo de Testes</a:t>
            </a:r>
            <a:endParaRPr b="0" i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"/>
          <p:cNvSpPr/>
          <p:nvPr/>
        </p:nvSpPr>
        <p:spPr>
          <a:xfrm>
            <a:off x="3124080" y="2666880"/>
            <a:ext cx="5715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34120" y="4038480"/>
            <a:ext cx="1295280" cy="129564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étricas para Determinação da Cobertura (Coverage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109520" y="1503360"/>
            <a:ext cx="7134120" cy="4172040"/>
            <a:chOff x="1109520" y="1503360"/>
            <a:chExt cx="7134120" cy="4172040"/>
          </a:xfrm>
        </p:grpSpPr>
        <p:grpSp>
          <p:nvGrpSpPr>
            <p:cNvPr id="473" name=""/>
            <p:cNvGrpSpPr/>
            <p:nvPr/>
          </p:nvGrpSpPr>
          <p:grpSpPr>
            <a:xfrm>
              <a:off x="3487680" y="2087640"/>
              <a:ext cx="148320" cy="99360"/>
              <a:chOff x="3487680" y="2087640"/>
              <a:chExt cx="148320" cy="99360"/>
            </a:xfrm>
          </p:grpSpPr>
          <p:sp>
            <p:nvSpPr>
              <p:cNvPr id="474" name=""/>
              <p:cNvSpPr/>
              <p:nvPr/>
            </p:nvSpPr>
            <p:spPr>
              <a:xfrm>
                <a:off x="3487680" y="2087640"/>
                <a:ext cx="148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487680" y="2187000"/>
                <a:ext cx="148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3933360" y="1503360"/>
              <a:ext cx="4310280" cy="1193400"/>
              <a:chOff x="3933360" y="1503360"/>
              <a:chExt cx="4310280" cy="1193400"/>
            </a:xfrm>
          </p:grpSpPr>
          <p:sp>
            <p:nvSpPr>
              <p:cNvPr id="477" name=""/>
              <p:cNvSpPr/>
              <p:nvPr/>
            </p:nvSpPr>
            <p:spPr>
              <a:xfrm>
                <a:off x="3933360" y="1503360"/>
                <a:ext cx="4310280" cy="1193400"/>
              </a:xfrm>
              <a:prstGeom prst="cube">
                <a:avLst>
                  <a:gd name="adj" fmla="val 25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094280" y="1885320"/>
                <a:ext cx="3554640" cy="298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de Requisitos com Testes Planejad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676400" y="2258280"/>
                <a:ext cx="2526480" cy="29844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de Requisit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230360" y="2220840"/>
                <a:ext cx="326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1109520" y="3144240"/>
              <a:ext cx="2229480" cy="894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ber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nejam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uncionalida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3487680" y="3579120"/>
              <a:ext cx="148320" cy="99360"/>
              <a:chOff x="3487680" y="3579120"/>
              <a:chExt cx="148320" cy="99360"/>
            </a:xfrm>
          </p:grpSpPr>
          <p:sp>
            <p:nvSpPr>
              <p:cNvPr id="483" name=""/>
              <p:cNvSpPr/>
              <p:nvPr/>
            </p:nvSpPr>
            <p:spPr>
              <a:xfrm>
                <a:off x="3487680" y="3579120"/>
                <a:ext cx="148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487680" y="3678480"/>
                <a:ext cx="148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1109520" y="1652400"/>
              <a:ext cx="2229480" cy="894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ber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nejam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3933360" y="2995200"/>
              <a:ext cx="4310280" cy="1193400"/>
              <a:chOff x="3933360" y="2995200"/>
              <a:chExt cx="4310280" cy="1193400"/>
            </a:xfrm>
          </p:grpSpPr>
          <p:sp>
            <p:nvSpPr>
              <p:cNvPr id="487" name=""/>
              <p:cNvSpPr/>
              <p:nvPr/>
            </p:nvSpPr>
            <p:spPr>
              <a:xfrm>
                <a:off x="3933360" y="2995200"/>
                <a:ext cx="4310280" cy="1193400"/>
              </a:xfrm>
              <a:prstGeom prst="cube">
                <a:avLst>
                  <a:gd name="adj" fmla="val 25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945600" y="3437640"/>
                <a:ext cx="4000680" cy="29844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de Funcionalidades com Testes Planejad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824720" y="3778200"/>
                <a:ext cx="2526480" cy="298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de Funcionalidad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082040" y="3740760"/>
                <a:ext cx="37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1109520" y="4631040"/>
              <a:ext cx="2229480" cy="894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bertura Planejam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strut. Inter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3487680" y="5065920"/>
              <a:ext cx="148320" cy="99360"/>
              <a:chOff x="3487680" y="5065920"/>
              <a:chExt cx="148320" cy="99360"/>
            </a:xfrm>
          </p:grpSpPr>
          <p:sp>
            <p:nvSpPr>
              <p:cNvPr id="493" name=""/>
              <p:cNvSpPr/>
              <p:nvPr/>
            </p:nvSpPr>
            <p:spPr>
              <a:xfrm>
                <a:off x="3487680" y="5065920"/>
                <a:ext cx="148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487680" y="5165280"/>
                <a:ext cx="148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3933360" y="4482000"/>
              <a:ext cx="4310280" cy="1193400"/>
              <a:chOff x="3933360" y="4482000"/>
              <a:chExt cx="4310280" cy="1193400"/>
            </a:xfrm>
          </p:grpSpPr>
          <p:sp>
            <p:nvSpPr>
              <p:cNvPr id="496" name=""/>
              <p:cNvSpPr/>
              <p:nvPr/>
            </p:nvSpPr>
            <p:spPr>
              <a:xfrm>
                <a:off x="3933360" y="4482000"/>
                <a:ext cx="4310280" cy="1193400"/>
              </a:xfrm>
              <a:prstGeom prst="cube">
                <a:avLst>
                  <a:gd name="adj" fmla="val 25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945600" y="4924440"/>
                <a:ext cx="4000680" cy="29844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dos Algoritmos cobertos por Teste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825080" y="5265000"/>
                <a:ext cx="2526480" cy="298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de Algoritm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082040" y="5227560"/>
                <a:ext cx="37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étricas para Determinação da Cobertura (Coverage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341360" y="1628640"/>
            <a:ext cx="6433920" cy="3511440"/>
            <a:chOff x="1341360" y="1628640"/>
            <a:chExt cx="6433920" cy="3511440"/>
          </a:xfrm>
        </p:grpSpPr>
        <p:sp>
          <p:nvSpPr>
            <p:cNvPr id="502" name=""/>
            <p:cNvSpPr/>
            <p:nvPr/>
          </p:nvSpPr>
          <p:spPr>
            <a:xfrm>
              <a:off x="2785680" y="3308040"/>
              <a:ext cx="1444320" cy="183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85680" y="2086560"/>
              <a:ext cx="1444320" cy="1221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230000" y="3002760"/>
              <a:ext cx="1444320" cy="21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30000" y="2086560"/>
              <a:ext cx="1444320" cy="916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341360" y="2086560"/>
              <a:ext cx="1444320" cy="305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341360" y="2391840"/>
              <a:ext cx="1444320" cy="274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179520" y="2544840"/>
              <a:ext cx="656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0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179520" y="3613680"/>
              <a:ext cx="656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735200" y="2086560"/>
              <a:ext cx="656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735200" y="3613680"/>
              <a:ext cx="656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5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624200" y="2391840"/>
              <a:ext cx="656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24200" y="3613680"/>
              <a:ext cx="656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0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341360" y="1628640"/>
              <a:ext cx="1444320" cy="45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ber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785680" y="1628640"/>
              <a:ext cx="1444320" cy="45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ber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uncionalida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230000" y="1628640"/>
              <a:ext cx="1444320" cy="45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ber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strut. Inter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30960" y="2697120"/>
              <a:ext cx="1444320" cy="244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30960" y="2086560"/>
              <a:ext cx="1444320" cy="610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30960" y="1628640"/>
              <a:ext cx="1444320" cy="45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ber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nejam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05720" y="2544840"/>
              <a:ext cx="393840" cy="1374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25160" y="2239200"/>
              <a:ext cx="656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725160" y="3613680"/>
              <a:ext cx="656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5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étricas para Determinação da Cobertura (Coverage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1654200" y="1117440"/>
            <a:ext cx="5823000" cy="1646280"/>
            <a:chOff x="1654200" y="1117440"/>
            <a:chExt cx="5823000" cy="1646280"/>
          </a:xfrm>
        </p:grpSpPr>
        <p:sp>
          <p:nvSpPr>
            <p:cNvPr id="525" name=""/>
            <p:cNvSpPr/>
            <p:nvPr/>
          </p:nvSpPr>
          <p:spPr>
            <a:xfrm>
              <a:off x="4108320" y="1117440"/>
              <a:ext cx="3368880" cy="1646280"/>
            </a:xfrm>
            <a:prstGeom prst="cube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08320" y="2177280"/>
              <a:ext cx="30891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tal de Casos de Testes Planej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720600" y="1923480"/>
              <a:ext cx="12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20600" y="2060640"/>
              <a:ext cx="12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37200" y="2190960"/>
              <a:ext cx="284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54200" y="1323000"/>
              <a:ext cx="1937520" cy="123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ber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ecu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s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226400" y="1782720"/>
              <a:ext cx="284148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tal de Casos de Testes Execut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2522520" y="3273480"/>
            <a:ext cx="3543480" cy="2852280"/>
            <a:chOff x="2522520" y="3273480"/>
            <a:chExt cx="3543480" cy="2852280"/>
          </a:xfrm>
        </p:grpSpPr>
        <p:sp>
          <p:nvSpPr>
            <p:cNvPr id="533" name=""/>
            <p:cNvSpPr/>
            <p:nvPr/>
          </p:nvSpPr>
          <p:spPr>
            <a:xfrm>
              <a:off x="2522520" y="3496680"/>
              <a:ext cx="3543480" cy="262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89080" y="3725640"/>
              <a:ext cx="0" cy="171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89080" y="5440320"/>
              <a:ext cx="285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17680" y="539280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89360" y="539280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932360" y="539280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361040" y="539280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04040" y="539280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931840" y="5554800"/>
              <a:ext cx="571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32160" y="5554800"/>
              <a:ext cx="914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703760" y="5554800"/>
              <a:ext cx="4572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094280" y="5554800"/>
              <a:ext cx="571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160960" y="5554800"/>
              <a:ext cx="685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522520" y="3273480"/>
              <a:ext cx="354348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volução da Cobertura da Execução dos Tes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931840" y="486792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522520" y="4753800"/>
              <a:ext cx="47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 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931840" y="452592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22520" y="4411440"/>
              <a:ext cx="47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 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931840" y="41828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522520" y="4068360"/>
              <a:ext cx="4759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 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931840" y="38397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522520" y="3725640"/>
              <a:ext cx="4759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 %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31840" y="521100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22520" y="5096520"/>
              <a:ext cx="47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 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3208320" y="4867560"/>
              <a:ext cx="5713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3779640" y="4411440"/>
              <a:ext cx="571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4351320" y="4296600"/>
              <a:ext cx="5713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4923000" y="3784680"/>
              <a:ext cx="685800" cy="51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979720" y="5668920"/>
              <a:ext cx="2743200" cy="342720"/>
            </a:xfrm>
            <a:prstGeom prst="rightArrow">
              <a:avLst>
                <a:gd name="adj1" fmla="val 50000"/>
                <a:gd name="adj2" fmla="val 2001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clusã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 automação de testes pode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conomizar tempo,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celerar o desenvolvimento,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elhorar a qualidade de seus produtos e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umentar o alcance e tornar seus testes mais efetivos..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...ou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ode desfocar seu esforço de testes e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sbanjar recursos e temp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oral da História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 você não testou organizadamente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ão pode garantir que está funcionand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3348000" y="2997360"/>
            <a:ext cx="2736720" cy="223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Premissa Básica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rebuchet MS"/>
              </a:rPr>
              <a:t>Teste de Software  x  Garantia de Qualidade de Softwa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Testes de Softwar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Validam e verificam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 se os artefatos desenvolvidos pelo projeto contém erro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Posicionado no contexto do Controle da Qualidade do </a:t>
            </a:r>
            <a:r>
              <a:rPr b="0" lang="pt-BR" sz="1800" spc="-1" strike="noStrike">
                <a:solidFill>
                  <a:srgbClr val="ff0000"/>
                </a:solidFill>
                <a:latin typeface="Trebuchet MS"/>
              </a:rPr>
              <a:t>PRODUTO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Garantia da Qualidade de Softwar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Foco na </a:t>
            </a: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prevenção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 de erros, através da definição de um processo eficaz para produção de softwar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Posicionada no contexto da maturidade do </a:t>
            </a:r>
            <a:r>
              <a:rPr b="0" lang="pt-BR" sz="1800" spc="-1" strike="noStrike">
                <a:solidFill>
                  <a:srgbClr val="ff0000"/>
                </a:solidFill>
                <a:latin typeface="Trebuchet MS"/>
              </a:rPr>
              <a:t>PROCESSO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 pelo qual se cria um produto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6320" y="2420640"/>
            <a:ext cx="899136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hega 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stes de Software: Termos e Definiçõ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Padrão IEEE (1983) IEEE Std 729-1983 </a:t>
            </a:r>
            <a:r>
              <a:rPr b="0" i="1" lang="pt-BR" sz="1800" spc="-1" strike="noStrike">
                <a:solidFill>
                  <a:srgbClr val="000000"/>
                </a:solidFill>
                <a:latin typeface="Trebuchet MS"/>
              </a:rPr>
              <a:t>Standard Glossary of Software Engineering Terminology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rebuchet MS"/>
              </a:rPr>
              <a:t>Failure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 (falha): Ocorre quando o sistema apresenta algum problema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rebuchet MS"/>
              </a:rPr>
              <a:t>Fault 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(defeito): É a causa da falha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rebuchet MS"/>
              </a:rPr>
              <a:t>Error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 (erro): É uma ação humana que resulta em um defeito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Um defeito pode provocar uma falha no program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Um defeito pode ser reparado com uma mudança no códig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Não existe defeito se o programa não falhar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1T02:53:35Z</dcterms:created>
  <dc:creator/>
  <dc:description/>
  <dc:language>en-US</dc:language>
  <cp:lastModifiedBy>romarciu</cp:lastModifiedBy>
  <dcterms:modified xsi:type="dcterms:W3CDTF">2007-10-06T10:59:46Z</dcterms:modified>
  <cp:revision>95</cp:revision>
  <dc:subject/>
  <dc:title>Teste de Software</dc:title>
</cp:coreProperties>
</file>