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06A-5669-4B35-8F63-BC4A360FFF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truir sistemas é entender os probl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a evolução progressiva do entend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istem semelhanças e diferenças entre o Teste de Software e Garantia da Qualidade de Softw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tindo do pressuposto 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objetivos são os mesmos: eliminar erros de um programa de computar e com isso aumentar a sua qualidade Os meios são diferentes porque o teste visa retirar er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65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67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3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65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67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5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6720" y="112536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5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6720" y="3843720"/>
            <a:ext cx="2895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84372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125360"/>
            <a:ext cx="4387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20" y="3843720"/>
            <a:ext cx="899136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07080"/>
            <a:ext cx="9144000" cy="25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1160" y="530280"/>
            <a:ext cx="915516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1160" y="711360"/>
            <a:ext cx="701856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973920" y="622440"/>
            <a:ext cx="109440" cy="25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1332000" cy="269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00040" y="1988640"/>
            <a:ext cx="544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6668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716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4788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173400" y="2349360"/>
            <a:ext cx="5463720" cy="722160"/>
            <a:chOff x="3173400" y="2349360"/>
            <a:chExt cx="5463720" cy="7221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173400" y="2355840"/>
              <a:ext cx="85716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55840" y="3071520"/>
              <a:ext cx="533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31960" y="2349360"/>
              <a:ext cx="51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Verdana"/>
                </a:rPr>
                <a:t>Testes de Softwa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318720" y="6129360"/>
            <a:ext cx="24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cius Rodri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760920" y="2779560"/>
            <a:ext cx="1592280" cy="12067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4520" y="2963880"/>
            <a:ext cx="2057400" cy="838080"/>
          </a:xfrm>
          <a:prstGeom prst="rightArrow">
            <a:avLst>
              <a:gd name="adj1" fmla="val 50000"/>
              <a:gd name="adj2" fmla="val 61372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38960" y="2963880"/>
            <a:ext cx="2057400" cy="838080"/>
          </a:xfrm>
          <a:prstGeom prst="rightArrow">
            <a:avLst>
              <a:gd name="adj1" fmla="val 50000"/>
              <a:gd name="adj2" fmla="val 61372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43400" y="894960"/>
            <a:ext cx="432000" cy="6794640"/>
          </a:xfrm>
          <a:custGeom>
            <a:avLst/>
            <a:gdLst>
              <a:gd name="textAreaLeft" fmla="*/ 0 w 432000"/>
              <a:gd name="textAreaRight" fmla="*/ 155880 w 432000"/>
              <a:gd name="textAreaTop" fmla="*/ 177120 h 6794640"/>
              <a:gd name="textAreaBottom" fmla="*/ 6617520 h 679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0600" y="1916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4800" y="46274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85920" y="1916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8960" y="19144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/ O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specificação do Produto (Requisitos Funcionais ou Não Funcionai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ocumento pelo qual estabelece-se o que um software deve fazer. Este documento deve ser elaborado com base nos requisitos do client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É parte do software e também deve ser testad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de ser mais ou menos forma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r definição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Um software possui qualidade enquanto atender às especificaçõ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que é um Bug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Quando o softwar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não faz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algo qu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foi especificad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Quando o softwar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faz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lgo que 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especificação diz que n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faz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Bug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Bug do Ponto Flutuante do Pentium, 199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4195835 / 3145727) * 3145727 – 4195835 = 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 INTEL detectou o problema e não o considerou crític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Custo da reposição dos processadores foi de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US$400 milhões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Bug do Ano 20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ecorrente do uso de 87, 56 para representar 1987 ou 195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stima-se que mais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de US$ 1 bilh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foi gasto na correçã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al a origem dos Bugs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specificaç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roje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Códig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Outros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5%   Ref. Patton, 200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Os erros do código são eliminados, em geral, na compilaçã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Um projeto ruim pode induzir a erros, mas é a falta de entendimento do problema (necessidade do cliente, ou requisitos) a grande causa de erro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 para CQ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recisão [precision]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ornecimento de resultados com muitas casas decimais, com grandeza de detalh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Acuracidade [accurac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ornecimento de resultados certos. Com os detalhes corret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Verificação [verificat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acionada com a confirmação de algo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e que estamos desenvolvendo o sistema corretament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Validação [validat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acionada com a validação de algo, para confirmar que algo está de acordo com o esper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e que estamos desenvolvendo o sistema corre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Revisão [revis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É uma verificação, implica que foi visto uma vez e será re-vis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Inspeção [inspection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É uma verificação/revisão mais detalhada, feita com autoridade (inspe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 para CQ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Garantia da Qualidade [Quality Assurance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ia da qualidade do processo, normalmente tomando providências anteriores ao processo acontecer. Capacitação, seleção de métodos e procediment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ntrole de Qualidade [Quality Control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trola (mede) a qualidade de um produto. Necessário que o produto esteja pro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adotar duas abordagen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limitar-se a aferir o nível de qualidade, dentro de uma escala defini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ser dicotômico: passa / não pass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muda, necessariamente, a qualidade. Apenas a me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é uma ferramenta para a Garantia da Qualidade, através do Controle de Qualidade realizado antes, durante e após o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que o cliente espera, com base nos requisitos formalizados durante a fase de Anális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Medição do Nível de Qualida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ficiência [efficienc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acionada com o desempenho de alg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m engenharia, é realizar uma tarefa com uso otimizado de recursos. Um motor é mais eficiente que outro se consumir menos combustível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ficácia [efficac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lizar algo com sucesso. A solução é eficaz se realmente consegue resolver o problem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está ligada à eficiência da solução.</a:t>
            </a:r>
            <a:br>
              <a:rPr sz="16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Qualidade [qualit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cordância com a expectativa do cliente / usuári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nfiabilidade [reliabilit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se pode confiar. Que dá resultados estáveis, que se pode depender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está ligada à qualidade da solu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Medição do Nível de Qualida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Desempenho [performance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ligada ao tempo para se obter um resultado. Quanto maior o desempenho, mais rápido se obtem o result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Usabilidade [usabil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algo que pode ser usado com facilidade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ortabilidade [portabil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e pode ser transportado para outro lugar. Um software que pode ser executado em outras máquinas. Que pode se portado para outras máquin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mpletitude [completeness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está completo. Atributo de quem não necessita de alteraçõ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rretitude [correctness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está certo. Que oferece resultados esperad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scalabilidade [scalabilit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o sistema em crescer a escala de consumo, levando-se em conta o nível de desempenho e confiabilidade necessári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Medição do Nível de Qualida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Ambiquidade [ambiqu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contrário da clareza. Pode criar confusãon interpret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lareza [clar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que está claro e não cria confusão na sua interpret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nsistência [consistency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e oferece resultados coerentes com os dados fornecid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Manutenabilidade, Manutenência [maintenance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pode ser mantido, que recebe manutenção com facilidade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aspecto de qualida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abilidade [testability]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riedade de quem é testável. Propriedade de quem pode ser test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orque estudarmos Testes de Software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assegurar que um sistema desenvolvido realmente atende aos Requisito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que envolve a disciplina de Testes de Software ? Quais conceitos, técnicas e tecnologias podem ser adotadas para que se estabeleça um processo de testes profissional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tendendo o que o existe no mercado sobre a disciplina de Testes, o que posso utilizar no meu ambiente de trabalho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elevar minha maturidade profissional sobre Qualidade de Software, no que diz respeito ao Controle de Qualidade – traduzindo,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spectos dos Testes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Ferramenta (meio) para garantia da funcionalidade do softwar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ve fazer parte do processo de desenvolvimento de forma peren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Garante a qualidade do produto entregue (CQ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proporciona qua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interfere em todos os aspectos da qua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us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some recursos (aumenta o cust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raz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nterfere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IM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no prazo do desenvolviment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azo é estendido por conta do retrabalho de codificação, durante 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s o esforço na fase de Operação é reduzido, devido à estabilidade do sist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(*)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Axiomas de Testes de Software são afirmações sobre testes, que vamos admitir como válid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rebuchet MS"/>
              </a:rPr>
              <a:t>Obs.: Academicamente, estes axiomas não são aceitos como 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rebuchet MS"/>
              </a:rPr>
              <a:t>(*)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xioma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(cs ou ss) [Do gr. axioma, pelo lat. axioma.]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S. 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1. Filos. Premissa imediatamente evidente que se admite como universalmente verdadeira sem exigência de demonstr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3. Lóg. Proposição que se admite como verdadeira porque dela se podem deduzir as proposições de uma teoria ou de um sistema lógico ou matemátic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Ref. Aurélio, Dicionário Eletrônico, 1994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número de entradas possíveis é muito gran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número de saídas possíveis é muito gran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número de caminhos (internos) é muito gran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do software é usualmente subjetiva, dúbia ou incomple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valiação de alguns aspectos do software é subjetiv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critérios de avaliação podem mudar com o temp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: Um simples entrada de um número inteiro pode receber um grande número de possibilidades: número inteiros, números reais, caracteres, símbolos como “.” “,” “backspace”... (ver o exemplo do Pentium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1301400" y="1395360"/>
            <a:ext cx="651888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É impossível testar um programa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Se uma funcionalidade não é testada, ela pode conter um bu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Não é viável se testar todas as funcionalidad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Assim, deve-se decidir </a:t>
            </a:r>
            <a:r>
              <a:rPr b="1" i="1" lang="pt-BR" sz="1600" spc="-1" strike="noStrike">
                <a:solidFill>
                  <a:srgbClr val="000000"/>
                </a:solidFill>
                <a:latin typeface="Trebuchet MS"/>
              </a:rPr>
              <a:t>o que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Trebuchet MS"/>
              </a:rPr>
              <a:t>quanto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 testar, e </a:t>
            </a:r>
            <a:r>
              <a:rPr b="1" i="1" lang="pt-BR" sz="1600" spc="-1" strike="noStrike">
                <a:solidFill>
                  <a:srgbClr val="000000"/>
                </a:solidFill>
                <a:latin typeface="Trebuchet MS"/>
              </a:rPr>
              <a:t>o que não test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35280" y="3212640"/>
            <a:ext cx="0" cy="312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6180120"/>
            <a:ext cx="534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20" y="32716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Núme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de bu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57360" y="61866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Qtd de Te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6240" y="3360600"/>
            <a:ext cx="4216320" cy="2590920"/>
          </a:xfrm>
          <a:custGeom>
            <a:avLst/>
            <a:gdLst/>
            <a:ahLst/>
            <a:rect l="l" t="t" r="r" b="b"/>
            <a:pathLst>
              <a:path w="2656" h="1632">
                <a:moveTo>
                  <a:pt x="0" y="1632"/>
                </a:moveTo>
                <a:cubicBezTo>
                  <a:pt x="332" y="1632"/>
                  <a:pt x="664" y="1632"/>
                  <a:pt x="1008" y="1488"/>
                </a:cubicBezTo>
                <a:cubicBezTo>
                  <a:pt x="1352" y="1344"/>
                  <a:pt x="1792" y="1016"/>
                  <a:pt x="2064" y="768"/>
                </a:cubicBezTo>
                <a:cubicBezTo>
                  <a:pt x="2336" y="520"/>
                  <a:pt x="2656" y="80"/>
                  <a:pt x="264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9920" y="3703680"/>
            <a:ext cx="4724640" cy="2146320"/>
          </a:xfrm>
          <a:custGeom>
            <a:avLst/>
            <a:gdLst/>
            <a:ahLst/>
            <a:rect l="l" t="t" r="r" b="b"/>
            <a:pathLst>
              <a:path w="2976" h="1352">
                <a:moveTo>
                  <a:pt x="0" y="24"/>
                </a:moveTo>
                <a:cubicBezTo>
                  <a:pt x="80" y="12"/>
                  <a:pt x="160" y="0"/>
                  <a:pt x="240" y="24"/>
                </a:cubicBezTo>
                <a:cubicBezTo>
                  <a:pt x="320" y="48"/>
                  <a:pt x="344" y="80"/>
                  <a:pt x="480" y="168"/>
                </a:cubicBezTo>
                <a:cubicBezTo>
                  <a:pt x="616" y="256"/>
                  <a:pt x="848" y="424"/>
                  <a:pt x="1056" y="552"/>
                </a:cubicBezTo>
                <a:cubicBezTo>
                  <a:pt x="1264" y="680"/>
                  <a:pt x="1504" y="816"/>
                  <a:pt x="1728" y="936"/>
                </a:cubicBezTo>
                <a:cubicBezTo>
                  <a:pt x="1952" y="1056"/>
                  <a:pt x="2192" y="1208"/>
                  <a:pt x="2400" y="1272"/>
                </a:cubicBezTo>
                <a:cubicBezTo>
                  <a:pt x="2608" y="1336"/>
                  <a:pt x="2800" y="1352"/>
                  <a:pt x="2976" y="13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07560" y="331164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usto dos Te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4920" y="5140440"/>
            <a:ext cx="180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(número) Custo 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bugs 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720" y="3476520"/>
            <a:ext cx="142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onto de Ó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de te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5880" y="3997440"/>
            <a:ext cx="843120" cy="108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5113440"/>
            <a:ext cx="3249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7160" y="488484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5440" y="1393920"/>
            <a:ext cx="70383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 Teste de Software é uma relação de custo/benefí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médico não pode afirmar com exatidão que uma pessoa não tem nenhuma doenç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analista de teste de software pode, no máximo, afirmar que não existem indícios de bugs no softwar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 continuar a testar, ou aumentar o critério de procura, pode encontrar outros bug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1115640" y="1395360"/>
            <a:ext cx="68936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s Testes não podem garantir que bugs não exi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bugs tem origem em um entendimento equivocado do probl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te entendimento gera uma “família” d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erro acaba justificando outr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ssim como com insetos, se voce vê uma barata na cozinha, com certeza existem outras (muitas outra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aradoxo do Pesticid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mesmos testes aplicados repetidas vezes podem não detectar falhas que ainda permanecem no program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1353960" y="1395360"/>
            <a:ext cx="64166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nto mais bugs você acha, mais erros exi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56520" y="4808520"/>
            <a:ext cx="54183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s bugs se tornam resistentes aos te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versas razões para não se corrigir os bug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alta de tempo ou de recurs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uca importância do bug, existem soluções alternativas (reset no computad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correção é muito arriscada. Melhor evitar que as condições de erro aconteça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implesmente não vale a pena ou não é um bug de verda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1292040" y="1395360"/>
            <a:ext cx="65372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ão é possível corrigir todos os bugs encont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pode estar errada mesm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sistema deve ser comportar assim mesm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percepção do analista de teste está errada, O sistema é dificil de entender e pode estar cer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 Erros de tradução/ interpreta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m um relatório os dados apareciam incorretos, e se relatou a falha como um defeito no software. Uma investigação mais aprofundada mostrou que estava-se interpretando os campos de forma errada e o software estava correto. O erro estava no relatório e no seu us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pdate user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último usuário que atualizou 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ser update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última data de atualização do documento pelo usuári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ser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data do último uso d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sername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nome do último usuário d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Last update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 data da última atualização do docu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1729800" y="1395360"/>
            <a:ext cx="567000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É difícil dizer que um bug é um bug me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ve-se assumir que as especificações vão mud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ambiente é alterado enquanto o software evolui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1324800" y="1395360"/>
            <a:ext cx="64641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especificação do software nunca está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inguem gosta de ser o portador de más notíci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analista deve contribuir para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relato imparcial e profissional do bug é a melhor polític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relato positivo é sempre bem vindo, comemore um baixo número de bug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1 O programa está muito ruim. Não executa nada do que foi especificado. Já no início do uso do sistema , teclando Arquivo&gt; Abrir... o programa apresenta uma mensagem de erro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2. Bug encontrado na operação Arquivo&gt;Abrir...O programa exibe a mensagem: Nenhum arquivo foi localizada. O programa deveria exibir uma janela de diálogo para seleção de um arquiv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"/>
          <p:cNvSpPr/>
          <p:nvPr/>
        </p:nvSpPr>
        <p:spPr>
          <a:xfrm>
            <a:off x="1524600" y="1395360"/>
            <a:ext cx="606924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s analistas de teste não são muito pop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 e Tópic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presentar conceitos e técnicas sobre TESTES DE SOFTWA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Tópic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rodução: Princípios, limitações, conceitos básicos e terminologia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ste Funcion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ste Estrutur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ste de Caixa Pre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utomação da Atividades de Test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erramentas de Suporte ao teste de software. Exercícios prátic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xiomas de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tividade de teste de software é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uma atividade técnic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exige bons conhecimentos de programa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Organização é essenci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facilidade de expressão escri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exige diplomacia e profissionalism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exige experiênci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s também pode ser diverti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640800" y="1395360"/>
            <a:ext cx="7844760" cy="441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este de Software é uma atividade técnica e exige discip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estões para discussão..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lculadora: 5.000 – 5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É possivel se ter um produto de alta qualidade e baixa confiabilidade ? Se você achar que sim, dê um exemplo. Como testar um problema deste tipo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r que é impossível se testar um programa completamente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297180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s Testes no Processo de Desenvolvimento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Como os testes se enquadram nas abordagens de desenvolvimento de software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Processo de Desenvolvimento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cesso de desenvolvimento de software (independente do modelo)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cumentos de Proje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quisitos do Clien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do sistema, diagramas e fluxos (UML, DFD, ME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pecificação das unidades e dos component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ponentes do Códig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ódigo comentado, e demais component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rquivos de Help, manua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ensagens de aviso e de erro, aplicativos de distribuição e instalação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cones, comandos, outros arquiv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1713240" y="2178360"/>
            <a:ext cx="1569240" cy="52020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ocumento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40720" y="2178360"/>
            <a:ext cx="1413720" cy="52020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e Có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7160" y="1828800"/>
            <a:ext cx="113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áli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6400" y="18288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tr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6800" y="18288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438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91240" y="2438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Modelos de Desenvolvimen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s de Desenvolviment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Caót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em Casca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 em Espira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is modelos de processo são mais utilizados atualment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RUP – Rational Unified Proces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- XP – Extreme Programm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omo cada um trata a disciplina de Teste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Caótic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6240" y="1120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sistema é um produto de uma série de tentativas 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unciona somente para pequenos projet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pode ser introduzido com forma de avaliar erros do produto final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m geral não existem especificações documentad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nalista deve criar os seus próprios critérios e estratégias de teste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2895480" cy="2438280"/>
          </a:xfrm>
          <a:prstGeom prst="irregularSeal2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4724280"/>
            <a:ext cx="914400" cy="9907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5181480"/>
            <a:ext cx="152280" cy="15264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5486400"/>
            <a:ext cx="76320" cy="228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5257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52578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4724280"/>
            <a:ext cx="11430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57150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66520" y="62485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em Cascata – Tradicion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4149720"/>
            <a:ext cx="89917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iste uma grande ênfase na especificação do produ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permite a sobreposição de etapas. Uma etapa precisa terminar para começar a outr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unciona bem para projetos “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bem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comportados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” onde há um razoável entendimento do problema e estabilidade dos requisit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começa muito no final e pode fazer pouca coisa para prevenir erros </a:t>
            </a:r>
            <a:r>
              <a:rPr b="1" lang="pt-BR" sz="1600" spc="-1" strike="noStrike">
                <a:solidFill>
                  <a:srgbClr val="ff0000"/>
                </a:solidFill>
                <a:latin typeface="Trebuchet MS"/>
              </a:rPr>
              <a:t>(GQ x CQ)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692280" y="1197000"/>
            <a:ext cx="1066680" cy="5335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8960" y="1806480"/>
            <a:ext cx="1066680" cy="5335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8280" y="2416320"/>
            <a:ext cx="1066680" cy="533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1280" y="3025800"/>
            <a:ext cx="1447560" cy="5335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45160" y="3711600"/>
            <a:ext cx="1295280" cy="6094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30360" y="134928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7040" y="195912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6360" y="256860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40240" y="3254400"/>
            <a:ext cx="533520" cy="457200"/>
          </a:xfrm>
          <a:custGeom>
            <a:avLst/>
            <a:gdLst>
              <a:gd name="textAreaLeft" fmla="*/ 0 w 533520"/>
              <a:gd name="textAreaRight" fmla="*/ 53388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916130"/>
                <a:lnTo>
                  <a:pt x="9185" y="121"/>
                </a:lnTo>
                <a:arcTo wR="10800" hR="10800" stAng="-5916130" swAng="591613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73960" y="3559320"/>
            <a:ext cx="914400" cy="9903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54840" y="4016520"/>
            <a:ext cx="152640" cy="152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31160" y="4321080"/>
            <a:ext cx="76320" cy="228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delo em Espir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aliza ciclos na forma de uma espiral ond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1. São determinados objetivos, alternativas e restriçõ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2. São identificados e mitigados os risc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3. O escopo atual é desenvolvido e testad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4. Com base no resultado, decide-se se deve haver mais uma volta (ciclo / iteraçã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ada ciclo é uma cascata, mas os avanços são controlados e repetido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O Teste está incorporado a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resultados do teste podem influenciar mais n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RUP e XP baseaiam-se em variações deste model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no RU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90676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76160" indent="-30456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RUP – Rational Unified Process incorpora o teste com rig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76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76160" indent="-304560">
              <a:spcBef>
                <a:spcPts val="40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método é mais formal, rigoroso e apoiado em projeto e modelagem (UML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17440" y="2187720"/>
            <a:ext cx="67676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lato de Bugs (modelo básic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44816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do de Trabalho na Área de Qualidade 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gramado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nalista de Sistem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senvolved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ngenheiro de Softwa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Testador 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Analista de Tes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Engenheiro de Teste de Softwa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Engenheiro de Software especializado em Test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48280" y="4506840"/>
            <a:ext cx="928440" cy="1082880"/>
            <a:chOff x="4148280" y="4506840"/>
            <a:chExt cx="928440" cy="10828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148280" y="4506840"/>
              <a:ext cx="92844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148280" y="4506840"/>
              <a:ext cx="928440" cy="108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04000" y="1125360"/>
            <a:ext cx="1824120" cy="1463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867280" y="4834080"/>
            <a:ext cx="1103400" cy="125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4920" y="2662200"/>
            <a:ext cx="1793880" cy="155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315200" y="4581360"/>
            <a:ext cx="161460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dice de Testes do RU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990720"/>
            <a:ext cx="7315200" cy="54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1.  Introd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2. Cenários para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 Estratégia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 Tipos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1 Teste Fun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2 Teste do Ciclo de Negó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3 Teste da Interface do Usuá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4 Perfil do Desempen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5 Teste de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6 Teste de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7 Teste de 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8 Teste de Segurança e controle de a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9 Teste de Falha e 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10 Teste de Configu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1.11 Teste de 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3.2 Ferram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4.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5. Marcos do 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 Produtos do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1 Modelos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2 Log de T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6.3 Relatório de defe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7 Apêndice: Tarefas de 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no X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XP é um método mais informal, “leve” e menos rigorosos que o RUP, apoiado em incrementos sucessivos de código, sem excesso de documentação e modelage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ntre as 12 práticas sugeridas pelo XP, algumas intimamente relacionam-se com Test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caso extremo do XP em que todo o desenvolvimento é orientado ao teste é o que se chama de 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 Driven Development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, um método novo e ainda pouco difundi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8000" y="4869000"/>
            <a:ext cx="892800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e Software, utilizado como Especificaçã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Sofware garantem a funcionalidade do sist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Software podem até definir o que o sistema precisa fazer (especificação do sistema formatada como descrição de um Test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a abordagem incentivada pelas “Metodologias Ágeis”, tal como o XP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Test Before Code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usa o Teste como forma de especificação 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(!!!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Um grupo (especificador) diz o que quer, descrevendo como testar a funcionalidade solicita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NESTA ABORDAGEM, É TAMBÉM FUNÇÂO DO CLIENTE DEFINIR COMO O SISTEMA SERÁ TESTAD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SE O SISTEMA PASSAR NO TESTE, ESTÁ APROVADO (HOMOLOGADO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DD – Test Driven Design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Teste levado ao extrem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Teste como “fundação” da metodologia de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cesso de desenvolvimento é invertido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se desenvolve o código e depois o teste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imeiro se desenvolve o teste e só então o códig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r passos evolutivos, acrescentam-se funcionalidad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e são testad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 o teste falha, a funcionalidade é corrigi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 o teste passa, acrescenta-se mais funcionalidad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582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197000"/>
            <a:ext cx="9144000" cy="54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Time Coes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requerente faz parte da equipe de desenvolviment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Jogo do Planejament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 C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olocar as funcionalidades de maior valor possível para o client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Versões Pequena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software é entregue em pequenas versões para que o cl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Testes do Cliente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cliente define testes automatizados que são os critérios de aceitação do softwa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Desenvolvimento Orientado a Teste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Antes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da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implementação, é escrito o cenário de tes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Integração Contínua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sistema é compilado diversas vezes por dia e todos os testes unitários são executa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Design Simple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código está, a qualquer momento, na forma mais simples que passe todos os testes.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Nada é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adicionado prevendo necessidades futur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Refactoring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A cada nova funcionalidade a estrutura do código </a:t>
            </a:r>
            <a:r>
              <a:rPr b="0" lang="pt-BR" sz="1400" spc="-1" strike="noStrike">
                <a:solidFill>
                  <a:srgbClr val="800000"/>
                </a:solidFill>
                <a:latin typeface="Trebuchet MS"/>
              </a:rPr>
              <a:t>é trabalhada 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até que ele fique na sua forma mais simpl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Programação em Pares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Todo código de execução e de testes é escrito por dois desenvolvedores no mesmo computa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Revezament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As duplas de programação são revezadas, em média, a cada 2h. O projeto não fica à mercê de uma falha individual de qualquer desenvolve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Propriedade Coletiva do Códig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E equipe como um todo é responsável por cada arquivo de código. Não é preciso pedir autorização para o "dono" daquele arquivo para fazer qualquer alteraçã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Padrão de Código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Todo código é desenvolvido seguindo um padrão definido pela equip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Metáfora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O time usa uma metáfora para poder comunicar-se sobre o problema desconhecido usando termos familia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rebuchet MS"/>
              </a:rPr>
              <a:t>Ritmo Sustentável</a:t>
            </a:r>
            <a:r>
              <a:rPr b="0" lang="en-US" sz="1400" spc="-1" strike="noStrike">
                <a:solidFill>
                  <a:srgbClr val="800000"/>
                </a:solidFill>
                <a:latin typeface="Trebuchet MS"/>
              </a:rPr>
              <a:t> - Fazer horas extras por períodos prolongados é contraproduce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s 12 Práticas do X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990720"/>
            <a:ext cx="876276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stes do Clien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O cliente define testes automatizados que são os critérios de aceitação do software.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 especificação são os próprios testes. No extremo temos o Test Driven De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Quem define os testes é o próprio cliente, minimiza erros de especific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envolvimento Orientado a Test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Antes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mplementação, é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crito o cenário de tes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s módulos são desenvolvidos sob um ambiente de te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s testes devem ser automat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stema é compilado diversas vezes por d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dos os testes unitários são executados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semp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É importante automatizar os testes para poder executá-los continu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gramação em Par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- Todo código de execução e de testes é escrito por dois desenvolvedores no mesmo computad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 software está sendo constantemente revisado por algu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 teste é contínuo com a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5 Práticas do XP ligadas diretamente ao Teste de Softw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entre os processos de Desenvolvimento e Teste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isão Nível 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278160" y="2874600"/>
            <a:ext cx="2571840" cy="711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60880" y="4194000"/>
            <a:ext cx="2630160" cy="92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1"/>
            <a:endCxn id="257" idx="1"/>
          </p:cNvCxnSpPr>
          <p:nvPr/>
        </p:nvCxnSpPr>
        <p:spPr>
          <a:xfrm flipH="1" rot="10800000">
            <a:off x="3250080" y="3229920"/>
            <a:ext cx="18360" cy="1424520"/>
          </a:xfrm>
          <a:prstGeom prst="bentConnector3">
            <a:avLst>
              <a:gd name="adj1" fmla="val -1254000"/>
            </a:avLst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60" name=""/>
          <p:cNvCxnSpPr>
            <a:stCxn id="257" idx="3"/>
            <a:endCxn id="258" idx="3"/>
          </p:cNvCxnSpPr>
          <p:nvPr/>
        </p:nvCxnSpPr>
        <p:spPr>
          <a:xfrm>
            <a:off x="5859000" y="3230280"/>
            <a:ext cx="41760" cy="1424520"/>
          </a:xfrm>
          <a:prstGeom prst="bentConnector3">
            <a:avLst>
              <a:gd name="adj1" fmla="val 635652"/>
            </a:avLst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261" name=""/>
          <p:cNvSpPr/>
          <p:nvPr/>
        </p:nvSpPr>
        <p:spPr>
          <a:xfrm>
            <a:off x="6199200" y="362268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dutos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8520" y="3622680"/>
            <a:ext cx="15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ultados 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is tipos de Testes são de extrema importância para o Controle de Qualidad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Debug de código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Testes realizados pelos próprios desenvolvedor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s de funcionalidade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Testes realizados por uma equipe independente do desenvolvi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entre os processos de Desenvolvimento e Teste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isão Nível 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752480"/>
            <a:ext cx="2067120" cy="841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3124080"/>
            <a:ext cx="2067120" cy="841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4419720"/>
            <a:ext cx="2066760" cy="841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t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59092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9625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1774080"/>
            <a:ext cx="2025720" cy="3660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6000" y="22096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3720" y="1828800"/>
            <a:ext cx="28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dutos do Desenvol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tegração entre os processos de Desenvolvimento e Teste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isão Nível 2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09680" y="1143000"/>
            <a:ext cx="1828800" cy="1371600"/>
            <a:chOff x="2209680" y="1143000"/>
            <a:chExt cx="1828800" cy="1371600"/>
          </a:xfrm>
        </p:grpSpPr>
        <p:sp>
          <p:nvSpPr>
            <p:cNvPr id="276" name=""/>
            <p:cNvSpPr/>
            <p:nvPr/>
          </p:nvSpPr>
          <p:spPr>
            <a:xfrm>
              <a:off x="2209680" y="1143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0280" y="1707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240" y="2185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12400" y="1470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03160" y="2055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96160" y="1341360"/>
            <a:ext cx="2057400" cy="762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170028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51055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066680"/>
            <a:ext cx="1263600" cy="576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os 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96160" y="2427120"/>
            <a:ext cx="2057400" cy="762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6160" y="3522600"/>
            <a:ext cx="2057400" cy="7621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24680" y="2103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96160" y="4640400"/>
            <a:ext cx="2057400" cy="7617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09680" y="2286000"/>
            <a:ext cx="1828800" cy="1371600"/>
            <a:chOff x="2209680" y="2286000"/>
            <a:chExt cx="1828800" cy="1371600"/>
          </a:xfrm>
        </p:grpSpPr>
        <p:sp>
          <p:nvSpPr>
            <p:cNvPr id="290" name=""/>
            <p:cNvSpPr/>
            <p:nvPr/>
          </p:nvSpPr>
          <p:spPr>
            <a:xfrm>
              <a:off x="2209680" y="2286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80280" y="2850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33240" y="3328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12400" y="2613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3160" y="3198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209680" y="3429000"/>
            <a:ext cx="1828800" cy="1371600"/>
            <a:chOff x="2209680" y="3429000"/>
            <a:chExt cx="1828800" cy="1371600"/>
          </a:xfrm>
        </p:grpSpPr>
        <p:sp>
          <p:nvSpPr>
            <p:cNvPr id="296" name=""/>
            <p:cNvSpPr/>
            <p:nvPr/>
          </p:nvSpPr>
          <p:spPr>
            <a:xfrm>
              <a:off x="2209680" y="3429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0280" y="3993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33240" y="4471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12400" y="3756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3160" y="4341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09680" y="4572000"/>
            <a:ext cx="1828800" cy="1371600"/>
            <a:chOff x="2209680" y="4572000"/>
            <a:chExt cx="1828800" cy="1371600"/>
          </a:xfrm>
        </p:grpSpPr>
        <p:sp>
          <p:nvSpPr>
            <p:cNvPr id="302" name=""/>
            <p:cNvSpPr/>
            <p:nvPr/>
          </p:nvSpPr>
          <p:spPr>
            <a:xfrm>
              <a:off x="2209680" y="457200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Planej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80280" y="5136840"/>
              <a:ext cx="705960" cy="329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dos Tes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33240" y="5614920"/>
              <a:ext cx="705240" cy="328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Relato 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Bu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12400" y="4899600"/>
              <a:ext cx="2073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03160" y="5484600"/>
              <a:ext cx="1389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600200" y="1219320"/>
            <a:ext cx="52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1447920"/>
            <a:ext cx="59544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6000" y="1773360"/>
            <a:ext cx="107964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1773360"/>
            <a:ext cx="1727280" cy="27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35280" y="28195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39625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3191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4309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Testes de Caixa Preta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O que são os Testes de Caixa Preta ou Testes Funcionais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al o objetivo do Analista de Testes Software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85920" y="2044440"/>
            <a:ext cx="8353440" cy="3178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. Encontrar bug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2. Analisar a aderência do sistema a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quisitos documentados, sendo que a ident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os bugs é a consequência natural de tal anális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assificação dos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4419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Quanto ao Acesso ao Códig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Sem acesso ao código (Caixa Preta) Testes Funciona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Com acesso ao código (Caixa Branca) Testes Estrutura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Quanto ao Estado do 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Em execução: Dinâmic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Sem execução: Estátic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144440" y="3906720"/>
          <a:ext cx="6840360" cy="2581560"/>
        </p:xfrm>
        <a:graphic>
          <a:graphicData uri="http://schemas.openxmlformats.org/drawingml/2006/table">
            <a:tbl>
              <a:tblPr/>
              <a:tblGrid>
                <a:gridCol w="2280960"/>
                <a:gridCol w="2278080"/>
                <a:gridCol w="228132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triz de Tes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stá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nâ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m acesso ao 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da Especificação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no Modelo UML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uais, folhetos, ícones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do Software executando, Teste de Carga, Teste de St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 acesso ao 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lkthru, Revisão e Inspeção do 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este de Unidade, Teste de Componente, Teste de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71160" y="1125360"/>
            <a:ext cx="838044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este teste, o analista de teste só se interessa pela entrada e pela saí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ão interessa como o sistema processa internamente as entradas para produzir a saí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Estát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fere-se ao teste de algo que está parado, que pode ser examinado e revisado. Por exemplo: a especificação, o model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inâm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Refere-se ao teste de algo que pode ser executado, usado.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r exemplo: o sistema de software em execu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e Caixa Preta (Black Box Testing)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ste Estático: Validação &amp; Verificação da Especificaçã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O que os Testes da Especificação devem levar em conta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avaliar uma especificação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2080" y="1125360"/>
            <a:ext cx="85960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ustificativa Econômica: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rrigir os erros mais cedo é mais barat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(diminui o retrabalh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ustificativa Técnica :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valiar o entendimento do problema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ior fonte d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ustificativa de Prazo :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liminar o retrabalho, prazos menor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ior fonte de er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 tantas justificativas, porque é tão pouco realizado ?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erfil pessoal, falta de qualificaçã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esunção dos projetista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desenvolvedor gosta de desenvolver e não de especifica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já entendi o problema, posso programar agora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essão dos gerente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a Especificaç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98440" y="1125360"/>
            <a:ext cx="8523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analista de teste deve se colocar no papel dos envolvidos no processo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papel do Cliente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(Requisitos) traduz as necessidade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papel lado do Desenvolvedor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qui estão todas as informações que necessárias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papel do Computador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É possível executar esta especificação com um programa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pecificação deve se adaptar aos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drões adotados na empresa (ambiente, indústria, mercad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oftware legado (integração, não redundância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drões de consistência e clareza (não ambiguidade, objetividade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a Especificação, para evitar informações incoeren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2076480"/>
            <a:ext cx="4114800" cy="27208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572000" y="3494160"/>
            <a:ext cx="410364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Questões para discussão..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99880" y="1125360"/>
            <a:ext cx="8523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 base numa Especificação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sistema deve ser compatível com o sistema operacional Windows 95, 98 ou superior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do que o sistema ainda não está pronto, como vocês testarão este Requisito 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sos de Tes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trutura Típica de um caso de test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Identificador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Numeração ou nome do Caso de Tes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Itens Testados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módulo, sistema, un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Especificação de Entrada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Valores de entrada, situação inicial desejad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andos a serem executados, roteir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serem seguido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Saída esperada: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Lista de Valores de saída, situação final desejad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stes Dinâmicos: Validação &amp; Verificação da Aplicação como uma caixa preta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Casos de Teste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dinâmico de caixa preta: Casos de Tes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2400" y="1125360"/>
            <a:ext cx="816444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asos de Testes para passar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verificar que o sistema esta funcionando corretamen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ão executados em primeiro lug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em que o sistema faz o que se propõe (validaçã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Casos de Testes para falha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identificar os limite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Forçar mensagens e controles das situações de erros previs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dentificar bugs não previsto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arantir a segurança e robustez do sistem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"/>
          <p:cNvSpPr/>
          <p:nvPr/>
        </p:nvSpPr>
        <p:spPr>
          <a:xfrm>
            <a:off x="1818000" y="1300680"/>
            <a:ext cx="5495040" cy="6433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Casos de Test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são seqüências de entradas específ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lecionadas para avaliar um sistema de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do de Trabalho na Área de Qualidade 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84160" y="981000"/>
            <a:ext cx="73580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eleção de Casos de Tes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4800" y="1127160"/>
            <a:ext cx="8452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Selecionar os casos de teste é uma da mais importantes tarefas do analista de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mo é impossível se testar TODAS as possibilidades, deve-se lançar mão da equivalência de teste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classificação de equivalência é um processo de racionalmente se reduzir a enorme (virtualmente infinita) possibilidade de casos de teste para um número menor equivalente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ois casos de teste são equivalentes se eles testam a mesma coisa e revelam o mesmo err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se identificar os testes equivalentes deve-se procurar por grupos similares de entradas, saídas similares, operações similares. Estes grupos são classes equivalentes de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rre-se o risco de eliminar testes que poderiam revelar bugs escondidos (Ex INTEL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x. Calculadora 1 + 1  ;  5 + 5  são dois testes equivalente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2 + 3 ;   2 * 3  não são equivalente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 Funcional, Carga, Stress e Regress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7880" y="1125360"/>
            <a:ext cx="8307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Funcional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e que o sistema processa as informações conforme o esperado. Ou seja, mediante à entradas de dados conhecidas, transações conhecidas devolvem dados de retorno (resultados) conhecidos e esperados. Gerelmente relacionado com requisitos funcionai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Carga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o desempenho e estabilidade do sistema, mediante a uma carga esperada de usuários. Adequado para garantir que a aplicação pode suportar a carga transacional para qual foi projetada. Relacionado com requisitos não funcionai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Stress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o desempenho e estabilidade do sistema, mediante a uma carga extrema de usuários. Adequado para identificação do limite da aplicação, ou seja, em que momento o sistema parará de funcionar por motivo de concorrência de recursos (ponto de ruptura)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Teste de Regressão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: Validação de que as funções de um sistema que operavam corretamente antes de uma mudança, continuam operando corretamente após tal mudança. Ou seja, a mudança não acarretou em efeitos colaterais no comportamento do sistem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e o CMM (Exempl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5280" y="1050840"/>
            <a:ext cx="8327520" cy="5473440"/>
            <a:chOff x="395280" y="1050840"/>
            <a:chExt cx="8327520" cy="5473440"/>
          </a:xfrm>
        </p:grpSpPr>
        <p:grpSp>
          <p:nvGrpSpPr>
            <p:cNvPr id="352" name=""/>
            <p:cNvGrpSpPr/>
            <p:nvPr/>
          </p:nvGrpSpPr>
          <p:grpSpPr>
            <a:xfrm>
              <a:off x="399960" y="1055520"/>
              <a:ext cx="8317080" cy="5462640"/>
              <a:chOff x="399960" y="1055520"/>
              <a:chExt cx="8317080" cy="54626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399960" y="1055520"/>
                <a:ext cx="8317080" cy="927720"/>
                <a:chOff x="399960" y="1055520"/>
                <a:chExt cx="8317080" cy="9277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99960" y="1055520"/>
                  <a:ext cx="8317080" cy="9277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99960" y="1055520"/>
                  <a:ext cx="8316720" cy="927360"/>
                  <a:chOff x="399960" y="1055520"/>
                  <a:chExt cx="8316720" cy="9273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465840" y="1055520"/>
                    <a:ext cx="8184240" cy="92736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MM Nível 3, Atividade 5: KPA de ENGENHARIA DE PRODUTO DE SOFTWARE (EP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99960" y="1055520"/>
                    <a:ext cx="8316720" cy="927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399960" y="1983600"/>
                <a:ext cx="8317080" cy="928080"/>
                <a:chOff x="399960" y="1983600"/>
                <a:chExt cx="8317080" cy="9280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99960" y="1983600"/>
                  <a:ext cx="8317080" cy="928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399960" y="1983600"/>
                  <a:ext cx="8316720" cy="927720"/>
                  <a:chOff x="399960" y="1983600"/>
                  <a:chExt cx="8316720" cy="9277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465840" y="1983600"/>
                    <a:ext cx="8184240" cy="92772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este de Software é executado de acordo com processo de software definid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99960" y="1983600"/>
                    <a:ext cx="8316720" cy="92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399960" y="2912040"/>
                <a:ext cx="8317080" cy="3606120"/>
                <a:chOff x="399960" y="2912040"/>
                <a:chExt cx="8317080" cy="3606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65840" y="2912040"/>
                  <a:ext cx="8184600" cy="360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) Os critérios de testes são desenvolvidos e revisados com os clientes e usuários finai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) Métodos efetivos são empregados nos testes de softwar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) A adequação dos testes é determinada por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. O nível do teste executado (teste unitário, teste de integração, teste de sistema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. A estratégia selecionada (caixa-preta, caixa-branca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. A cobertura do teste a ser alcançada (testes de condições, testes de caminhos básic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) Teste de regressão é executado, em cada nível de teste, sempre que estamos executando 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estes ou quando o ambiente mudou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) Os planos de testes, procedimentos de testes e casos de testes são convenientemente mudados, sempre que os requisitos solicitados, modelagem do software ou código forem modifica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9960" y="2912040"/>
                  <a:ext cx="8317080" cy="360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395280" y="1050840"/>
              <a:ext cx="8327520" cy="54734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e o CMM (Exempl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95280" y="1049400"/>
            <a:ext cx="8321400" cy="5474880"/>
            <a:chOff x="395280" y="1049400"/>
            <a:chExt cx="8321400" cy="5474880"/>
          </a:xfrm>
        </p:grpSpPr>
        <p:grpSp>
          <p:nvGrpSpPr>
            <p:cNvPr id="369" name=""/>
            <p:cNvGrpSpPr/>
            <p:nvPr/>
          </p:nvGrpSpPr>
          <p:grpSpPr>
            <a:xfrm>
              <a:off x="399960" y="1053720"/>
              <a:ext cx="8310960" cy="5465160"/>
              <a:chOff x="399960" y="1053720"/>
              <a:chExt cx="8310960" cy="54651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99960" y="1053720"/>
                <a:ext cx="8310960" cy="858960"/>
                <a:chOff x="399960" y="1053720"/>
                <a:chExt cx="8310960" cy="8589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9960" y="1053720"/>
                  <a:ext cx="8310960" cy="8589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399960" y="1053720"/>
                  <a:ext cx="8310600" cy="858600"/>
                  <a:chOff x="399960" y="1053720"/>
                  <a:chExt cx="8310600" cy="8586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465840" y="1053720"/>
                    <a:ext cx="8178120" cy="85860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MM Nível 3, Atividade 7: KPA de ENGENHARIA DE PRODUTO DE SOFTWARE (EPS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99960" y="1053720"/>
                    <a:ext cx="8310600" cy="858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399960" y="1913040"/>
                <a:ext cx="8310960" cy="1073880"/>
                <a:chOff x="399960" y="1913040"/>
                <a:chExt cx="8310960" cy="10738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99960" y="1913040"/>
                  <a:ext cx="8310960" cy="10738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399960" y="1913040"/>
                  <a:ext cx="8310600" cy="1073520"/>
                  <a:chOff x="399960" y="1913040"/>
                  <a:chExt cx="8310600" cy="10735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465840" y="1913040"/>
                    <a:ext cx="8178120" cy="107352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estes de Sistema e Aceitação são planejados e executados para demonstrar que o software satisfaz os requisitos definidos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99960" y="1913040"/>
                    <a:ext cx="8310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399960" y="2987280"/>
                <a:ext cx="8310960" cy="3531600"/>
                <a:chOff x="399960" y="2987280"/>
                <a:chExt cx="8310960" cy="3531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65840" y="2987280"/>
                  <a:ext cx="8178480" cy="35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)  Os testes de sistema e aceitação são documentados num planejamento de teste, onde serão revisados e aprovados pelos clientes e usuários finai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)  Os casos de testes e procedimentos de testes são planejados e preparados por um grupo de teste independente dos desenvolvedores de softwar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)  Os casos de testes e procedimentos de testes são revisados e revisados por clientes e usuários finais, antes do teste ser executad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)  Teste de software deve ser executado junto com “</a:t>
                  </a:r>
                  <a:r>
                    <a:rPr b="0" i="1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oftware-baseline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” e “</a:t>
                  </a:r>
                  <a:r>
                    <a:rPr b="0" i="1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ocumentação-baseline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“ de requisitos de negócio e do  softwar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)   Os problemas identificados durante os testes devem ser documentados e acompanhados até serem encerra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) Os testes devem ser documentados e usados com base para determinar quanto o software esta satisfazendo os requisitos estabelec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99960" y="2987280"/>
                  <a:ext cx="8310960" cy="35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395280" y="1049400"/>
              <a:ext cx="8321400" cy="54748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ntos para Revis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stimativa de esforço para os testes é proporcional ao esforço para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fase de Testes tende a se diluir no processo de desenvolvi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s mais antigos posicionam os Testes no fim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odelos mais recentes trazem os Testes para o meio do cicl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s testes são baseados em Test Cas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nir um Test Case é o maior trabalho do Analista de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Clique para + detalhes"/>
          <p:cNvPicPr/>
          <p:nvPr/>
        </p:nvPicPr>
        <p:blipFill>
          <a:blip r:embed="rId1"/>
          <a:stretch/>
        </p:blipFill>
        <p:spPr>
          <a:xfrm>
            <a:off x="3564000" y="3284640"/>
            <a:ext cx="2232000" cy="19206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stes Dinâmicos: Automação de Testes Funcionais e Testes de Desempenh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Ferramentas para Testes de Caixa Preta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nefícios da Automaç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iclos de testes mais rápidos, confiáveis 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brangen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posta de redução dos custos, prazos e esforços dos testes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l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berando tempo para usuários e analist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ontribuição na liberação de aplicativos para produção com menos falhas, mais estabilidade e maior qualidad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iscos da Automação (Pontos de Falha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pósito da atividade do teste (objetivo x meio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critério para escolha do que automatizar (não deve ser subjetivo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lanejamento dos teste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equipe, que deve ter perfil adequado e receber treinamen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a aplicação da tecnologia (execução dos testes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que Automatizar Testes 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8360" y="1677960"/>
            <a:ext cx="1942920" cy="2513880"/>
            <a:chOff x="468360" y="1677960"/>
            <a:chExt cx="1942920" cy="2513880"/>
          </a:xfrm>
        </p:grpSpPr>
        <p:sp>
          <p:nvSpPr>
            <p:cNvPr id="397" name=""/>
            <p:cNvSpPr/>
            <p:nvPr/>
          </p:nvSpPr>
          <p:spPr>
            <a:xfrm>
              <a:off x="735120" y="3546720"/>
              <a:ext cx="144756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em Tes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468360" y="1677960"/>
              <a:ext cx="1942920" cy="158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5862600" y="1373040"/>
            <a:ext cx="2743200" cy="4670640"/>
            <a:chOff x="5862600" y="1373040"/>
            <a:chExt cx="2743200" cy="4670640"/>
          </a:xfrm>
        </p:grpSpPr>
        <p:sp>
          <p:nvSpPr>
            <p:cNvPr id="400" name=""/>
            <p:cNvSpPr/>
            <p:nvPr/>
          </p:nvSpPr>
          <p:spPr>
            <a:xfrm>
              <a:off x="6014880" y="3546360"/>
              <a:ext cx="2286000" cy="24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este Automat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eloc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petitiv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gram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brang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fi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us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5862600" y="1373040"/>
              <a:ext cx="2743200" cy="22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"/>
          <p:cNvGrpSpPr/>
          <p:nvPr/>
        </p:nvGrpSpPr>
        <p:grpSpPr>
          <a:xfrm>
            <a:off x="3157560" y="1677960"/>
            <a:ext cx="2228760" cy="3625200"/>
            <a:chOff x="3157560" y="1677960"/>
            <a:chExt cx="2228760" cy="3625200"/>
          </a:xfrm>
        </p:grpSpPr>
        <p:sp>
          <p:nvSpPr>
            <p:cNvPr id="403" name=""/>
            <p:cNvSpPr/>
            <p:nvPr/>
          </p:nvSpPr>
          <p:spPr>
            <a:xfrm>
              <a:off x="3386160" y="3546720"/>
              <a:ext cx="1981080" cy="17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este Man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sumo de te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aixa confi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cursos hum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nconsist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3157560" y="1677960"/>
              <a:ext cx="2228760" cy="1735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que devem ser Automatizad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que precisem ser executados a cada nova versão do aplicativo (teste de regressã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que utilizam uma grande variação de dados para a mesma a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carga e stres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do de Trabalho na Área de Qualidade 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31159"/>
          <a:stretch/>
        </p:blipFill>
        <p:spPr>
          <a:xfrm>
            <a:off x="0" y="98100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stes que não devem ser Automatizad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usabilidad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de apenas uma execu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com execução imediat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sem metodologia, baseados na intui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estes sem resultados previsíve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gestão de Critério para Automaç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247680" y="1619280"/>
            <a:ext cx="8610480" cy="4114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19360" y="1846440"/>
            <a:ext cx="228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Universo de possíveis t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42960" y="2381400"/>
            <a:ext cx="7315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93520" y="2838600"/>
            <a:ext cx="33091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Testes</a:t>
            </a: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 “Regressiv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(automatizad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Validam as correçõe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e tudo estiver como antes, continua funcionan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estabilidade e confiabilidade da vers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09800" y="2381400"/>
            <a:ext cx="1752480" cy="2666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06280" y="2865600"/>
            <a:ext cx="15735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Te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Progressiv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Narrow"/>
              </a:rPr>
              <a:t>(manuais e automa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Validam as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ov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 melho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evolução da vers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turidade para Automação de Test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490212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Não há equipe independente de teste; desenvolvedores testam </a:t>
            </a:r>
            <a:r>
              <a:rPr b="0" i="1" lang="pt-BR" sz="1800" spc="-1" strike="noStrike">
                <a:solidFill>
                  <a:srgbClr val="000000"/>
                </a:solidFill>
                <a:latin typeface="Arial Narrow"/>
              </a:rPr>
              <a:t>ad ho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1600" y="408924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, mas sem processo estruturado   (</a:t>
            </a:r>
            <a:r>
              <a:rPr b="0" i="1" lang="pt-BR" sz="1800" spc="-1" strike="noStrike">
                <a:solidFill>
                  <a:srgbClr val="000000"/>
                </a:solidFill>
                <a:latin typeface="Arial Narrow"/>
              </a:rPr>
              <a:t>ad hoc)</a:t>
            </a: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 e sem geração de documentação (Massa de Testes, Casos de Testes e guarda de Evidênci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0" y="3265560"/>
            <a:ext cx="6095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 e com processo definido, porém não institucionalizado. Geração de documentação pa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45268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, com processo definido, executado e gerenciado. Foco em testes funcionais, capacidade para testes de regres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1600" y="163980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Equipe independente para testes, com processo definido, executado e gerenciado. Foco em testes funcionais e testes de desempen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163980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245268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3265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089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90212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571500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95280" y="1639800"/>
            <a:ext cx="0" cy="4075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91520" y="1639800"/>
            <a:ext cx="0" cy="4075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-884160" y="3343320"/>
            <a:ext cx="327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Maturidade do Processo de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I  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        II             III            IV         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Arial Narro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8900000">
            <a:off x="584280" y="5277960"/>
            <a:ext cx="304560" cy="30492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8100000">
            <a:off x="583920" y="1620360"/>
            <a:ext cx="304560" cy="30492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1040" y="1271520"/>
            <a:ext cx="3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680" y="5614920"/>
            <a:ext cx="49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295280"/>
            <a:ext cx="838080" cy="45720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4572000"/>
              <a:gd name="textAreaBottom" fmla="*/ 4531320 h 4572000"/>
            </a:gdLst>
            <a:ahLst/>
            <a:rect l="textAreaLeft" t="textAreaTop" r="textAreaRight" b="textAreaBottom"/>
            <a:pathLst>
              <a:path w="21600" h="117794">
                <a:moveTo>
                  <a:pt x="3600" y="0"/>
                </a:moveTo>
                <a:arcTo wR="3600" hR="3600" stAng="16200000" swAng="-5400000"/>
                <a:lnTo>
                  <a:pt x="0" y="114194"/>
                </a:lnTo>
                <a:arcTo wR="3600" hR="3600" stAng="10800000" swAng="-5400000"/>
                <a:lnTo>
                  <a:pt x="18000" y="117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86200" y="3710160"/>
            <a:ext cx="160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toma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7543440" y="2057040"/>
            <a:ext cx="762120" cy="1600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7543440" y="2895120"/>
            <a:ext cx="762120" cy="762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 Manual ao Automatizad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5880240" y="3078000"/>
            <a:ext cx="251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0120" y="1447920"/>
            <a:ext cx="7924680" cy="205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28720" y="1805040"/>
            <a:ext cx="7238520" cy="1269720"/>
            <a:chOff x="828720" y="1805040"/>
            <a:chExt cx="7238520" cy="1269720"/>
          </a:xfrm>
        </p:grpSpPr>
        <p:sp>
          <p:nvSpPr>
            <p:cNvPr id="443" name=""/>
            <p:cNvSpPr/>
            <p:nvPr/>
          </p:nvSpPr>
          <p:spPr>
            <a:xfrm>
              <a:off x="828720" y="1805040"/>
              <a:ext cx="152388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42840" y="2043360"/>
              <a:ext cx="129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Executar ações dos usuár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52600" y="2224080"/>
              <a:ext cx="3805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33480" y="1805040"/>
              <a:ext cx="152352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7960" y="1951200"/>
              <a:ext cx="1294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guardar o processo se comple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7360" y="2224080"/>
              <a:ext cx="3808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38600" y="1805040"/>
              <a:ext cx="152352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63800" y="1859040"/>
              <a:ext cx="1422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omparar o resultado do teste com o resultado espe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62480" y="2237040"/>
              <a:ext cx="380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43360" y="1805040"/>
              <a:ext cx="1523880" cy="839880"/>
            </a:xfrm>
            <a:prstGeom prst="rect">
              <a:avLst/>
            </a:prstGeom>
            <a:solidFill>
              <a:srgbClr val="99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57840" y="1859040"/>
              <a:ext cx="1294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Repetir todos os passos até toda a aplicação ser verific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" name=""/>
            <p:cNvCxnSpPr>
              <a:stCxn id="452" idx="2"/>
              <a:endCxn id="443" idx="2"/>
            </p:cNvCxnSpPr>
            <p:nvPr/>
          </p:nvCxnSpPr>
          <p:spPr>
            <a:xfrm rot="5400000">
              <a:off x="4446360" y="-211680"/>
              <a:ext cx="2160" cy="5715360"/>
            </a:xfrm>
            <a:prstGeom prst="bentConnector3">
              <a:avLst>
                <a:gd name="adj1" fmla="val 2388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356000" y="5440320"/>
            <a:ext cx="403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8a644"/>
                </a:solidFill>
                <a:latin typeface="Arial"/>
              </a:rPr>
              <a:t>Automat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0120" y="3733920"/>
            <a:ext cx="7924680" cy="2133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28720" y="4091040"/>
            <a:ext cx="5555880" cy="1320120"/>
            <a:chOff x="828720" y="4091040"/>
            <a:chExt cx="5555880" cy="1320120"/>
          </a:xfrm>
        </p:grpSpPr>
        <p:sp>
          <p:nvSpPr>
            <p:cNvPr id="458" name=""/>
            <p:cNvSpPr/>
            <p:nvPr/>
          </p:nvSpPr>
          <p:spPr>
            <a:xfrm>
              <a:off x="828720" y="4092480"/>
              <a:ext cx="1523880" cy="99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42840" y="4404960"/>
              <a:ext cx="129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Gerar scripts automatiz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52600" y="458784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27360" y="4091040"/>
              <a:ext cx="1523880" cy="99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41480" y="4404960"/>
              <a:ext cx="129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dicionar pontos de verific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1240" y="458784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32480" y="4091040"/>
              <a:ext cx="1523880" cy="99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46600" y="4404960"/>
              <a:ext cx="1295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Executar os te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4" idx="3"/>
              <a:endCxn id="464" idx="2"/>
            </p:cNvCxnSpPr>
            <p:nvPr/>
          </p:nvCxnSpPr>
          <p:spPr>
            <a:xfrm flipH="1">
              <a:off x="5393520" y="4587840"/>
              <a:ext cx="762840" cy="495360"/>
            </a:xfrm>
            <a:prstGeom prst="bentConnector4">
              <a:avLst>
                <a:gd name="adj1" fmla="val -29981"/>
                <a:gd name="adj2" fmla="val 166327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32000" y="1844280"/>
            <a:ext cx="5445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KPI’s – Key Performance Indicators para Testes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335400" y="2803320"/>
            <a:ext cx="5486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5f5f5f"/>
                </a:solidFill>
                <a:latin typeface="Trebuchet MS"/>
              </a:rPr>
              <a:t>Uso de MÉTRICAS para visão da eficiência e eficácia do processo de Testes</a:t>
            </a:r>
            <a:endParaRPr b="0" i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038480"/>
            <a:ext cx="1295280" cy="12956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étricas para Determinação da Cobertura (Coverag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109520" y="1503360"/>
            <a:ext cx="7134120" cy="4172040"/>
            <a:chOff x="1109520" y="1503360"/>
            <a:chExt cx="7134120" cy="4172040"/>
          </a:xfrm>
        </p:grpSpPr>
        <p:grpSp>
          <p:nvGrpSpPr>
            <p:cNvPr id="473" name=""/>
            <p:cNvGrpSpPr/>
            <p:nvPr/>
          </p:nvGrpSpPr>
          <p:grpSpPr>
            <a:xfrm>
              <a:off x="3487680" y="2087640"/>
              <a:ext cx="148320" cy="99360"/>
              <a:chOff x="3487680" y="2087640"/>
              <a:chExt cx="148320" cy="99360"/>
            </a:xfrm>
          </p:grpSpPr>
          <p:sp>
            <p:nvSpPr>
              <p:cNvPr id="474" name=""/>
              <p:cNvSpPr/>
              <p:nvPr/>
            </p:nvSpPr>
            <p:spPr>
              <a:xfrm>
                <a:off x="3487680" y="208764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87680" y="218700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933360" y="1503360"/>
              <a:ext cx="4310280" cy="1193400"/>
              <a:chOff x="3933360" y="1503360"/>
              <a:chExt cx="4310280" cy="1193400"/>
            </a:xfrm>
          </p:grpSpPr>
          <p:sp>
            <p:nvSpPr>
              <p:cNvPr id="477" name=""/>
              <p:cNvSpPr/>
              <p:nvPr/>
            </p:nvSpPr>
            <p:spPr>
              <a:xfrm>
                <a:off x="3933360" y="1503360"/>
                <a:ext cx="4310280" cy="1193400"/>
              </a:xfrm>
              <a:prstGeom prst="cube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94280" y="1885320"/>
                <a:ext cx="3554640" cy="298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Requisitos com Testes Planej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76400" y="2258280"/>
                <a:ext cx="2526480" cy="29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Requisit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30360" y="2220840"/>
                <a:ext cx="326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109520" y="3144240"/>
              <a:ext cx="2229480" cy="894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ional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3487680" y="3579120"/>
              <a:ext cx="148320" cy="99360"/>
              <a:chOff x="3487680" y="3579120"/>
              <a:chExt cx="148320" cy="99360"/>
            </a:xfrm>
          </p:grpSpPr>
          <p:sp>
            <p:nvSpPr>
              <p:cNvPr id="483" name=""/>
              <p:cNvSpPr/>
              <p:nvPr/>
            </p:nvSpPr>
            <p:spPr>
              <a:xfrm>
                <a:off x="3487680" y="357912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487680" y="367848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109520" y="1652400"/>
              <a:ext cx="2229480" cy="894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933360" y="2995200"/>
              <a:ext cx="4310280" cy="1193400"/>
              <a:chOff x="3933360" y="2995200"/>
              <a:chExt cx="4310280" cy="1193400"/>
            </a:xfrm>
          </p:grpSpPr>
          <p:sp>
            <p:nvSpPr>
              <p:cNvPr id="487" name=""/>
              <p:cNvSpPr/>
              <p:nvPr/>
            </p:nvSpPr>
            <p:spPr>
              <a:xfrm>
                <a:off x="3933360" y="2995200"/>
                <a:ext cx="4310280" cy="1193400"/>
              </a:xfrm>
              <a:prstGeom prst="cube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45600" y="3437640"/>
                <a:ext cx="4000680" cy="29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Funcionalidades com Testes Planej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24720" y="3778200"/>
                <a:ext cx="2526480" cy="298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Funcionalid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82040" y="3740760"/>
                <a:ext cx="37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1109520" y="4631040"/>
              <a:ext cx="2229480" cy="894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 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rut. Inter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487680" y="5065920"/>
              <a:ext cx="148320" cy="99360"/>
              <a:chOff x="3487680" y="5065920"/>
              <a:chExt cx="148320" cy="99360"/>
            </a:xfrm>
          </p:grpSpPr>
          <p:sp>
            <p:nvSpPr>
              <p:cNvPr id="493" name=""/>
              <p:cNvSpPr/>
              <p:nvPr/>
            </p:nvSpPr>
            <p:spPr>
              <a:xfrm>
                <a:off x="3487680" y="506592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487680" y="5165280"/>
                <a:ext cx="14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933360" y="4482000"/>
              <a:ext cx="4310280" cy="1193400"/>
              <a:chOff x="3933360" y="4482000"/>
              <a:chExt cx="4310280" cy="1193400"/>
            </a:xfrm>
          </p:grpSpPr>
          <p:sp>
            <p:nvSpPr>
              <p:cNvPr id="496" name=""/>
              <p:cNvSpPr/>
              <p:nvPr/>
            </p:nvSpPr>
            <p:spPr>
              <a:xfrm>
                <a:off x="3933360" y="4482000"/>
                <a:ext cx="4310280" cy="1193400"/>
              </a:xfrm>
              <a:prstGeom prst="cube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45600" y="4924440"/>
                <a:ext cx="4000680" cy="29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os Algoritmos cobertos por Test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825080" y="5265000"/>
                <a:ext cx="2526480" cy="298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de Algoritm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82040" y="5227560"/>
                <a:ext cx="37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étricas para Determinação da Cobertura (Coverag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341360" y="1628640"/>
            <a:ext cx="6433920" cy="3511440"/>
            <a:chOff x="1341360" y="1628640"/>
            <a:chExt cx="6433920" cy="3511440"/>
          </a:xfrm>
        </p:grpSpPr>
        <p:sp>
          <p:nvSpPr>
            <p:cNvPr id="502" name=""/>
            <p:cNvSpPr/>
            <p:nvPr/>
          </p:nvSpPr>
          <p:spPr>
            <a:xfrm>
              <a:off x="2785680" y="3308040"/>
              <a:ext cx="1444320" cy="183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85680" y="2086560"/>
              <a:ext cx="1444320" cy="1221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30000" y="3002760"/>
              <a:ext cx="1444320" cy="21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30000" y="2086560"/>
              <a:ext cx="1444320" cy="916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41360" y="2086560"/>
              <a:ext cx="1444320" cy="305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41360" y="2391840"/>
              <a:ext cx="1444320" cy="27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79520" y="254484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7952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35200" y="208656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3520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24200" y="239184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2420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4136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8568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cional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3000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rut. Inte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30960" y="2697120"/>
              <a:ext cx="1444320" cy="24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0960" y="2086560"/>
              <a:ext cx="1444320" cy="610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30960" y="1628640"/>
              <a:ext cx="144432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5720" y="2544840"/>
              <a:ext cx="393840" cy="1374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5160" y="223920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25160" y="3613680"/>
              <a:ext cx="65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étricas para Determinação da Cobertura (Coverage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654200" y="1117440"/>
            <a:ext cx="5823000" cy="1646280"/>
            <a:chOff x="1654200" y="1117440"/>
            <a:chExt cx="5823000" cy="1646280"/>
          </a:xfrm>
        </p:grpSpPr>
        <p:sp>
          <p:nvSpPr>
            <p:cNvPr id="525" name=""/>
            <p:cNvSpPr/>
            <p:nvPr/>
          </p:nvSpPr>
          <p:spPr>
            <a:xfrm>
              <a:off x="4108320" y="1117440"/>
              <a:ext cx="3368880" cy="164628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08320" y="2177280"/>
              <a:ext cx="3089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tal de Casos de Testes Planej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20600" y="1923480"/>
              <a:ext cx="1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20600" y="2060640"/>
              <a:ext cx="1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37200" y="2190960"/>
              <a:ext cx="28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54200" y="1323000"/>
              <a:ext cx="1937520" cy="123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b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26400" y="1782720"/>
              <a:ext cx="28414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tal de Casos de Testes Execu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522520" y="3273480"/>
            <a:ext cx="3543480" cy="2852280"/>
            <a:chOff x="2522520" y="3273480"/>
            <a:chExt cx="3543480" cy="2852280"/>
          </a:xfrm>
        </p:grpSpPr>
        <p:sp>
          <p:nvSpPr>
            <p:cNvPr id="533" name=""/>
            <p:cNvSpPr/>
            <p:nvPr/>
          </p:nvSpPr>
          <p:spPr>
            <a:xfrm>
              <a:off x="2522520" y="3496680"/>
              <a:ext cx="3543480" cy="262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89080" y="3725640"/>
              <a:ext cx="0" cy="17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89080" y="5440320"/>
              <a:ext cx="28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1768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8936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3236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6104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04040" y="5392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31840" y="5554800"/>
              <a:ext cx="571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2160" y="5554800"/>
              <a:ext cx="914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3760" y="555480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94280" y="5554800"/>
              <a:ext cx="571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60960" y="5554800"/>
              <a:ext cx="685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22520" y="3273480"/>
              <a:ext cx="354348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olução da Cobertura da Execução dos Tes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31840" y="4867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22520" y="4753800"/>
              <a:ext cx="47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31840" y="4525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22520" y="4411440"/>
              <a:ext cx="47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31840" y="4182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22520" y="4068360"/>
              <a:ext cx="475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31840" y="38397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22520" y="3725640"/>
              <a:ext cx="475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 %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31840" y="52110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22520" y="5096520"/>
              <a:ext cx="47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208320" y="4867560"/>
              <a:ext cx="5713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779640" y="4411440"/>
              <a:ext cx="571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351320" y="4296600"/>
              <a:ext cx="5713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923000" y="3784680"/>
              <a:ext cx="685800" cy="51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79720" y="5668920"/>
              <a:ext cx="2743200" cy="342720"/>
            </a:xfrm>
            <a:prstGeom prst="rightArrow">
              <a:avLst>
                <a:gd name="adj1" fmla="val 50000"/>
                <a:gd name="adj2" fmla="val 2001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clusã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automação de testes pode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conomizar tempo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elerar o desenvolvimento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elhorar a qualidade de seus produtos 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umentar o alcance e tornar seus testes mais efetivos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...ou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ode desfocar seu esforço de testes 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sbanjar recursos e temp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ral da História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você não testou organizadamente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ão pode garantir que está funcionan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273672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emissa Básic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Teste de Software  x  Garantia de Qualidade de Softw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Testes de Soft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Validam e verificam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se os artefatos desenvolvidos pelo projeto contém erro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sicionado no contexto do Controle da Qualidade do </a:t>
            </a:r>
            <a:r>
              <a:rPr b="0" lang="pt-BR" sz="1800" spc="-1" strike="noStrike">
                <a:solidFill>
                  <a:srgbClr val="ff0000"/>
                </a:solidFill>
                <a:latin typeface="Trebuchet MS"/>
              </a:rPr>
              <a:t>PRODUT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Garantia da Qualidade de Soft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Foco n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prevençã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de erros, através da definição de um processo eficaz para produção de softwar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7648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osicionada no contexto da maturidade do </a:t>
            </a:r>
            <a:r>
              <a:rPr b="0" lang="pt-BR" sz="1800" spc="-1" strike="noStrike">
                <a:solidFill>
                  <a:srgbClr val="ff0000"/>
                </a:solidFill>
                <a:latin typeface="Trebuchet MS"/>
              </a:rPr>
              <a:t>PROCESSO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pelo qual se cria um produt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320" y="2420640"/>
            <a:ext cx="89913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hega 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stes de Software: Termos e Definiçõ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125360"/>
            <a:ext cx="8991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adrão IEEE (1983) IEEE Std 729-1983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Standard Glossary of Software Engineering Terminology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Failure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(falha): Ocorre quando o sistema apresenta algum problem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Fault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defeito): É a causa da falh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57080" indent="-28548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Error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(erro): É uma ação humana que resulta em um defeito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Um defeito pode provocar uma falha no progra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Um defeito pode ser reparado com uma mudança no códig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Não existe defeito se o programa não falh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02:53:35Z</dcterms:created>
  <dc:creator/>
  <dc:description/>
  <dc:language>en-US</dc:language>
  <cp:lastModifiedBy>romarciu</cp:lastModifiedBy>
  <dcterms:modified xsi:type="dcterms:W3CDTF">2007-10-06T10:59:46Z</dcterms:modified>
  <cp:revision>95</cp:revision>
  <dc:subject/>
  <dc:title>Teste de Software</dc:title>
</cp:coreProperties>
</file>