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A814-AFEC-42DE-9F4B-D7D0BD386DE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5004-2269-41EC-AAB4-8FB0FE5A48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3614-8C30-4F62-B548-88CAC5E4FA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C3A8-4A2C-4034-8D64-BA8E6F45988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1FEC-5CAA-44D1-B779-EF285E9E61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669B-511B-4AD7-B89A-3B61DB3516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49CA-A529-4DD8-BF5D-B738E14D86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FE04-B7BD-4E9B-A401-C8364298BFB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E038-907E-4478-999B-EB9D01C88AE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3D13-8517-4D83-B72D-8DC54A0AD98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6AE0-75BB-4CE1-AEFF-55AF800CB24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392F-79F4-4C2A-B369-5500A2CF0D4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eúdo da a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F149-0A42-4D30-8174-9E0526995D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B62A-E0F6-493B-A2DE-C037D94D80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ADF8-9FC5-47A6-8754-CCB981151F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E8F1-1428-43D7-983F-21E02119FC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509D-72FD-41A7-AADC-5FABA6ACA4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9804-6F01-458C-BD22-3018041DC4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1C55-51C9-49A2-A876-3297731DA0A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2F82-6573-4B80-96DA-404BB13DFB3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2F85-CD3F-4EA0-B135-26A3715ACCD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7D62-0E5C-44F9-B691-53590684F9D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D1DB-779D-45C9-A0CE-6F55189229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AA30-AC81-46F5-9794-5E7517106FA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7927-4C25-4E56-92F7-39C6B699A9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F10D-41FF-4928-9FDB-650755FDAB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2D96-43EF-46A2-BE9B-F607C7330E2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6370-41AB-4C9A-8BA3-6BAC0C7E647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9ABE8-7495-4487-ADF0-EE052815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32FB-C861-4F51-858D-1701A3D3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825C-6944-4C36-9134-C0CFD12F4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090D-9222-451C-ACA2-49C1FF1D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5CD1-856B-420B-BC30-9B21C5FE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3D2D-F201-461D-95E2-6A45358A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4736-8F94-439B-88A2-A769B80D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AAA8-1542-4E00-ADC9-7FE7E0B6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7B36-925E-477B-8CB5-0DB39463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BD36-DD01-4101-B6D1-1377878D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0F06-9AC3-48B6-831B-EF3212AF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27C5-0070-423B-B388-AEFA8206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E9D2-FB56-4AA8-BA90-A2A8E0A6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FA7D-960D-4869-88D7-82651B3C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E978-C390-4D67-88E4-D6A17921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D2CD-D846-431A-8DE1-66C45D03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0CE4-9F83-40DD-B45B-F4B6258C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EE21-815A-4276-AE47-3E1519D5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3B586-6273-41E6-B9AA-90F7CBB1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E02F-EB76-49B8-B756-2CDD55B5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4357-BF9F-4933-AB44-0D927A04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ABA5-37E9-461C-9593-FB63F033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57BE-11E0-4713-AD31-9862B34C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D15A-5034-4266-B71B-14DF6B5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BE79-3E5B-4BC0-8F92-066935B3760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CFE8F-B902-4A8C-8F59-8EB88C3289A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ffffff"/>
                </a:solidFill>
                <a:latin typeface="Arial"/>
              </a:rPr>
              <a:t>Análise e Projeto de Sistemas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276720" y="4335480"/>
            <a:ext cx="579096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Arial"/>
              </a:rPr>
              <a:t>Flávio Moreira de Carvalh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49400" y="6021360"/>
            <a:ext cx="5790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pyright ©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niFMU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rso Superior de Tecnologia em Sistemas de Inform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rganização ou Hierarqu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1182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lasse e obje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: entidade tangível, do mundo real, concreto ou não, que poss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ado;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rtament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bem defini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: molde para criação d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o é uma instância 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os objetos de uma mesma classe possuem os mesmos atributos, operações e associa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João da Silva e Maria Madalena são objetos da classe pess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ribu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riedades de uma classe de obj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atributo descreve uma faix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junto de atributos de um objeto em um determinado momento define o estado deste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s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r dos olhos e a estatura de uma pess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is são os atributos de uma pessoa no estado “hiperten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peraçõ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em o comportamento de um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rviços que uma classe possu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 para uma pessoa: andar, fala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capsula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onde os detalhes de funcionamento de um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centiva o baixo acopl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uz o esforço para a modificação, ao permitir a alteração confiável de softw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ando um telefone celula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las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lefone Celu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brica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odel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(CD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úmero de sér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úmero da linh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peraçõ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i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eslig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Disc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dentificar cham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emorizar número telefôn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bje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lefone Motorola V90 55-21-9923-506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a uma classe, contendo atributos e operações, que modele lâmp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e o form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: &lt;nome-da-class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to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nome-do-atribut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ão(õ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&lt;nome-da-operação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ite (instancie) 2 objetos desta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ssoci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exão física ou lógica entre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quivale ao conceito de relacionamento no modelo entidade-relacion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ro e rodas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arros se movimentam sobre rod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r e livro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ivros são escritos por autor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grega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 específico de associ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lacionamento todo-pa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 uma restrição de integridade na associ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.: um objeto telefone celular é constituído por outros objetos: uma antena, um teclado, um viso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ociar o telefone (base) com sua antena, sua bateria e suas tec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undamentos de Orientação a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Heranç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lasse recebe atributos e comportamentos de ou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relação entre classes mãe (superclasse) e filha (subclas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ubclasse modifica, expande ou reduz a super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a criação de classes abstratas (que não possuem objetos instanciáveis) e concretas (que possu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lasse pode possuir herança múltipla, isto é, mais de uma classe-mã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olimorfism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ropriedade que permite que um nome possa significar instâncias de muitas classes, desde que essas sejam relacionadas por uma superclasse. Qualquer objeto representado por tal nome é capaz de responder a um conjunto de operações de forma distinta 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ooch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mesma operação se comporta diferentemente quando aplicada a objetos de classes disti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.: classes de polígonos que implementam uma operação para calcular a á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r um telefone celular com um fix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á-los com u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walkie-talki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 um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od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das as classes abaixo, organizá-las hierarquic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terr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aqu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ículo anfíb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mó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r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unicação entre objet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a comunicação entre objetos se dá por meio de mensa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viar uma mensagem a um objeto significa chamar uma de suas operaçõ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nsagens podem conter parâme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jetos podem ser passados como parâmet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numa luta é necessário classificar os lutadores de acordo com o seu peso, assim, dado os respectivos pesos de duas pessoas, mostrar uma das seguintes classifica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1ª pessoa é mais pesada que a 2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2ª pessoa é mais pesada que a 1ª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bas pessoas possuem o mesmo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ionamento da 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lê o peso da 1ª pesso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lê o peso da 2ª pesso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compara os pesos l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exibe o resul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refa: encontrar as classes e suas associ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: dada uma lista de funcionários de uma empresa com nome, hora e valor a ser pago por hora, emitir a folha de pagamento. O relatório deve conter o nome, horas trabalhadas e salário de cada funcionário da 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cionamento da solu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recupera o nome e hora trabalhada do funcionário d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recupera o valor hora do cargo do funcioná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calcula o salário do funcionário: salário = hora trabalhada * valor hora do car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emite nome, hora trabalhada e salário do funcionário na folha de paga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refa: encontrar as classes e suas associ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rcíci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cubra classes de objetos potenciais em uma Bibliote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e as classes dos seguintes obje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nda, caverna, barraco, garagem, celeiro, casa, arranha-cé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cicleta, veleiro, carro, caminhão, avião, planador, motocicleta, cavalo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go, parafuso, pino, rebit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umo d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oram apresentados os principais conceitos de Orientação a Objetos, os quais serão aprofundados no decorrer do cu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óxim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nguagem Unificada de Modelagem (UM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Objetivos da Orientação a Obje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r domínios usando a própria linguagem do domín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perar as dificuldades dos paradigmas anteriores, como, por ex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paração entre dados e proces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ontinuidade da análise para o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ção abstrata e simplificada de um sistema real, com a qual se pode explicar ou testar o seu comportamento, em seu todo ou em par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onhecimento humano é composto de modelos do mundo real ou de modelos criados a partir de outros existentes em nossas m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mapa é um mode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age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odelar é criar um modelo de uma parcela do mundo real ou a partir de outro mode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um modelo, optamos por representar as características do mundo real que são do nosso interesse, ou seja, que são relevantes para o propósito da modelag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Técnicas de Booch para modelagem orientada a obje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str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um modelo simplificado do problema, enfatizando alguns detalhes e propriedades e suprimindo ou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omposi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dir o problema em partes menores para facilmente encontrar 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ganização ou Hierarqu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e gerenciar as relações entre os componentes que solucionam o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stração (1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o de separar mentalmente um ou mais elementos de uma totalidade complexa, os quais só mentalmente podem subsistir fora dessa totalidade [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urél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sso mental através do qual selecionamos algumas características e propriedades de um conjunto de objetos e excluímos outras não relev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considerar o que não interessa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.: plantas de um projeto de engenharia civ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stração (2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1380960" y="1779480"/>
            <a:ext cx="643104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composiçã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987640" y="2060640"/>
            <a:ext cx="28177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1:49:11Z</dcterms:created>
  <dc:creator/>
  <dc:description/>
  <cp:keywords/>
  <dc:language>en-US</dc:language>
  <cp:lastModifiedBy>FMU</cp:lastModifiedBy>
  <dcterms:modified xsi:type="dcterms:W3CDTF">2008-03-11T23:15:05Z</dcterms:modified>
  <cp:revision>397</cp:revision>
  <dc:subject/>
  <dc:title>Análise e Projeto de Sistemas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