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D926-F8E4-4A42-ABAF-1CD3D25AC8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údo da a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A528-4DB7-4C6F-B678-1DB2B623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9ECAD-B95F-45F5-A485-E2CAB946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7912-8019-461E-9C02-F01109EC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A8B24-11A3-4262-8B3B-B944A35E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CF44-1E34-4274-9010-09E527EC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D1D1-45E3-4949-89D1-D8D5175B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7712-47F9-42CE-80CA-BE069F3F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A2FA-79C7-49B8-8B57-A311226F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5CA2-FB57-4BA8-B065-40CA17EB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39B0-8951-49F4-B065-C88A0BE3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5E7D-F75A-4486-8808-4954B54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5167-3DDB-4BC4-B8AE-4DBADFD1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D581-8E97-4888-9CB4-61B8A144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974C-067C-46B3-97EC-42741F88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145D-7E33-407B-AE66-E3751E47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E710-99D8-4C5F-B704-DB84FA39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FDA4-49A2-4D7B-9D79-B2FE9BCA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7EE83-EF72-4E20-87A5-2D025840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F6299-DC74-4BA5-931C-FF8336AA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B4D2-E88A-4128-A562-4B09A3B5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28B15-3B2C-4380-8185-4E509358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3C52-9C3E-4188-9A38-557330C8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2236-75D1-442C-BA50-DB4C1A6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CA58-2C10-40D5-9D37-102E836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E1A1-F155-4045-887B-48A0214FDD5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AFF-40E9-483B-8CF9-53C08F5170D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uml.org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ffffff"/>
                </a:solidFill>
                <a:latin typeface="Arial"/>
              </a:rPr>
              <a:t>Análise de Sistemas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76720" y="4335480"/>
            <a:ext cx="579096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lávio Moreira de Carvalho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9400" y="6021360"/>
            <a:ext cx="579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©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FMU 200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so Superior de Tecnologia em Sistemas de Inform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esquemáti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572600" cy="4671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03280" y="2997360"/>
            <a:ext cx="2016360" cy="3024000"/>
          </a:xfrm>
          <a:prstGeom prst="rect">
            <a:avLst/>
          </a:prstGeom>
          <a:solidFill>
            <a:srgbClr val="008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2133720"/>
            <a:ext cx="1655640" cy="86364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3429000"/>
            <a:ext cx="720720" cy="1368360"/>
          </a:xfrm>
          <a:prstGeom prst="rect">
            <a:avLst/>
          </a:prstGeom>
          <a:solidFill>
            <a:srgbClr val="008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3429000"/>
            <a:ext cx="1439640" cy="136836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1916280"/>
            <a:ext cx="1656000" cy="108108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5445000"/>
            <a:ext cx="1512720" cy="1152720"/>
          </a:xfrm>
          <a:prstGeom prst="rect">
            <a:avLst/>
          </a:prstGeom>
          <a:solidFill>
            <a:srgbClr val="ff00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Elementos da UM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tação para clas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987640" y="1981080"/>
          <a:ext cx="2890800" cy="3894120"/>
        </p:xfrm>
        <a:graphic>
          <a:graphicData uri="http://schemas.openxmlformats.org/drawingml/2006/table">
            <a:tbl>
              <a:tblPr/>
              <a:tblGrid>
                <a:gridCol w="289080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çõ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cei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Liv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m um sistema de empréstimos de uma bibliote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79280" y="2997360"/>
            <a:ext cx="1447920" cy="3537000"/>
            <a:chOff x="179280" y="2997360"/>
            <a:chExt cx="1447920" cy="3537000"/>
          </a:xfrm>
        </p:grpSpPr>
        <p:grpSp>
          <p:nvGrpSpPr>
            <p:cNvPr id="145" name=""/>
            <p:cNvGrpSpPr/>
            <p:nvPr/>
          </p:nvGrpSpPr>
          <p:grpSpPr>
            <a:xfrm>
              <a:off x="272880" y="4942080"/>
              <a:ext cx="1226880" cy="833400"/>
              <a:chOff x="272880" y="4942080"/>
              <a:chExt cx="1226880" cy="833400"/>
            </a:xfrm>
          </p:grpSpPr>
          <p:sp>
            <p:nvSpPr>
              <p:cNvPr id="146" name=""/>
              <p:cNvSpPr/>
              <p:nvPr/>
            </p:nvSpPr>
            <p:spPr>
              <a:xfrm>
                <a:off x="272880" y="5321520"/>
                <a:ext cx="62640" cy="191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10800000"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7000" y="4942080"/>
                <a:ext cx="1201320" cy="833400"/>
              </a:xfrm>
              <a:custGeom>
                <a:avLst/>
                <a:gdLst/>
                <a:ahLst/>
                <a:rect l="l" t="t" r="r" b="b"/>
                <a:pathLst>
                  <a:path w="3777" h="1969">
                    <a:moveTo>
                      <a:pt x="0" y="1346"/>
                    </a:moveTo>
                    <a:lnTo>
                      <a:pt x="1772" y="1969"/>
                    </a:lnTo>
                    <a:lnTo>
                      <a:pt x="3777" y="695"/>
                    </a:lnTo>
                    <a:lnTo>
                      <a:pt x="3777" y="657"/>
                    </a:lnTo>
                    <a:lnTo>
                      <a:pt x="3683" y="640"/>
                    </a:lnTo>
                    <a:lnTo>
                      <a:pt x="3683" y="375"/>
                    </a:lnTo>
                    <a:lnTo>
                      <a:pt x="3744" y="340"/>
                    </a:lnTo>
                    <a:lnTo>
                      <a:pt x="3744" y="304"/>
                    </a:lnTo>
                    <a:lnTo>
                      <a:pt x="2013" y="0"/>
                    </a:lnTo>
                    <a:lnTo>
                      <a:pt x="0" y="900"/>
                    </a:lnTo>
                    <a:lnTo>
                      <a:pt x="0" y="134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8440" y="5086440"/>
                <a:ext cx="1201320" cy="673560"/>
              </a:xfrm>
              <a:custGeom>
                <a:avLst/>
                <a:gdLst/>
                <a:ahLst/>
                <a:rect l="l" t="t" r="r" b="b"/>
                <a:pathLst>
                  <a:path w="3780" h="1590">
                    <a:moveTo>
                      <a:pt x="0" y="976"/>
                    </a:moveTo>
                    <a:lnTo>
                      <a:pt x="2031" y="0"/>
                    </a:lnTo>
                    <a:lnTo>
                      <a:pt x="3780" y="313"/>
                    </a:lnTo>
                    <a:lnTo>
                      <a:pt x="1769" y="1590"/>
                    </a:lnTo>
                    <a:lnTo>
                      <a:pt x="0" y="976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57880" y="5091840"/>
                <a:ext cx="610200" cy="647640"/>
              </a:xfrm>
              <a:custGeom>
                <a:avLst/>
                <a:gdLst/>
                <a:ahLst/>
                <a:rect l="l" t="t" r="r" b="b"/>
                <a:pathLst>
                  <a:path w="1920" h="1529">
                    <a:moveTo>
                      <a:pt x="0" y="1177"/>
                    </a:moveTo>
                    <a:lnTo>
                      <a:pt x="0" y="1529"/>
                    </a:lnTo>
                    <a:lnTo>
                      <a:pt x="1920" y="317"/>
                    </a:lnTo>
                    <a:lnTo>
                      <a:pt x="1920" y="0"/>
                    </a:lnTo>
                    <a:lnTo>
                      <a:pt x="0" y="117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2120" y="5338440"/>
                <a:ext cx="545400" cy="401040"/>
              </a:xfrm>
              <a:custGeom>
                <a:avLst/>
                <a:gdLst/>
                <a:ahLst/>
                <a:rect l="l" t="t" r="r" b="b"/>
                <a:pathLst>
                  <a:path w="1717" h="948">
                    <a:moveTo>
                      <a:pt x="0" y="0"/>
                    </a:moveTo>
                    <a:lnTo>
                      <a:pt x="0" y="364"/>
                    </a:lnTo>
                    <a:lnTo>
                      <a:pt x="1717" y="948"/>
                    </a:lnTo>
                    <a:lnTo>
                      <a:pt x="1717" y="59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0960" y="5325480"/>
                <a:ext cx="555480" cy="265320"/>
              </a:xfrm>
              <a:custGeom>
                <a:avLst/>
                <a:gdLst/>
                <a:ahLst/>
                <a:rect l="l" t="t" r="r" b="b"/>
                <a:pathLst>
                  <a:path w="1746" h="627">
                    <a:moveTo>
                      <a:pt x="0" y="0"/>
                    </a:moveTo>
                    <a:lnTo>
                      <a:pt x="0" y="18"/>
                    </a:lnTo>
                    <a:lnTo>
                      <a:pt x="1746" y="627"/>
                    </a:lnTo>
                    <a:lnTo>
                      <a:pt x="1746" y="6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60400" y="5220000"/>
                <a:ext cx="637920" cy="555120"/>
              </a:xfrm>
              <a:custGeom>
                <a:avLst/>
                <a:gdLst/>
                <a:ahLst/>
                <a:rect l="l" t="t" r="r" b="b"/>
                <a:pathLst>
                  <a:path w="2009" h="1312">
                    <a:moveTo>
                      <a:pt x="0" y="1277"/>
                    </a:moveTo>
                    <a:lnTo>
                      <a:pt x="0" y="1312"/>
                    </a:lnTo>
                    <a:lnTo>
                      <a:pt x="2009" y="40"/>
                    </a:lnTo>
                    <a:lnTo>
                      <a:pt x="2009" y="0"/>
                    </a:lnTo>
                    <a:lnTo>
                      <a:pt x="0" y="1277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8440" y="4943160"/>
                <a:ext cx="1188720" cy="637560"/>
              </a:xfrm>
              <a:custGeom>
                <a:avLst/>
                <a:gdLst/>
                <a:ahLst/>
                <a:rect l="l" t="t" r="r" b="b"/>
                <a:pathLst>
                  <a:path w="3742" h="1507">
                    <a:moveTo>
                      <a:pt x="0" y="900"/>
                    </a:moveTo>
                    <a:lnTo>
                      <a:pt x="1995" y="0"/>
                    </a:lnTo>
                    <a:lnTo>
                      <a:pt x="3742" y="301"/>
                    </a:lnTo>
                    <a:lnTo>
                      <a:pt x="1757" y="1507"/>
                    </a:lnTo>
                    <a:lnTo>
                      <a:pt x="0" y="90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811800" y="4977360"/>
                <a:ext cx="616680" cy="181080"/>
                <a:chOff x="811800" y="4977360"/>
                <a:chExt cx="616680" cy="1810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55000" y="4977360"/>
                  <a:ext cx="573480" cy="150840"/>
                </a:xfrm>
                <a:custGeom>
                  <a:avLst/>
                  <a:gdLst/>
                  <a:ahLst/>
                  <a:rect l="l" t="t" r="r" b="b"/>
                  <a:pathLst>
                    <a:path w="1801" h="359">
                      <a:moveTo>
                        <a:pt x="61" y="0"/>
                      </a:moveTo>
                      <a:lnTo>
                        <a:pt x="0" y="27"/>
                      </a:lnTo>
                      <a:lnTo>
                        <a:pt x="1764" y="359"/>
                      </a:lnTo>
                      <a:lnTo>
                        <a:pt x="1801" y="337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1800" y="5004000"/>
                  <a:ext cx="580680" cy="154440"/>
                </a:xfrm>
                <a:custGeom>
                  <a:avLst/>
                  <a:gdLst/>
                  <a:ahLst/>
                  <a:rect l="l" t="t" r="r" b="b"/>
                  <a:pathLst>
                    <a:path w="1826" h="366">
                      <a:moveTo>
                        <a:pt x="62" y="0"/>
                      </a:moveTo>
                      <a:lnTo>
                        <a:pt x="0" y="28"/>
                      </a:lnTo>
                      <a:lnTo>
                        <a:pt x="1785" y="366"/>
                      </a:lnTo>
                      <a:lnTo>
                        <a:pt x="1826" y="340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56800" y="5070240"/>
                <a:ext cx="630360" cy="520560"/>
              </a:xfrm>
              <a:custGeom>
                <a:avLst/>
                <a:gdLst/>
                <a:ahLst/>
                <a:rect l="l" t="t" r="r" b="b"/>
                <a:pathLst>
                  <a:path w="1985" h="1229">
                    <a:moveTo>
                      <a:pt x="0" y="1206"/>
                    </a:moveTo>
                    <a:lnTo>
                      <a:pt x="0" y="1229"/>
                    </a:lnTo>
                    <a:lnTo>
                      <a:pt x="1985" y="36"/>
                    </a:lnTo>
                    <a:lnTo>
                      <a:pt x="1985" y="0"/>
                    </a:lnTo>
                    <a:lnTo>
                      <a:pt x="0" y="1206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857520" y="5115960"/>
                <a:ext cx="608760" cy="594000"/>
                <a:chOff x="857520" y="5115960"/>
                <a:chExt cx="608760" cy="5940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857520" y="5115960"/>
                  <a:ext cx="607320" cy="489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857520" y="5137560"/>
                  <a:ext cx="607320" cy="491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857520" y="5160240"/>
                  <a:ext cx="607320" cy="495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857520" y="5181840"/>
                  <a:ext cx="607320" cy="498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H="1">
                  <a:off x="857520" y="5205960"/>
                  <a:ext cx="608760" cy="5040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11040" y="5354640"/>
                <a:ext cx="546480" cy="355320"/>
                <a:chOff x="311040" y="5354640"/>
                <a:chExt cx="546480" cy="3553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11040" y="5354640"/>
                  <a:ext cx="546480" cy="251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11040" y="5377320"/>
                  <a:ext cx="546480" cy="2502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11040" y="5401440"/>
                  <a:ext cx="546480" cy="253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11040" y="5429520"/>
                  <a:ext cx="546480" cy="2512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11040" y="5458320"/>
                  <a:ext cx="546480" cy="2516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179280" y="2997360"/>
              <a:ext cx="1447920" cy="31687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2320" y="616608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undo re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320" y="3141720"/>
              <a:ext cx="1159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nce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omín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441600" y="2997360"/>
            <a:ext cx="2303640" cy="3804480"/>
            <a:chOff x="3441600" y="2997360"/>
            <a:chExt cx="2303640" cy="3804480"/>
          </a:xfrm>
        </p:grpSpPr>
        <p:sp>
          <p:nvSpPr>
            <p:cNvPr id="174" name=""/>
            <p:cNvSpPr/>
            <p:nvPr/>
          </p:nvSpPr>
          <p:spPr>
            <a:xfrm>
              <a:off x="3441600" y="2997360"/>
              <a:ext cx="2303640" cy="3168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4200" y="6159240"/>
              <a:ext cx="137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ode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6320" y="5607000"/>
              <a:ext cx="2016000" cy="4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+getTitulo()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6320" y="5132160"/>
              <a:ext cx="201600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-titulo:St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6320" y="4437000"/>
              <a:ext cx="201600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«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ent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Liv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6320" y="4437000"/>
              <a:ext cx="201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6320" y="513216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86320" y="5607000"/>
              <a:ext cx="20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6320" y="6082920"/>
              <a:ext cx="201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6320" y="4437000"/>
              <a:ext cx="0" cy="164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02320" y="4437000"/>
              <a:ext cx="0" cy="16455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6880" y="314136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asse de proje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889600" y="2997360"/>
            <a:ext cx="3149640" cy="3804480"/>
            <a:chOff x="5889600" y="2997360"/>
            <a:chExt cx="3149640" cy="3804480"/>
          </a:xfrm>
        </p:grpSpPr>
        <p:sp>
          <p:nvSpPr>
            <p:cNvPr id="187" name=""/>
            <p:cNvSpPr/>
            <p:nvPr/>
          </p:nvSpPr>
          <p:spPr>
            <a:xfrm>
              <a:off x="5889600" y="2997360"/>
              <a:ext cx="3149640" cy="31683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9280" y="6159240"/>
              <a:ext cx="184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odelo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mplement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08600" y="3141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asse 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61240" y="3644640"/>
              <a:ext cx="29318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ublic class Livro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rivate String titu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ublic String getTitulo(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turn titul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776240" y="2997360"/>
            <a:ext cx="1521000" cy="3819240"/>
            <a:chOff x="1776240" y="2997360"/>
            <a:chExt cx="1521000" cy="3819240"/>
          </a:xfrm>
        </p:grpSpPr>
        <p:sp>
          <p:nvSpPr>
            <p:cNvPr id="192" name=""/>
            <p:cNvSpPr/>
            <p:nvPr/>
          </p:nvSpPr>
          <p:spPr>
            <a:xfrm>
              <a:off x="1898640" y="4783320"/>
              <a:ext cx="122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148360"/>
              <a:ext cx="12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98640" y="5513400"/>
              <a:ext cx="12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98640" y="5878800"/>
              <a:ext cx="1224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8640" y="478332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22640" y="4783320"/>
              <a:ext cx="0" cy="1095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76240" y="2997360"/>
              <a:ext cx="1521000" cy="316872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74880" y="6174000"/>
              <a:ext cx="1323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Modelo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 Anál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65160" y="3149640"/>
              <a:ext cx="1341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las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náli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98640" y="5513400"/>
              <a:ext cx="12240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98640" y="514836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98640" y="4783320"/>
              <a:ext cx="12240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Liv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ocumentação de clas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1981080"/>
          <a:ext cx="8229600" cy="3980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 da c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onsabilidade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esentar um curso oferecido pelo sistema e manter as informações sobre um conjunto de seções do curso que tenham um assunto comum, requisitos e resum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tulo ou nome do cur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üência de caract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breve descrição do curs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üência de caracte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harelado em Ciências Econôm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725720" cy="13525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788000" y="2205000"/>
            <a:ext cx="914400" cy="609480"/>
          </a:xfrm>
          <a:prstGeom prst="wedgeRectCallout">
            <a:avLst>
              <a:gd name="adj1" fmla="val -74828"/>
              <a:gd name="adj2" fmla="val 113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ó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354640" cy="1352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419640" y="5013360"/>
            <a:ext cx="1439640" cy="609480"/>
          </a:xfrm>
          <a:prstGeom prst="wedgeRectCallout">
            <a:avLst>
              <a:gd name="adj1" fmla="val -27175"/>
              <a:gd name="adj2" fmla="val -180731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32080" y="1989000"/>
            <a:ext cx="5084640" cy="43610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156360" y="2781360"/>
            <a:ext cx="1079640" cy="609480"/>
          </a:xfrm>
          <a:prstGeom prst="wedgeRectCallout">
            <a:avLst>
              <a:gd name="adj1" fmla="val -190000"/>
              <a:gd name="adj2" fmla="val 239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eranç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2205000"/>
            <a:ext cx="1849680" cy="647640"/>
          </a:xfrm>
          <a:prstGeom prst="wedgeRectCallout">
            <a:avLst>
              <a:gd name="adj1" fmla="val 114976"/>
              <a:gd name="adj2" fmla="val -1543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tálico indica classe abstr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Gener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strai classes genéricas a partir de classes com propriedades (atributos e operações) semelh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ndo o modelo de cl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r classes com propriedades semelh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r uma nova classe com as propriedades em com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classes originais tornam-se subclasses da nova classe e herdam as propriedades de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ssociações em comum passam para a superclasse e as outras continuam nas subcla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00080" y="2736720"/>
            <a:ext cx="7172280" cy="3429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7773840" cy="3657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 de gener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94004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600" spc="-1" strike="noStrike">
                <a:solidFill>
                  <a:srgbClr val="ffffff"/>
                </a:solidFill>
                <a:latin typeface="Arial"/>
              </a:rPr>
              <a:t>Linguagem Unificada de Modelagem (UML)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221000"/>
            <a:ext cx="1636920" cy="17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speci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uma ou mais subclasses a partir de uma classe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ando o modelo de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ar propriedades e associações específicas de cada nova sub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ações comuns ficam ligadas à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existir mais de um tipo de especialização com base em diferentes 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42960" y="1700280"/>
            <a:ext cx="5765760" cy="5051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 de especializ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25560" y="3068640"/>
            <a:ext cx="739152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4486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prete o diagrama adicionando rótu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lua a classe Ingrediente no modelo, associando-a adequ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icione dois atributos a ca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ocie a classe Garçom à classe Mesa e reinterprete o dia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iagrama UML de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do, principalmente, para exemplificar Diagramas de Classes complex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stra instâncias das classes com seus atributos (valorados) e relacionamentos ativos (ligaçã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ibe uma “fotografia” do sistema em um dado mo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tação para obje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692360" y="1989000"/>
          <a:ext cx="5255640" cy="2598840"/>
        </p:xfrm>
        <a:graphic>
          <a:graphicData uri="http://schemas.openxmlformats.org/drawingml/2006/table">
            <a:tbl>
              <a:tblPr/>
              <a:tblGrid>
                <a:gridCol w="5255640"/>
              </a:tblGrid>
              <a:tr h="13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dentificação:Nome da clas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ributos = val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 –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1698480"/>
            <a:ext cx="7147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9640" y="1514520"/>
            <a:ext cx="7989840" cy="52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rpretando o diagrama acima, avalie as afirmativas abaixo como verdadeiras ou fals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partamentos fazem parte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mpresa só possui funcionários administradores, contadores e advog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funcionários são lotados nos departamentos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vogado é um tipo de funcionário que se diferencia dos demais pelo atributo O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ministradores são funcionários sem o atributo matrícula, mas com o atributo exclusivo C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ricular é uma operação polimórf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aixo está representado um objeto da classe Cont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03640" y="5300640"/>
          <a:ext cx="2160360" cy="135900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aria:Contad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rícula = 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ário = 1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b = 57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ultiplicida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orno aplicado à 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 quantos objetos de uma classe podem ser associados a um objeto de outr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alor míni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..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valor máxi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= 1..1 = “exatamente 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..1 = “opciona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* = “muitos” = 0.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.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ês mentes pensam melhor que um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440240" cy="50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uto-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se associar a si pró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ignifica, necessariamente, autorefer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, significa que uma instância da classe tem associação com outras instâncias da mesm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26412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ões Múltipl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esenho de duas associações entre classes significa que os objetos estão relacionados duas vez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determinado objeto pode estar vinculado a objetos diferentes por meio de cada assoc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32040" y="3956040"/>
            <a:ext cx="695304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410160" cy="4111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508720" y="2205000"/>
            <a:ext cx="914400" cy="609480"/>
          </a:xfrm>
          <a:prstGeom prst="wedgeRectCallout">
            <a:avLst>
              <a:gd name="adj1" fmla="val -74828"/>
              <a:gd name="adj2" fmla="val 113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003640" y="3645000"/>
            <a:ext cx="1584360" cy="360360"/>
          </a:xfrm>
          <a:prstGeom prst="wedgeRectCallout">
            <a:avLst>
              <a:gd name="adj1" fmla="val -7814"/>
              <a:gd name="adj2" fmla="val 31607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aveg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 de 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ão com a semântica de uma classe, isto é, também pode ter atributos, operações e suas próprias associ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6899400" cy="29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 Qualificad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as para restringir e definir ainda mais o conjunto de instâncias associadas a uma outra instâ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qualificação faz parte da associação, não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, a qualificação reduz a multiplicidade do papel opo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4365720"/>
            <a:ext cx="75693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onceitos de orientação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ibu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capsul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limorf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ões dos concei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57200" y="1981080"/>
          <a:ext cx="8105760" cy="4497480"/>
        </p:xfrm>
        <a:graphic>
          <a:graphicData uri="http://schemas.openxmlformats.org/drawingml/2006/table">
            <a:tbl>
              <a:tblPr/>
              <a:tblGrid>
                <a:gridCol w="2838600"/>
                <a:gridCol w="5267160"/>
              </a:tblGrid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recebe atributos e comportamentos de out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onde os detalhes de funcionamento de um obje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ção todo-par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a mesma operação se comporta diferentemente quando aplicada a objetos de classes distint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ção que define o comportamento de um obje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de para criação de obje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dade tangível, do mundo real, concreta ou não, que possui: identidade, estado e comportamento bem definid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exão física ou lógica entre objet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riedade de um objet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tilizando a UML como notação, encontre as classes, os atributos e as associações na descrição 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Hospital S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tilize rótulos para explicar as associ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gem de Anál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rig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meira metade da década de 90 -&gt; várias propostas de técnicas para modelagem de sistemas segundo o paradigma O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ferentes notações gráficas para modelar uma mesma perspectiva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técnica tinha seus pontos fortes e fra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rige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dade de um padrão para a modelagem de sistemas, aceito e utilizado ampl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forços nesse sentido ® principal liderado pelo “três amigos” (Booch, Rumbaugh e Jacobs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6: surge a UML (Unified Modeling Language) como melhor candidata para ser linguagem “unificador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997: UML aprovada como padrão pelo O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de então, a UML tem tido grande aceitação pela comunidade de desenvolvedores de sist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linguagem ainda em desenvol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mente na versão 2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ar sistemas (não somente software) utilizando conceitos de Orientação a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belecer uma clara ligação entre os modelos conceitual e de implement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icitar os pontos notáveis em sistemas complexos ou de missão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uma linguagem de modelagem passível de uso por pessoas e máqui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acterístic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 de método, de ferramenta, de linguagem de programação e de metodologia de desenvolv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rta conceitos de desenvolvimento de alto nível, bem como conceitos como colaboração,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ramewor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adrões 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compon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tante completa e extensa – aproximadamente 40% da linguagem cobre 98% das necessidades de um projeto com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eitos básic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õe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stram diferentes aspectos do sistema mode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agrama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áficos que descrevem o conteúdo de uma vi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visão pode ser composta por vários diagra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m os conceitos da Orientação a Objetos, como classes, objetos, mensagens e as relações entre esses conce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de modelagem UM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necem comentários, informações ou explicações sobre os elem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 rot="5400000">
            <a:off x="1666440" y="-722160"/>
            <a:ext cx="5904000" cy="858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p-fcarvalho</cp:lastModifiedBy>
  <dcterms:modified xsi:type="dcterms:W3CDTF">2008-03-28T20:34:14Z</dcterms:modified>
  <cp:revision>435</cp:revision>
  <dc:subject/>
  <dc:title>Análise de Sistemas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