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1FBB-10F1-4140-B4EA-CC931C607E9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8837-8652-44F8-ABBA-B5CDCA7C239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FE02-9E81-42A9-B0CA-625F59B035A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38BF-9D86-4ACC-B692-97FDB2D13AA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02DA-E592-49B0-A731-6CCF60F332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8B41-E8F3-46FE-BD8D-8EB20256D49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B232-58D9-47F4-8D69-D0A1B83B137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67CA-F3E9-4923-A1B4-871C6BE70DA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ED9C-A337-4D08-8EAD-16028D5C27B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D55B-B3A1-4E73-A3A3-3B5553C87CB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3117-CB31-40B4-90E4-B69B32D5B2A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38FE-7016-4367-9FF0-DA52452F368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eúdo da a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AAAD-8FFE-4AE7-8411-BD6D4470B45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A206-7A41-4FA6-B16A-9128995B5AB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EDAC-5C83-4E64-8E10-6DF894BAA9A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44FF-7E9A-4FF1-B17C-7872F8793B2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0D89-0BB0-46CF-87EF-61B9A23783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C709-DB93-443A-89A5-1E13C972EA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A458-5847-49BD-880D-4FCBB0ED632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D5A3-D73B-4461-86CF-05169AA6755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CF74-BA7B-4495-A417-298D5BC6B85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41B2-F8FA-43FE-8E0F-89CF0BF9262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6211-2A30-43AE-AEBB-B342EC4FF3A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FCCC-6B15-4FC7-9A80-7CBB7B9B56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75AF-EA7D-4066-A2FA-1658CE4C3C7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C0E7-0414-4BE5-ACBD-C615F8E517D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2D7F-33DF-481D-975A-E4D64BA293F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BA37-3F58-4D0C-A41D-AB01D3FC74B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57C8-1809-4B2F-9614-E06AD7ED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97A99-1EFE-4F24-9FC9-473DF91B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48185-4276-4CE7-8E1E-38ABA7AB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8C573-D433-45EB-85F5-A550DF60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B451-6259-4EA4-BDB3-B6EA005C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832E-7122-4714-925D-BEE1EAAB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23F2-CC37-4F9D-B3DA-6B548BC1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90D6-CE1B-4147-A18E-D33FE5B9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2134-C618-440E-A4B5-4B8DBAB5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A057-9379-4A07-B09D-053D9E27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D302-3E5F-4723-B863-2B97E473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C334B-8A9F-423B-978F-198836F2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5560-8559-481C-A5F4-2DACF7E0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59F5-781C-4342-BF18-47D72AD1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099C-2801-4583-96B2-E7EE7A47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AC23-AE63-46A2-960A-54B0D20B4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E339-F7D3-4F70-93B5-296F5DFA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E36D9-417C-4162-B349-321FB13F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EC59-E130-42D2-A568-ACDB30FD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075BE-F3A3-42A5-B94C-B2672815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54B4C-9027-4F28-9E75-5819236C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D3DDB-45F5-496D-B1B6-D2E66DE5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97DC5-5934-4440-B0A7-14AF9683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3D40-842B-4109-8DEF-9762825C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2E6B-8E75-4905-B7EC-C331E41CBA9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E6E0-D0A6-47BB-A6D0-A7964DF21193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Arial"/>
              </a:rPr>
              <a:t>Análise e Projeto de Sistemas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276720" y="4335480"/>
            <a:ext cx="579096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Flávio Moreira de Carvalh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49400" y="6021360"/>
            <a:ext cx="5790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pyright ©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niFMU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rso Superior de Tecnologia em Sistemas de Inform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rganização ou Hierarqu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1182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lasse e obje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o: entidade tangível, do mundo real, concreto ou não, que possu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;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rtament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bem defini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: molde para criação de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objeto é uma instância d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objetos de uma mesma classe possuem os mesmos atributos, operações e associ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: João da Silva e Maria Madalena são objetos da classe pess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riedades de uma classe de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atributo descreve uma faix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njunto de atributos de um objeto em um determinado momento define o estado deste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s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r dos olhos e a estatura de uma pess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is são os atributos de uma pessoa no estado “hipertens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peraçõ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em o comportamento de um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rviços que uma classe poss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. para uma pessoa: andar, falar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ncapsulam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onde os detalhes de funcionamento de um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centiva o baixo acopl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duz o esforço para a modificação, ao permitir a alteração confiável de softw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ando um telefone celul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as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lefone Celu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bric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ode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(CD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úmero de sér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úmero da linh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peraçõ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ig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slig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sc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dentificar cham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morizar número telefôn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bj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lefone Motorola V90 55-21-9923-506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a uma classe, contendo atributos e operações, que modele lâmp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e o forma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: &lt;nome-da-class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to(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&lt;nome-do-atribu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ão(õ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&lt;nome-da-operaçã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te (instancie) 2 objetos desta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ssoci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exão física ou lógica entre obje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quivale ao conceito de relacionamento no modelo entidade-relacion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ro e rodas: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arros se movimentam sobre rod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r e livro: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livros são escritos por autor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greg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o específico de associ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lacionamento todo-pa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 uma restrição de integridade na associ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.: um objeto telefone celular é constituído por outros objetos: uma antena, um teclado, um visor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ociar o telefone (base) com sua antena, sua bateria e suas tec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undamentos de Orientação a Obje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eranç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 recebe atributos e comportamentos de ou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a relação entre classes mãe (superclasse) e filha (subclas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ubclasse modifica, expande ou reduz a super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a criação de classes abstratas (que não possuem objetos instanciáveis) e concretas (que possu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 pode possuir herança múltipla, isto é, mais de uma classe-mã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olimorfism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opriedade que permite que um nome possa significar instâncias de muitas classes, desde que essas sejam relacionadas por uma superclasse. Qualquer objeto representado por tal nome é capaz de responder a um conjunto de operações de forma distinta 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Booch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mesma operação se comporta diferentemente quando aplicada a objetos de classes disti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.: classes de polígonos que implementam uma operação para calcular a á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arar um telefone celular com um fix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ará-los com u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walkie-talki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u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mod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das as classes abaixo, organizá-las hierarquic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ícu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ículo terr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ículo aqu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ículo anfíb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mó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r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unicação entre obje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da comunicação entre objetos se dá por meio de mensa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viar uma mensagem a um objeto significa chamar uma de suas opera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nsagens podem conter parâme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jetos podem ser passados como parâme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: numa luta é necessário classificar os lutadores de acordo com o seu peso, assim, dado os respectivos pesos de duas pessoas, mostrar uma das seguintes classifica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1ª pessoa é mais pesada que a 2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2ª pessoa é mais pesada que a 1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mbas pessoas possuem o mesmo p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cionamento da solu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lê o peso da 1ª pesso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lê o peso da 2ª pesso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compara os pesos l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exibe o resul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refa: encontrar as classes e suas associ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: dada uma lista de funcionários de uma empresa com nome, hora e valor a ser pago por hora, emitir a folha de pagamento. O relatório deve conter o nome, horas trabalhadas e salário de cada funcionário da 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cionamento da solu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recupera o nome e hora trabalhada do funcionário d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recupera o valor hora do cargo do funcioná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calcula o salário do funcionário: salário = hora trabalhada * valor hora do car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emite nome, hora trabalhada e salário do funcionário na folha de pag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refa: encontrar as classes e suas associ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cubra classes de objetos potenciais em uma Bibliote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e as classes dos seguintes obj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nda, caverna, barraco, garagem, celeiro, casa, arranha-cé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icicleta, veleiro, carro, caminhão, avião, planador, motocicleta, caval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go, parafuso, pino, rebit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sumo da a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oram apresentados os principais conceitos de Orientação a Objetos, os quais serão aprofundados no decorrer do cu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óxima a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nguagem Unificada de Modelagem (UM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bjetivos da Orientação a Obje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ar domínios usando a própria linguagem do domí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perar as dificuldades dos paradigmas anteriores, como, por ex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paração entre dados e proces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ontinuidade da análise para o pro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ção abstrata e simplificada de um sistema real, com a qual se pode explicar ou testar o seu comportamento, em seu todo ou em par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nhecimento humano é composto de modelos do mundo real ou de modelos criados a partir de outros existentes em nossas m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mapa é um model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ag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ar é criar um modelo de uma parcela do mundo real ou a partir de outro mod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um modelo, optamos por representar as características do mundo real que são do nosso interesse, ou seja, que são relevantes para o propósito da modela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écnicas de Booch para modelagem orientada a obje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bstr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um modelo simplificado do problema, enfatizando alguns detalhes e propriedades e suprimindo ou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composi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idir o problema em partes menores para facilmente encontrar a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rganização ou Hierarqu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r e gerenciar as relações entre os componentes que solucionam o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stração (1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o de separar mentalmente um ou mais elementos de uma totalidade complexa, os quais só mentalmente podem subsistir fora dessa totalidade 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urél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esso mental através do qual selecionamos algumas características e propriedades de um conjunto de objetos e excluímos outras não relev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onsiderar o que não interess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.: plantas de um projeto de engenharia ci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stração (2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380960" y="1779480"/>
            <a:ext cx="643104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composi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987640" y="2060640"/>
            <a:ext cx="28177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1:49:11Z</dcterms:created>
  <dc:creator/>
  <dc:description/>
  <cp:keywords/>
  <dc:language>en-US</dc:language>
  <cp:lastModifiedBy>FMU</cp:lastModifiedBy>
  <dcterms:modified xsi:type="dcterms:W3CDTF">2008-03-11T23:15:05Z</dcterms:modified>
  <cp:revision>397</cp:revision>
  <dc:subject/>
  <dc:title>Análise e Projeto de Sistemas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6</vt:r8>
  </property>
  <property fmtid="{D5CDD505-2E9C-101B-9397-08002B2CF9AE}" pid="3" name="Version">
    <vt:r8>3</vt:r8>
  </property>
</Properties>
</file>