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C2C-E72E-4921-87D8-A5C19651EF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D258-37B6-4AB4-B888-8A7EDC2F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717F-9E92-4232-B350-4FDE971C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93655-BBDF-4FFB-BAC1-C339AB5A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9119F-6FED-4AC7-B13D-DAD0E37E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828-5A2D-4834-9DB5-A602244E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5526-93F7-4529-9D17-75EC377F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F123-313C-4128-B98A-4567E2D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95CC-6CA7-4886-846A-9F12ED3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86C1-895C-44DB-BD77-D086ABAA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468E-BF17-4252-8AC6-7EDA7FE1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46A-2477-437D-AA07-5D2481DB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9B11-9C89-4221-8DD4-E3C91B00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A8DF-AE68-46C9-AF0C-50B193AF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B3FE-11B2-4472-A60D-3CF27D3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065F-7403-43A5-8B28-0D3CB1FF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C6D1-C6D7-47D8-90CE-D1016FA9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C627-90F7-422E-916E-6BAAD007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C9BD-1E28-4811-B4BB-C5CDEE96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7359-C2C9-4A6A-939E-BFC8851A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5C862-C26B-4D5F-8B40-DC4789BE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F761-DBFC-42A2-8621-757B8D6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0D44E-3F86-4650-B166-EFE9758C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DA4C-74F3-4083-BE49-A58E6F2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DE8E-A1BF-45DC-B614-04AD1B35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5380-DA3E-44A2-A943-8661A49DDB8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089-7784-46A9-BBF0-981434258BF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Análise de Sistema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esquemát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72600" cy="467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03280" y="2997360"/>
            <a:ext cx="2016360" cy="3024000"/>
          </a:xfrm>
          <a:prstGeom prst="rect">
            <a:avLst/>
          </a:prstGeom>
          <a:solidFill>
            <a:srgbClr val="008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2133720"/>
            <a:ext cx="165564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429000"/>
            <a:ext cx="720720" cy="1368360"/>
          </a:xfrm>
          <a:prstGeom prst="rect">
            <a:avLst/>
          </a:prstGeom>
          <a:solidFill>
            <a:srgbClr val="008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3429000"/>
            <a:ext cx="1439640" cy="136836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1916280"/>
            <a:ext cx="1656000" cy="108108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445000"/>
            <a:ext cx="1512720" cy="115272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Elementos da U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tação para clas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87640" y="1981080"/>
          <a:ext cx="2890800" cy="389412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õ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v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 sistema de empréstimos de uma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79280" y="2997360"/>
            <a:ext cx="1447920" cy="3537000"/>
            <a:chOff x="179280" y="2997360"/>
            <a:chExt cx="1447920" cy="3537000"/>
          </a:xfrm>
        </p:grpSpPr>
        <p:grpSp>
          <p:nvGrpSpPr>
            <p:cNvPr id="145" name=""/>
            <p:cNvGrpSpPr/>
            <p:nvPr/>
          </p:nvGrpSpPr>
          <p:grpSpPr>
            <a:xfrm>
              <a:off x="272880" y="4942080"/>
              <a:ext cx="1226880" cy="833400"/>
              <a:chOff x="272880" y="4942080"/>
              <a:chExt cx="1226880" cy="833400"/>
            </a:xfrm>
          </p:grpSpPr>
          <p:sp>
            <p:nvSpPr>
              <p:cNvPr id="146" name=""/>
              <p:cNvSpPr/>
              <p:nvPr/>
            </p:nvSpPr>
            <p:spPr>
              <a:xfrm>
                <a:off x="272880" y="5321520"/>
                <a:ext cx="6264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7000" y="4942080"/>
                <a:ext cx="1201320" cy="833400"/>
              </a:xfrm>
              <a:custGeom>
                <a:avLst/>
                <a:gdLst/>
                <a:ahLst/>
                <a:rect l="l" t="t" r="r" b="b"/>
                <a:pathLst>
                  <a:path w="3777" h="1969">
                    <a:moveTo>
                      <a:pt x="0" y="1346"/>
                    </a:moveTo>
                    <a:lnTo>
                      <a:pt x="1772" y="1969"/>
                    </a:lnTo>
                    <a:lnTo>
                      <a:pt x="3777" y="695"/>
                    </a:lnTo>
                    <a:lnTo>
                      <a:pt x="3777" y="657"/>
                    </a:lnTo>
                    <a:lnTo>
                      <a:pt x="3683" y="640"/>
                    </a:lnTo>
                    <a:lnTo>
                      <a:pt x="3683" y="375"/>
                    </a:lnTo>
                    <a:lnTo>
                      <a:pt x="3744" y="340"/>
                    </a:lnTo>
                    <a:lnTo>
                      <a:pt x="3744" y="304"/>
                    </a:lnTo>
                    <a:lnTo>
                      <a:pt x="2013" y="0"/>
                    </a:lnTo>
                    <a:lnTo>
                      <a:pt x="0" y="900"/>
                    </a:lnTo>
                    <a:lnTo>
                      <a:pt x="0" y="134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8440" y="5086440"/>
                <a:ext cx="1201320" cy="673560"/>
              </a:xfrm>
              <a:custGeom>
                <a:avLst/>
                <a:gdLst/>
                <a:ahLst/>
                <a:rect l="l" t="t" r="r" b="b"/>
                <a:pathLst>
                  <a:path w="3780" h="1590">
                    <a:moveTo>
                      <a:pt x="0" y="976"/>
                    </a:moveTo>
                    <a:lnTo>
                      <a:pt x="2031" y="0"/>
                    </a:lnTo>
                    <a:lnTo>
                      <a:pt x="3780" y="313"/>
                    </a:lnTo>
                    <a:lnTo>
                      <a:pt x="1769" y="159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7880" y="5091840"/>
                <a:ext cx="610200" cy="647640"/>
              </a:xfrm>
              <a:custGeom>
                <a:avLst/>
                <a:gdLst/>
                <a:ahLst/>
                <a:rect l="l" t="t" r="r" b="b"/>
                <a:pathLst>
                  <a:path w="1920" h="1529">
                    <a:moveTo>
                      <a:pt x="0" y="1177"/>
                    </a:moveTo>
                    <a:lnTo>
                      <a:pt x="0" y="1529"/>
                    </a:lnTo>
                    <a:lnTo>
                      <a:pt x="1920" y="317"/>
                    </a:lnTo>
                    <a:lnTo>
                      <a:pt x="1920" y="0"/>
                    </a:lnTo>
                    <a:lnTo>
                      <a:pt x="0" y="1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2120" y="5338440"/>
                <a:ext cx="545400" cy="401040"/>
              </a:xfrm>
              <a:custGeom>
                <a:avLst/>
                <a:gdLst/>
                <a:ahLst/>
                <a:rect l="l" t="t" r="r" b="b"/>
                <a:pathLst>
                  <a:path w="1717" h="948">
                    <a:moveTo>
                      <a:pt x="0" y="0"/>
                    </a:moveTo>
                    <a:lnTo>
                      <a:pt x="0" y="364"/>
                    </a:lnTo>
                    <a:lnTo>
                      <a:pt x="1717" y="948"/>
                    </a:lnTo>
                    <a:lnTo>
                      <a:pt x="1717" y="5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0960" y="5325480"/>
                <a:ext cx="555480" cy="265320"/>
              </a:xfrm>
              <a:custGeom>
                <a:avLst/>
                <a:gdLst/>
                <a:ahLst/>
                <a:rect l="l" t="t" r="r" b="b"/>
                <a:pathLst>
                  <a:path w="1746" h="627">
                    <a:moveTo>
                      <a:pt x="0" y="0"/>
                    </a:moveTo>
                    <a:lnTo>
                      <a:pt x="0" y="18"/>
                    </a:lnTo>
                    <a:lnTo>
                      <a:pt x="1746" y="627"/>
                    </a:lnTo>
                    <a:lnTo>
                      <a:pt x="1746" y="6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0400" y="5220000"/>
                <a:ext cx="637920" cy="555120"/>
              </a:xfrm>
              <a:custGeom>
                <a:avLst/>
                <a:gdLst/>
                <a:ahLst/>
                <a:rect l="l" t="t" r="r" b="b"/>
                <a:pathLst>
                  <a:path w="2009" h="1312">
                    <a:moveTo>
                      <a:pt x="0" y="1277"/>
                    </a:moveTo>
                    <a:lnTo>
                      <a:pt x="0" y="1312"/>
                    </a:lnTo>
                    <a:lnTo>
                      <a:pt x="2009" y="40"/>
                    </a:lnTo>
                    <a:lnTo>
                      <a:pt x="2009" y="0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8440" y="4943160"/>
                <a:ext cx="1188720" cy="637560"/>
              </a:xfrm>
              <a:custGeom>
                <a:avLst/>
                <a:gdLst/>
                <a:ahLst/>
                <a:rect l="l" t="t" r="r" b="b"/>
                <a:pathLst>
                  <a:path w="3742" h="1507">
                    <a:moveTo>
                      <a:pt x="0" y="900"/>
                    </a:moveTo>
                    <a:lnTo>
                      <a:pt x="1995" y="0"/>
                    </a:lnTo>
                    <a:lnTo>
                      <a:pt x="3742" y="301"/>
                    </a:lnTo>
                    <a:lnTo>
                      <a:pt x="1757" y="1507"/>
                    </a:lnTo>
                    <a:lnTo>
                      <a:pt x="0" y="90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811800" y="4977360"/>
                <a:ext cx="616680" cy="181080"/>
                <a:chOff x="811800" y="4977360"/>
                <a:chExt cx="616680" cy="181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55000" y="4977360"/>
                  <a:ext cx="573480" cy="150840"/>
                </a:xfrm>
                <a:custGeom>
                  <a:avLst/>
                  <a:gdLst/>
                  <a:ahLst/>
                  <a:rect l="l" t="t" r="r" b="b"/>
                  <a:pathLst>
                    <a:path w="1801" h="359">
                      <a:moveTo>
                        <a:pt x="61" y="0"/>
                      </a:moveTo>
                      <a:lnTo>
                        <a:pt x="0" y="27"/>
                      </a:lnTo>
                      <a:lnTo>
                        <a:pt x="1764" y="359"/>
                      </a:lnTo>
                      <a:lnTo>
                        <a:pt x="1801" y="337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1800" y="5004000"/>
                  <a:ext cx="580680" cy="154440"/>
                </a:xfrm>
                <a:custGeom>
                  <a:avLst/>
                  <a:gdLst/>
                  <a:ahLst/>
                  <a:rect l="l" t="t" r="r" b="b"/>
                  <a:pathLst>
                    <a:path w="1826" h="366">
                      <a:moveTo>
                        <a:pt x="62" y="0"/>
                      </a:moveTo>
                      <a:lnTo>
                        <a:pt x="0" y="28"/>
                      </a:lnTo>
                      <a:lnTo>
                        <a:pt x="1785" y="366"/>
                      </a:lnTo>
                      <a:lnTo>
                        <a:pt x="1826" y="34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56800" y="5070240"/>
                <a:ext cx="630360" cy="520560"/>
              </a:xfrm>
              <a:custGeom>
                <a:avLst/>
                <a:gdLst/>
                <a:ahLst/>
                <a:rect l="l" t="t" r="r" b="b"/>
                <a:pathLst>
                  <a:path w="1985" h="1229">
                    <a:moveTo>
                      <a:pt x="0" y="1206"/>
                    </a:moveTo>
                    <a:lnTo>
                      <a:pt x="0" y="1229"/>
                    </a:lnTo>
                    <a:lnTo>
                      <a:pt x="1985" y="36"/>
                    </a:lnTo>
                    <a:lnTo>
                      <a:pt x="1985" y="0"/>
                    </a:lnTo>
                    <a:lnTo>
                      <a:pt x="0" y="120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57520" y="5115960"/>
                <a:ext cx="608760" cy="594000"/>
                <a:chOff x="857520" y="5115960"/>
                <a:chExt cx="608760" cy="5940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857520" y="5115960"/>
                  <a:ext cx="607320" cy="489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857520" y="5137560"/>
                  <a:ext cx="607320" cy="491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857520" y="5160240"/>
                  <a:ext cx="607320" cy="49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57520" y="5181840"/>
                  <a:ext cx="607320" cy="498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857520" y="5205960"/>
                  <a:ext cx="608760" cy="50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11040" y="5354640"/>
                <a:ext cx="546480" cy="355320"/>
                <a:chOff x="311040" y="5354640"/>
                <a:chExt cx="546480" cy="355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11040" y="5354640"/>
                  <a:ext cx="546480" cy="251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11040" y="5377320"/>
                  <a:ext cx="546480" cy="250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1040" y="5401440"/>
                  <a:ext cx="546480" cy="253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1040" y="5429520"/>
                  <a:ext cx="546480" cy="251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5458320"/>
                  <a:ext cx="546480" cy="25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179280" y="2997360"/>
              <a:ext cx="1447920" cy="3168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2320" y="616608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undo 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" y="3141720"/>
              <a:ext cx="115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ce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omín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41600" y="2997360"/>
            <a:ext cx="2303640" cy="3804480"/>
            <a:chOff x="3441600" y="2997360"/>
            <a:chExt cx="2303640" cy="3804480"/>
          </a:xfrm>
        </p:grpSpPr>
        <p:sp>
          <p:nvSpPr>
            <p:cNvPr id="174" name=""/>
            <p:cNvSpPr/>
            <p:nvPr/>
          </p:nvSpPr>
          <p:spPr>
            <a:xfrm>
              <a:off x="3441600" y="2997360"/>
              <a:ext cx="2303640" cy="3168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4200" y="6159240"/>
              <a:ext cx="137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6320" y="5607000"/>
              <a:ext cx="20160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+getTitulo()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6320" y="5132160"/>
              <a:ext cx="2016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-titulo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6320" y="4437000"/>
              <a:ext cx="201600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nt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iv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6320" y="4437000"/>
              <a:ext cx="201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6320" y="513216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6320" y="560700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6320" y="6082920"/>
              <a:ext cx="201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6320" y="4437000"/>
              <a:ext cx="0" cy="164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02320" y="4437000"/>
              <a:ext cx="0" cy="164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6880" y="31413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de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889600" y="2997360"/>
            <a:ext cx="3149640" cy="3804480"/>
            <a:chOff x="5889600" y="2997360"/>
            <a:chExt cx="3149640" cy="3804480"/>
          </a:xfrm>
        </p:grpSpPr>
        <p:sp>
          <p:nvSpPr>
            <p:cNvPr id="187" name=""/>
            <p:cNvSpPr/>
            <p:nvPr/>
          </p:nvSpPr>
          <p:spPr>
            <a:xfrm>
              <a:off x="5889600" y="2997360"/>
              <a:ext cx="3149640" cy="3168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9280" y="6159240"/>
              <a:ext cx="184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8600" y="3141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61240" y="3644640"/>
              <a:ext cx="29318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ublic class Livro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ivate String titu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ublic String getTitul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turn titu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776240" y="2997360"/>
            <a:ext cx="1521000" cy="3819240"/>
            <a:chOff x="1776240" y="2997360"/>
            <a:chExt cx="1521000" cy="3819240"/>
          </a:xfrm>
        </p:grpSpPr>
        <p:sp>
          <p:nvSpPr>
            <p:cNvPr id="192" name=""/>
            <p:cNvSpPr/>
            <p:nvPr/>
          </p:nvSpPr>
          <p:spPr>
            <a:xfrm>
              <a:off x="1898640" y="4783320"/>
              <a:ext cx="122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148360"/>
              <a:ext cx="12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98640" y="5513400"/>
              <a:ext cx="12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98640" y="5878800"/>
              <a:ext cx="122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8640" y="478332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22640" y="478332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6240" y="2997360"/>
              <a:ext cx="1521000" cy="3168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74880" y="617400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 Anál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65160" y="3149640"/>
              <a:ext cx="134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nál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8640" y="5513400"/>
              <a:ext cx="122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98640" y="514836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98640" y="478332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iv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ocumentação de clas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981080"/>
          <a:ext cx="8229600" cy="3980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a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e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r um curso oferecido pelo sistema e manter as informações sobre um conjunto de seções do curso que tenham um assunto comum, requisitos e resu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tulo ou nome do 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üência de caract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breve descrição do curs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üência de caract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harelado em Ciências Econôm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725720" cy="135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205000"/>
            <a:ext cx="914400" cy="609480"/>
          </a:xfrm>
          <a:prstGeom prst="wedgeRectCallout">
            <a:avLst>
              <a:gd name="adj1" fmla="val -74828"/>
              <a:gd name="adj2" fmla="val 113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ó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354640" cy="135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19640" y="5013360"/>
            <a:ext cx="1439640" cy="609480"/>
          </a:xfrm>
          <a:prstGeom prst="wedgeRectCallout">
            <a:avLst>
              <a:gd name="adj1" fmla="val -27175"/>
              <a:gd name="adj2" fmla="val -18073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32080" y="1989000"/>
            <a:ext cx="5084640" cy="4361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56360" y="2781360"/>
            <a:ext cx="1079640" cy="609480"/>
          </a:xfrm>
          <a:prstGeom prst="wedgeRectCallout">
            <a:avLst>
              <a:gd name="adj1" fmla="val -190000"/>
              <a:gd name="adj2" fmla="val 239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2205000"/>
            <a:ext cx="1849680" cy="647640"/>
          </a:xfrm>
          <a:prstGeom prst="wedgeRectCallout">
            <a:avLst>
              <a:gd name="adj1" fmla="val 114976"/>
              <a:gd name="adj2" fmla="val -1543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álico indica classe abst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ener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strai classes genéricas a partir de classes com propriedades (atributos e operações) semelh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ndo o modelo d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classes com propriedades semelh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r uma nova classe com as propriedades em co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lasses originais tornam-se subclasses da nova classe e herdam as propriedades d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ssociações em comum passam para a superclasse e as outras continuam nas sub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00080" y="2736720"/>
            <a:ext cx="7172280" cy="3429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73840" cy="3657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de gener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9400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ff"/>
                </a:solidFill>
                <a:latin typeface="Arial"/>
              </a:rPr>
              <a:t>Linguagem Unificada de Modelagem (UML)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221000"/>
            <a:ext cx="1636920" cy="17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peci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uma ou mais subclasses a partir de uma classe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ndo o modelo de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ar propriedades e associações específicas de cada nov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 comuns ficam ligadas à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existir mais de um tipo de especialização com base em diferentes 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5765760" cy="5051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de especi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25560" y="3068640"/>
            <a:ext cx="739152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48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prete o diagrama adicionando rót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lua a classe Ingrediente no modelo, associando-a adeq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e dois atributos a ca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e a classe Garçom à classe Mesa e reinterprete 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agrama UML d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do, principalmente, para exemplificar Diagramas de Classes complex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 instâncias das classes com seus atributos (valorados) e relacionamentos ativos (ligaçã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be uma “fotografia” do sistema em um dado mo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tação para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92360" y="1989000"/>
          <a:ext cx="5255640" cy="2598840"/>
        </p:xfrm>
        <a:graphic>
          <a:graphicData uri="http://schemas.openxmlformats.org/drawingml/2006/table">
            <a:tbl>
              <a:tblPr/>
              <a:tblGrid>
                <a:gridCol w="525564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entificação:Nome da c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 = val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–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1698480"/>
            <a:ext cx="7147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9640" y="1514520"/>
            <a:ext cx="798984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ndo o diagrama acima, avalie as afirmativas abaixo como verdadeiras ou fals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partamentos fazem parte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mpresa só possui funcionários administradores, contadores e advog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funcionários são lotados nos departamentos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vogado é um tipo de funcionário que se diferencia dos demais pelo atributo O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ministradores são funcionários sem o atributo matrícula, mas com o atributo exclusivo C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ricular é uma operação poli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aixo está representado um objeto da classe Con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03640" y="5300640"/>
          <a:ext cx="2160360" cy="135900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ria:Cont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ícula = 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ário = 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b = 5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ultiplicid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orno aplicado à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 quantos objetos de uma classe podem ser associados a um objeto de outr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or míni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..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or máxi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= 1..1 = “exatamente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..1 = “opcion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 = “muitos” = 0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mentes pensam melhor que um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4402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to-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se associar a si pró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ignifica, necessariamente, auto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, significa que uma instância da classe tem associação com outras instâncias da mesm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264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ões Múltip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esenho de duas associações entre classes significa que os objetos estão relacionados duas ve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determinado objeto pode estar vinculado a objetos diferentes por meio de cada assoc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32040" y="3956040"/>
            <a:ext cx="6953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410160" cy="4111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508720" y="2205000"/>
            <a:ext cx="914400" cy="609480"/>
          </a:xfrm>
          <a:prstGeom prst="wedgeRectCallout">
            <a:avLst>
              <a:gd name="adj1" fmla="val -74828"/>
              <a:gd name="adj2" fmla="val 113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645000"/>
            <a:ext cx="1584360" cy="360360"/>
          </a:xfrm>
          <a:prstGeom prst="wedgeRectCallout">
            <a:avLst>
              <a:gd name="adj1" fmla="val -7814"/>
              <a:gd name="adj2" fmla="val 3160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v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de 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ão com a semântica de uma classe, isto é, também pode ter atributos, operações e suas próprias associ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68994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 Qualific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s para restringir e definir ainda mais o conjunto de instâncias associadas a uma outra inst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qualificação faz parte da associação, não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, a qualificação reduz a multiplicidade do papel op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7569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de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ões dos concei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981080"/>
          <a:ext cx="8105760" cy="4497480"/>
        </p:xfrm>
        <a:graphic>
          <a:graphicData uri="http://schemas.openxmlformats.org/drawingml/2006/table">
            <a:tbl>
              <a:tblPr/>
              <a:tblGrid>
                <a:gridCol w="2838600"/>
                <a:gridCol w="526716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recebe atributos e comportamentos de out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nde os detalhes de funcionamento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ção todo-par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mesma operação se comporta diferentemente quando aplicada a objetos de classes distin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ção que define o comportamento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e para criação de obje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 tangível, do mundo real, concreta ou não, que possui: identidade, estado e comportamento bem defin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ão física ou lógica entre obje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iedade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ando a UML como notação, encontre as classes, os atributos e as associações na descrição 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Hospital S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e rótulos para explicar as associ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gem de Anál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rig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metade da década de 90 -&gt; várias propostas de técnicas para modelagem de sistemas segundo o paradigma O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s notações gráficas para modelar uma mesma perspectiva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técnica tinha seus pontos fortes e fr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rig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um padrão para a modelagem de sistemas, aceito e utilizado ampl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forços nesse sentido ® principal liderado pelo “três amigos” (Booch, Rumbaugh e Jacobs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6: surge a UML (Unified Modeling Language) como melhor candidata para ser linguagem “unificad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7: UML aprovada como padrão pelo O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então, a UML tem tido grande aceitação pela comunidade de desenvolvedores de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linguagem ainda em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mente na versão 2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ar sistemas (não somente software) utilizando conceitos de Orientação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er uma clara ligação entre os modelos conceitual e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itar os pontos notáveis em sistemas complexos ou de missã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uma linguagem de modelagem passível de uso por pessoas 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acteríst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método, de ferramenta, de linguagem de programação e de metodologia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rta conceitos de desenvolvimento de alto nível, bem como conceitos como colaboração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adrõe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tante completa e extensa – aproximadamente 40% da linguagem cobre 98% das necessidades de um projeto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bás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õe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stram diferentes aspectos do sistema mode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áficos que descrevem o conteúdo de uma 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isão pode ser composta por vários dia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m os conceitos da Orientação a Objetos, como classes, objetos, mensagens e as relações entre esses conce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necem comentários, informações ou explicações sobre o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5400000">
            <a:off x="1666440" y="-722160"/>
            <a:ext cx="5904000" cy="85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p-fcarvalho</cp:lastModifiedBy>
  <dcterms:modified xsi:type="dcterms:W3CDTF">2008-03-28T20:34:14Z</dcterms:modified>
  <cp:revision>435</cp:revision>
  <dc:subject/>
  <dc:title>Análise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