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604-F4BA-4679-8AA7-F4A240DBBA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DFB-9A52-4A69-AEEF-BC7C0A973E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F96-C73E-44FC-AFBB-2472E707D4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B77B-7B37-4B1E-9D2F-07BAD3FDD1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0527-BC38-492D-B19E-8B66A0975D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6C70-DE09-40A7-8E97-6A9D223593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58A-839D-4912-A9DD-C5FB232812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101-D6FD-4461-B87B-58B334453A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EA2-481A-4B32-8BA6-CF077930BD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2EF9-2A59-473B-8F0D-AF46DFB35B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B8C9-1537-4C48-AE23-87635B63BB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227D-7D3B-4E8D-AB62-FA04026141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B5BD-B982-4451-88BC-9D0F95E133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F68-DE5F-4D82-A828-133025C103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FC3-6BB1-4D1D-A8EF-430DECD4D3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B6A-EFB3-4D82-A641-9497E98D92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965-3E85-4E51-A680-2AB634F0D4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139-CF04-4F35-83F7-5DC10E4859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BFA-0BB5-406E-89FC-2DBE78279E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23E1-D19D-45D2-8FF5-0C9FCD7962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5F9-573E-4D21-84D0-7E97924542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62E-DCBA-4B17-8AA4-9002EAE4B8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087-76E0-4EE6-AA00-C38EC890B5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1B80-CE39-44DA-B8AA-C178206716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9C5-B510-4D29-B7A7-5489022CBB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FEA-FA8B-4DDA-9154-C5BD209923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859-9F4A-4781-A6AA-D4DF6DA955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918-2112-4CFB-885D-1C6808E50C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14BE-BA54-42BE-A4B3-25AE9067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BF5A-A8E8-4368-9A2D-EFFD50F9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EE20-B08D-49AD-802D-9D137481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7B08-581B-468E-B4FE-416DFFB4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342E-AA90-4E44-8F42-7E09472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6D83-26D7-4332-9A6B-50D1E6E9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ABD-CD33-45DC-A3E3-0B075E0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7EC-9D90-40FB-82A5-1212AE0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971-763B-4D98-AE41-FDE02DE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66EB-D6EE-4005-AE51-AFE0E9A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B4B-69C6-4660-BA52-A1A27FF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C2FF-CBE6-4AA1-8979-DBC9A66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6C6-0416-4754-B71C-E45A017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4AF-482F-40A2-A579-45A8A98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3911-4209-487A-B602-00D4E91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DA2A-B896-4BA5-8ACC-FF713CA1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4ABA-2319-4FED-8AB8-D1378C86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EB1D-65B0-4612-A786-A8E36C8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23B5-71EB-43B3-9274-A510DA9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C8EF-A911-4798-9244-1BBF224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D2AA-E421-4C61-A996-CD16E69D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51FA-EE2A-432B-9743-E4E48FE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F907-4478-42CF-963D-1807F19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C4A5-AC7F-4CE8-AEBD-4447F7E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DF2-2F55-41C8-8A5D-7132740C5DE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59C-29E3-4602-920D-1974AAEC877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"/>
              </a:rPr>
              <a:t>Análise e Projeto de Sistemas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ganização ou Hierarqu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118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e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: entidade tangível, do mundo real, concreto ou não, que poss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rtamen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em defini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molde para criaçã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o é uma instância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os de uma mesma classe possuem os mesmos atributos, operações e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João da Silva e Maria Madalena são objetos da classe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s de uma classe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tributo descreve uma faix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atributos de um objeto em um determinado momento define o estado d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s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os olhos e a estatura de um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os atributos de uma pessoa no estado “hiperten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raçõ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m o comport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viços que uma classe poss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 para uma pessoa: andar, fala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nde os detalhes de funcion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a o baixo acopl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 o esforço para a modificação, ao permitir a alteração confiável de softw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ndo um telefone cel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bric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(CD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e sé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a lin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era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r cham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morizar número telefô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Motorola V90 55-21-9923-50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a uma classe, contendo atributos e operações, que modele lâmp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&lt;nome-da-clas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o-atribu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(õ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a-operaçã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e (instancie) 2 objetos dest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exão física ou lógica entre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vale ao conceito de relacionamento no modelo entidade-relacion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e roda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arros se movimentam sobre ro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 e livr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ivros são escritos por au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específico de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cionamento todo-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uma restrição de integridade na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 um objeto telefone celular é constituído por outros objetos: uma antena, um teclado, um viso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ociar o telefone (base) com sua antena, sua bateria e suas tec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e Orientação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 recebe atributos e comportamentos de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relação entre classes mãe (superclasse) e filha (subcla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ubclasse modifica, expande ou reduz 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 criação de classes abstratas (que não possuem objetos instanciáveis) e concretas (que possu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herança múltipla, isto é, mais de uma classe-mã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priedade que permite que um nome possa significar instâncias de muitas classes, desde que essas sejam relacionadas por uma superclasse. Qualquer objeto representado por tal nome é capaz de responder a um conjunto de operações de forma distinta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sma operação se comporta diferentemente quando aplicada a objetos de classe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classes de polígonos que implementam uma operação para calcular a á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r um telefone celular com um fix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á-los com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walkie-talki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das as classes abaixo, organizá-las hierarqu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terr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qu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nfí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ó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unicação entr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comunicação entre objetos se dá por meio de mens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ar uma mensagem a um objeto significa chamar uma de suas oper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nsagens podem conter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podem ser passados como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numa luta é necessário classificar os lutadores de acordo com o seu peso, assim, dado os respectivos pesos de duas pessoas, mostrar uma das seguintes classific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1ª pessoa é mais pesada que a 2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2ª pessoa é mais pesada que a 1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as pessoas possuem o mesmo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1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2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ompara os pesos l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xibe o resul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dada uma lista de funcionários de uma empresa com nome, hora e valor a ser pago por hora, emitir a folha de pagamento. O relatório deve conter o nome, horas trabalhadas e salário de cada funcionário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nome e hora trabalhada do funcionário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valor hora do cargo do funcion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alcula o salário do funcionário: salário = hora trabalhada * valor hora do c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mite nome, hora trabalhada e salário do funcionário na folha de pag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ubra classes de objetos potenciais em uma Bibliote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e as classes dos seguinte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a, caverna, barraco, garagem, celeiro, casa, arranha-cé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cicleta, veleiro, carro, caminhão, avião, planador, motocicleta, caval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go, parafuso, pino, rebi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am apresentados os principais conceitos de Orientação a Objetos, os quais serão aprofundados no decorrer do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Unificada de Modelagem (UM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 da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domínios usando a própria linguagem do domí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erar as dificuldades dos paradigmas anteriores, como, por 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paração entre dados 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tinuidade da análise para 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abstrata e simplificada de um sistema real, com a qual se pode explicar ou testar o seu comportamento, em seu todo ou em p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hecimento humano é composto de modelos do mundo real ou de modelos criados a partir de outros existentes em nossas m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apa é um mode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g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é criar um modelo de uma parcela do mundo real ou a partir de outro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modelo, optamos por representar as características do mundo real que são do nosso interesse, ou seja, que são relevantes para o propósito da model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écnicas de Booch para modelagem orientada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modelo simplificado do problema, enfatizando alguns detalhes e propriedades e suprimindo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om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r o problema em partes menores para facilmente encontrar 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ção ou Hierarqu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e gerenciar as relações entre os componentes que solucionam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 de separar mentalmente um ou mais elementos de uma totalidade complexa, os quais só mentalmente podem subsistir fora dessa totalidade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urél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 mental através do qual selecionamos algumas características e propriedades de um conjunto de objetos e excluímos outras não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siderar o que não interess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plantas de um projeto de engenharia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380960" y="1779480"/>
            <a:ext cx="6431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composi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817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3:15:05Z</dcterms:modified>
  <cp:revision>397</cp:revision>
  <dc:subject/>
  <dc:title>Análise e Projeto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