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0725-6976-4E52-9A74-38906957F9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413F-FE5D-4681-8EF6-9355993C97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4BDE-DE66-4E0B-9B4A-9A2CD55F65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AF43-9705-4367-B224-061C1E9DFA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F777-78BF-4BF2-AFAC-55BA41C484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D7FC-8F47-44EA-8DB6-62C3AA9E22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BE11-6CAE-4026-95BD-A8B7E5C220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2873-3CDD-479B-83BC-17043D54CB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16EB-EE29-488D-B95C-304FF0D176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B1B7-36C1-495A-8178-B9DE917EBB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E4EC-44F8-4D0D-83C9-0C1279CDA4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9CE8-F58F-40EA-9E22-9FD272A35C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eúdo da a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81F7-A6BE-48A9-A404-334AE3D788A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A5EE-D5C2-489B-8193-A0F02F7CDF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DD6-B310-42E7-9B7F-F2C8708300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86EE-2ABB-4378-A699-325D502B03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8E92-B4FC-44B4-962A-CAEF280786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E81F-A014-46C7-8AB0-B1F3910047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505-05C1-462D-9215-ACFA5C77E4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C860-FFF9-43CE-A6DA-7A8DE84B9E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25FC-5541-450C-AA2C-640B2B11655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D621-4401-43F0-A503-D4D7822A62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0F9C-4447-455F-A406-AB7EF8C05A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E951-A3FB-4727-ACBA-A250379867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AE4D-18FF-4080-9A26-08C8C33426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1B80-6D1F-47AB-94F7-EE35541712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40CA-B4E5-4CDF-8794-2F2DCE8247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E6D1-1F04-43D8-9090-2F88B2BEA2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2189-E84B-407E-91A0-0F922273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6492-2F25-42BF-814D-28FDC219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2499-1292-41F2-A4A1-62418E34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BF78-40D7-4BC8-9B54-0899B8A1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6103-2501-4490-BB11-326207B4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D349-6428-42F6-9C64-B5715AFC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740F-A10C-4815-B39C-EA4D381F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3067-9B0E-4976-83DC-F7F64B29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5226-951B-4B27-A418-9CAF9238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02FF-78D2-4520-A7D3-C8442735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FA8A-9603-403B-944C-A53CB01E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4BEEC-429B-48F0-A20C-4D043E4C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0973-1AC0-4BC1-AD73-4C1F8026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CE54-A925-4270-B9A4-801270D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B58-00F7-45E8-B84F-6D53F15E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AC05-5B5F-40A0-B786-5F904F4E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FDCD-AA15-487C-AC2D-965C8126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C02E-58E4-4941-9722-15F77455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995A-1DEB-43A4-841E-2EE380EB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FDB4-8B5A-490F-8DFC-33F4E3A0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AA17-565D-4909-B7DB-F02BA588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DA4B-2A49-4811-B5D0-FAE83EDD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65A3-42CF-45AA-AF11-A1A5AA79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4247-209A-4489-93DF-26B35ABC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BDF1-C72D-4CD1-8070-CAB6E7A6706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643-6A61-41F3-AD91-495D319D3B6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"/>
              </a:rPr>
              <a:t>Análise e Projeto de Sistemas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76720" y="4335480"/>
            <a:ext cx="57909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Flávio Moreira de Carvalh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49400" y="6021360"/>
            <a:ext cx="5790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yright ©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FMU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rso Superior de Tecnologia em Sistemas de Inform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ganização ou Hierarqu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118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lasse e obje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: entidade tangível, do mundo real, concreto ou não, que poss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rtament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em defini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: molde para criação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o é uma instância 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objetos de uma mesma classe possuem os mesmos atributos, operações e associ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João da Silva e Maria Madalena são objetos da classe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riedades de uma classe d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atributo descreve uma faix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junto de atributos de um objeto em um determinado momento define o estado deste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s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 dos olhos e a estatura de uma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são os atributos de uma pessoa no estado “hiperten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raçõ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em o comportamento de um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viços que uma classe poss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 para uma pessoa: andar, fala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capsula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onde os detalhes de funcionamento de um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centiva o baixo acopl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 o esforço para a modificação, ao permitir a alteração confiável de softw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ando um telefone celul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lefone Celu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bric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d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(CD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úmero de sér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úmero da linh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peraç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i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li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c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dentificar cham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morizar número telefôn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lefone Motorola V90 55-21-9923-506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a uma classe, contendo atributos e operações, que modele lâmp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e o form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: &lt;nome-da-clas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nome-do-atribu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ão(õ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nome-da-operaçã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te (instancie) 2 objetos dest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exão física ou lógica entre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quivale ao conceito de relacionamento no modelo entidade-relacion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e rodas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arros se movimentam sobre ro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r e livro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ivros são escritos por auto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greg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 específico de associ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lacionamento todo-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 uma restrição de integridade na associ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: um objeto telefone celular é constituído por outros objetos: uma antena, um teclado, um viso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ociar o telefone (base) com sua antena, sua bateria e suas tec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damentos de Orientação a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ranç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 recebe atributos e comportamentos de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relação entre classes mãe (superclasse) e filha (subclas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ubclasse modifica, expande ou reduz a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a criação de classes abstratas (que não possuem objetos instanciáveis) e concretas (que possu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pode possuir herança múltipla, isto é, mais de uma classe-mã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olimorfism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priedade que permite que um nome possa significar instâncias de muitas classes, desde que essas sejam relacionadas por uma superclasse. Qualquer objeto representado por tal nome é capaz de responder a um conjunto de operações de forma distinta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ooch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esma operação se comporta diferentemente quando aplicada a objetos de classes disti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.: classes de polígonos que implementam uma operação para calcular a á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r um telefone celular com um fix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á-los com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walkie-talki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das as classes abaixo, organizá-las hierarquic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terr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aqu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anfíb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ó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r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unicação entre obje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a comunicação entre objetos se dá por meio de mensa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viar uma mensagem a um objeto significa chamar uma de suas oper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nsagens podem conter parâ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s podem ser passados como parâ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numa luta é necessário classificar os lutadores de acordo com o seu peso, assim, dado os respectivos pesos de duas pessoas, mostrar uma das seguintes classific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1ª pessoa é mais pesada que a 2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2ª pessoa é mais pesada que a 1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bas pessoas possuem o mesmo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mento da 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lê o peso da 1ª pesso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lê o peso da 2ª pesso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compara os pesos l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exibe o resul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: encontrar as classes e suas associ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dada uma lista de funcionários de uma empresa com nome, hora e valor a ser pago por hora, emitir a folha de pagamento. O relatório deve conter o nome, horas trabalhadas e salário de cada funcionário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mento da 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recupera o nome e hora trabalhada do funcionário d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recupera o valor hora do cargo do funcion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calcula o salário do funcionário: salário = hora trabalhada * valor hora do car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emite nome, hora trabalhada e salário do funcionário na folha de pag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: encontrar as classes e suas associ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ubra classes de objetos potenciais em uma Bibliote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e as classes dos seguinte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da, caverna, barraco, garagem, celeiro, casa, arranha-cé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cicleta, veleiro, carro, caminhão, avião, planador, motocicleta, caval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go, parafuso, pino, rebi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mo d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am apresentados os principais conceitos de Orientação a Objetos, os quais serão aprofundados no decorrer do 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guagem Unificada de Modelagem (UM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ivos da Orientação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domínios usando a própria linguagem do domí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perar as dificuldades dos paradigmas anteriores, como, por 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paração entre dados e proces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ontinuidade da análise para 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ção abstrata e simplificada de um sistema real, com a qual se pode explicar ou testar o seu comportamento, em seu todo ou em pa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hecimento humano é composto de modelos do mundo real ou de modelos criados a partir de outros existentes em nossas m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mapa é um mode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ag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é criar um modelo de uma parcela do mundo real ou a partir de outro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um modelo, optamos por representar as características do mundo real que são do nosso interesse, ou seja, que são relevantes para o propósito da model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écnicas de Booch para modelagem orientada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st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um modelo simplificado do problema, enfatizando alguns detalhes e propriedades e suprimindo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ompos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dir o problema em partes menores para facilmente encontrar 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ganização ou Hierarqu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e gerenciar as relações entre os componentes que solucionam o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stração (1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 de separar mentalmente um ou mais elementos de uma totalidade complexa, os quais só mentalmente podem subsistir fora dessa totalidade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urél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o mental através do qual selecionamos algumas características e propriedades de um conjunto de objetos e excluímos outras não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onsiderar o que não interess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.: plantas de um projeto de engenharia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stração (2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380960" y="1779480"/>
            <a:ext cx="643104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composi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28177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FMU</cp:lastModifiedBy>
  <dcterms:modified xsi:type="dcterms:W3CDTF">2008-03-11T23:15:05Z</dcterms:modified>
  <cp:revision>397</cp:revision>
  <dc:subject/>
  <dc:title>Análise e Projeto de Sistemas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