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096125" cy="10231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095600" cy="1023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402084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45720" y="4858920"/>
            <a:ext cx="520380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972036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402084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4CF721E-8CCC-412F-ADCC-98C30D2224E2}" type="slidenum"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402120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EECBAB9-E7C7-4678-96BC-351107817444}" type="slidenum"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45720" y="4858920"/>
            <a:ext cx="520380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402120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C51C341-2452-4E67-A918-01E242222C3A}" type="slidenum"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45720" y="4858920"/>
            <a:ext cx="520380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402120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271DF55-815C-42EE-9704-D74CCF3BEB79}" type="slidenum"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45720" y="4858920"/>
            <a:ext cx="520380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402120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14630A8-5DDB-4B1A-8321-2DF69B31CCF1}" type="slidenum"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45720" y="4858920"/>
            <a:ext cx="520380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402120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D78E22C-F8EF-4B40-BB87-77FC6756D811}" type="slidenum"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45720" y="4858920"/>
            <a:ext cx="520380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F5F57-9ACE-4C2E-A4FD-31BF287FD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4B4BC-4A0D-4E98-93B3-95779A35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D57D7-07BD-43AD-A73C-3D4FE5E32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669DD-6978-40EC-9F10-9543FC252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697DD-504B-4D1A-947F-3BB3D446D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6662-5E3C-4DC8-BFB4-3A8ED622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66A9-6B4A-4B0D-8071-E770EE57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C35B8-BE14-410D-891C-D2AEB262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6944E-3559-4CCF-B923-1217F9DD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E843-8F16-449E-A3E5-12888529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9CDCB-DCC4-4E98-8240-23937053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B89EA-26CF-4564-892E-84094094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9914B-7D5E-403E-A1B9-8AE8265E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89B88-E45F-4889-B808-CA99D7E0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5548-2815-4D55-A872-65328670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5B294-24DA-4FD7-A83A-23107CD65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84778-51BC-44FD-B2C7-B32B1225C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2DF69-D747-45EF-BED1-FC4EB8B9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A28F1-3914-430B-AC08-BB585981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5CF4C-2711-487D-B216-6073E76E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F500C-70C2-43A2-9BBF-D6DC98BD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F9D7C-8516-4E68-B85E-DDCE8359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8429F-32E0-4E4A-A455-8FFA06EC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B13E7-F76C-435E-BBF9-70F14689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64A6-ECC5-4328-9C9C-D949BF460C46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46EB-2A08-48D0-962C-898E25388AFE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ffffff"/>
                </a:solidFill>
                <a:latin typeface="Arial"/>
              </a:rPr>
              <a:t>Disciplina</a:t>
            </a:r>
            <a:br>
              <a:rPr sz="5000"/>
            </a:br>
            <a:r>
              <a:rPr b="0" lang="pt-BR" sz="5000" spc="-1" strike="noStrike">
                <a:solidFill>
                  <a:srgbClr val="ffffff"/>
                </a:solidFill>
                <a:latin typeface="Arial"/>
              </a:rPr>
              <a:t>Análise e Design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RUP"/>
          <p:cNvPicPr/>
          <p:nvPr/>
        </p:nvPicPr>
        <p:blipFill>
          <a:blip r:embed="rId1"/>
          <a:stretch/>
        </p:blipFill>
        <p:spPr>
          <a:xfrm>
            <a:off x="6804000" y="189000"/>
            <a:ext cx="2152800" cy="8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nálise e Design no RU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UP"/>
          <p:cNvPicPr/>
          <p:nvPr/>
        </p:nvPicPr>
        <p:blipFill>
          <a:blip r:embed="rId1"/>
          <a:stretch/>
        </p:blipFill>
        <p:spPr>
          <a:xfrm>
            <a:off x="1332000" y="2276640"/>
            <a:ext cx="6419880" cy="37717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4"/>
          <p:cNvSpPr/>
          <p:nvPr/>
        </p:nvSpPr>
        <p:spPr>
          <a:xfrm>
            <a:off x="1332000" y="3681360"/>
            <a:ext cx="6480000" cy="4683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bjetiv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ransformar os requisitos em um design do sistema a ser cri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senvolver uma arquitetura adequada e robusta para o sis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daptar o design para que corresponda ao ambiente de implementação, projetando-o para fins de desempen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6" descr="Análise e Design"/>
          <p:cNvPicPr/>
          <p:nvPr/>
        </p:nvPicPr>
        <p:blipFill>
          <a:blip r:embed="rId1"/>
          <a:stretch/>
        </p:blipFill>
        <p:spPr>
          <a:xfrm>
            <a:off x="3443400" y="1413000"/>
            <a:ext cx="3112920" cy="53593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Visão ger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96920" y="5900760"/>
            <a:ext cx="287280" cy="289080"/>
          </a:xfrm>
          <a:prstGeom prst="rect">
            <a:avLst/>
          </a:prstGeom>
          <a:solidFill>
            <a:srgbClr val="ff33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66560" y="5815080"/>
            <a:ext cx="194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Na 1ª iteração da Elabor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96920" y="6308640"/>
            <a:ext cx="287280" cy="289080"/>
          </a:xfrm>
          <a:prstGeom prst="rect">
            <a:avLst/>
          </a:prstGeom>
          <a:solidFill>
            <a:srgbClr val="ffff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418320" y="6313320"/>
            <a:ext cx="177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A partir da Elabor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196920" y="5491080"/>
            <a:ext cx="287280" cy="289080"/>
          </a:xfrm>
          <a:prstGeom prst="rect">
            <a:avLst/>
          </a:prstGeom>
          <a:solidFill>
            <a:srgbClr val="0066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466560" y="549288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Na Inici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5364000" y="1989000"/>
            <a:ext cx="720720" cy="863640"/>
          </a:xfrm>
          <a:prstGeom prst="rect">
            <a:avLst/>
          </a:prstGeom>
          <a:solidFill>
            <a:srgbClr val="006600">
              <a:alpha val="1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3419640" y="1989000"/>
            <a:ext cx="1296720" cy="719280"/>
          </a:xfrm>
          <a:prstGeom prst="rect">
            <a:avLst/>
          </a:prstGeom>
          <a:solidFill>
            <a:srgbClr val="ff3300">
              <a:alpha val="1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3419640" y="3357720"/>
            <a:ext cx="3168360" cy="2087280"/>
          </a:xfrm>
          <a:prstGeom prst="rect">
            <a:avLst/>
          </a:prstGeom>
          <a:solidFill>
            <a:srgbClr val="ffff00">
              <a:alpha val="1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Resumo da aul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ste curso prossegue no estudo do Processo Unificado da Rational (RUP), abordando a Análise e o Projeto Orientados a Objetos, enfatizando as técnicas e artefatos de modelagem em UML pertinentes ao assu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róximo Tópic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undamentos da Análise Orientada a Obje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1T01:49:11Z</dcterms:created>
  <dc:creator/>
  <dc:description/>
  <cp:keywords/>
  <dc:language>en-US</dc:language>
  <cp:lastModifiedBy>FMU</cp:lastModifiedBy>
  <dcterms:modified xsi:type="dcterms:W3CDTF">2008-03-11T22:41:53Z</dcterms:modified>
  <cp:revision>182</cp:revision>
  <dc:subject/>
  <dc:title>Análise e Projeto de Sistemas I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6</vt:r8>
  </property>
  <property fmtid="{D5CDD505-2E9C-101B-9397-08002B2CF9AE}" pid="3" name="Version">
    <vt:r8>3</vt:r8>
  </property>
</Properties>
</file>