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612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956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A5593C-97CA-4708-AACB-23B2E73326D9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258128-BCCB-4307-BDA6-5D85B67F1CFE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7B9B39-B56F-4116-8EFC-AFD12E73089E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C2373A-0D1B-42A1-B1E4-7AEA304D5092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CD0D17-A08E-48D6-8C26-9EF2ACE64F29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309CC5-0CFD-4274-9A09-A16569AD92AF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2C79-C678-4EB5-A4E0-AA90C39A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B16E-75E8-4969-8FC6-409D0D7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96ED-34AB-4F18-A0EE-3B30E81D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3F2-9EAC-41AF-AB8C-4D68857C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59B1-457F-4712-9E48-C0D54C4C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7A01-91EB-493B-990F-DC83677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9256-601B-4E7D-86FB-F7F80738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54F1-2155-4BF9-A20A-5D6DBEB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426-704D-468F-8367-BBBB67D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00EC-364B-4B10-B221-EBE095F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1B9C-BB5B-41DA-9976-9F262BE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EBF7-EB6A-4CF7-B0DF-DCCF3B12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6FF0-929C-4071-8762-F7DC0BB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9B8-966C-4AB8-B800-6F1E869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F8B-D5C3-46F1-9C60-A5FD716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697B-4B78-4085-9777-D3D41E2F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8510-B22D-47B9-8673-B8854631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5843-8C54-4321-8DDB-D6B3A0A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F062-F843-4D02-A843-11E4F4A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7989-1979-4FCD-9212-EBDCA080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FBB1-9B7B-4776-B708-6DD1F714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1AD7-0848-4DD3-BF72-03E92BB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0E85-7AFC-4FA6-AC39-7F62EEA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C21F-A657-4E65-939F-C36F7DC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BDE9-CFCB-4F08-BCCE-6F0E767627E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617-2A82-4A44-AAE2-7C0919F3918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Disciplina</a:t>
            </a:r>
            <a:br>
              <a:rPr sz="5000"/>
            </a:b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Análise e Desig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RUP"/>
          <p:cNvPicPr/>
          <p:nvPr/>
        </p:nvPicPr>
        <p:blipFill>
          <a:blip r:embed="rId1"/>
          <a:stretch/>
        </p:blipFill>
        <p:spPr>
          <a:xfrm>
            <a:off x="6804000" y="189000"/>
            <a:ext cx="2152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e Design no R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UP"/>
          <p:cNvPicPr/>
          <p:nvPr/>
        </p:nvPicPr>
        <p:blipFill>
          <a:blip r:embed="rId1"/>
          <a:stretch/>
        </p:blipFill>
        <p:spPr>
          <a:xfrm>
            <a:off x="1332000" y="2276640"/>
            <a:ext cx="6419880" cy="3771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332000" y="3681360"/>
            <a:ext cx="6480000" cy="46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os requisitos em um design do sistema a ser cr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nvolver uma arquitetura adequada e robusta para 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aptar o design para que corresponda ao ambiente de implementação, projetando-o para fins de desempe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6" descr="Análise e Design"/>
          <p:cNvPicPr/>
          <p:nvPr/>
        </p:nvPicPr>
        <p:blipFill>
          <a:blip r:embed="rId1"/>
          <a:stretch/>
        </p:blipFill>
        <p:spPr>
          <a:xfrm>
            <a:off x="3443400" y="1413000"/>
            <a:ext cx="3112920" cy="535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6920" y="5900760"/>
            <a:ext cx="287280" cy="289080"/>
          </a:xfrm>
          <a:prstGeom prst="rect">
            <a:avLst/>
          </a:prstGeom>
          <a:solidFill>
            <a:srgbClr val="ff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6560" y="581508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1ª iteração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920" y="6308640"/>
            <a:ext cx="287280" cy="2890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8320" y="6313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partir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96920" y="5491080"/>
            <a:ext cx="287280" cy="289080"/>
          </a:xfrm>
          <a:prstGeom prst="rect">
            <a:avLst/>
          </a:prstGeom>
          <a:solidFill>
            <a:srgbClr val="00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6560" y="54928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Inici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364000" y="1989000"/>
            <a:ext cx="720720" cy="863640"/>
          </a:xfrm>
          <a:prstGeom prst="rect">
            <a:avLst/>
          </a:prstGeom>
          <a:solidFill>
            <a:srgbClr val="0066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419640" y="1989000"/>
            <a:ext cx="1296720" cy="719280"/>
          </a:xfrm>
          <a:prstGeom prst="rect">
            <a:avLst/>
          </a:prstGeom>
          <a:solidFill>
            <a:srgbClr val="ff33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19640" y="3357720"/>
            <a:ext cx="3168360" cy="2087280"/>
          </a:xfrm>
          <a:prstGeom prst="rect">
            <a:avLst/>
          </a:prstGeom>
          <a:solidFill>
            <a:srgbClr val="ffff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 curso prossegue no estudo do Processo Unificado da Rational (RUP), abordando a Análise e o Projeto Orientados a Objetos, enfatizando as técnicas e artefatos de modelagem em UML pertinentes ao ass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o Tóp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a Análise Orientada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2:41:53Z</dcterms:modified>
  <cp:revision>182</cp:revision>
  <dc:subject/>
  <dc:title>Análise e Projeto de Sistemas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