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238640" y="28576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 name=""/>
          <p:cNvGraphicFramePr/>
          <p:nvPr/>
        </p:nvGraphicFramePr>
        <p:xfrm>
          <a:off x="7037280" y="4586400"/>
          <a:ext cx="2868840" cy="2271600"/>
        </p:xfrm>
        <a:graphic>
          <a:graphicData uri="http://schemas.openxmlformats.org/presentationml/2006/ole">
            <p:oleObj r:id="rId2" spid="">
              <p:embed/>
              <p:pic>
                <p:nvPicPr>
                  <p:cNvPr id="2" name="" descr=""/>
                  <p:cNvPicPr/>
                  <p:nvPr/>
                </p:nvPicPr>
                <p:blipFill>
                  <a:blip r:embed="rId3"/>
                  <a:stretch/>
                </p:blipFill>
                <p:spPr>
                  <a:xfrm>
                    <a:off x="7037280" y="4586400"/>
                    <a:ext cx="2868840" cy="2271600"/>
                  </a:xfrm>
                  <a:prstGeom prst="rect">
                    <a:avLst/>
                  </a:prstGeom>
                  <a:ln w="0">
                    <a:noFill/>
                  </a:ln>
                </p:spPr>
              </p:pic>
            </p:oleObj>
          </a:graphicData>
        </a:graphic>
      </p:graphicFrame>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33720" y="914040"/>
            <a:ext cx="6781680" cy="11430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Gill Sans"/>
              </a:rPr>
              <a:t>Segurança &amp; Auditoria de Sistemas</a:t>
            </a:r>
            <a:br>
              <a:rPr sz="4800"/>
            </a:br>
            <a:br>
              <a:rPr sz="4800"/>
            </a:br>
            <a:r>
              <a:rPr b="1" lang="en-US" sz="4800" spc="-1" strike="noStrike">
                <a:solidFill>
                  <a:srgbClr val="ff0000"/>
                </a:solidFill>
                <a:latin typeface="Gill Sans"/>
              </a:rPr>
              <a:t>AULA 06</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523880" y="4191120"/>
            <a:ext cx="693432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ahoma"/>
              </a:rPr>
              <a:t>Eduardo Silvestri</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Tahoma"/>
              </a:rPr>
              <a:t>www.eduardosilvestri.com.br</a:t>
            </a:r>
            <a:endParaRPr b="0" lang="en-US" sz="3600" spc="-1" strike="noStrike">
              <a:solidFill>
                <a:srgbClr val="000000"/>
              </a:solidFill>
              <a:latin typeface="Times New Roman"/>
            </a:endParaRPr>
          </a:p>
        </p:txBody>
      </p:sp>
      <p:graphicFrame>
        <p:nvGraphicFramePr>
          <p:cNvPr id="43" name=""/>
          <p:cNvGraphicFramePr/>
          <p:nvPr/>
        </p:nvGraphicFramePr>
        <p:xfrm>
          <a:off x="0" y="0"/>
          <a:ext cx="2722680" cy="3124080"/>
        </p:xfrm>
        <a:graphic>
          <a:graphicData uri="http://schemas.openxmlformats.org/presentationml/2006/ole">
            <p:oleObj r:id="rId1" spid="">
              <p:embed/>
              <p:pic>
                <p:nvPicPr>
                  <p:cNvPr id="44" name="" descr=""/>
                  <p:cNvPicPr/>
                  <p:nvPr/>
                </p:nvPicPr>
                <p:blipFill>
                  <a:blip r:embed="rId2"/>
                  <a:stretch/>
                </p:blipFill>
                <p:spPr>
                  <a:xfrm>
                    <a:off x="0" y="0"/>
                    <a:ext cx="272268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70"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A manutenção de senhas é algo simplesmente indispensável. Impede o uso de força bruta(1) por possíveis crackers e auxilia a mente na tarefa de memorização, sempre mantendo-a em processo de produção. Atente sempre para o nível de importância dos lugares em que pretende trocar de "password". Muitas vezes pode não valer a pena, enquanto em outras pode impedir um ataque iminent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73"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or fim, sempre ao definir uma nova senha, como prova final, tente adivinhá-la sabendo o que os outros sabem e podem saber a seu respeito. Se não conseguir, poderá utilizá-la com tranqüilidade por algum tempo. Se, no entanto, admitir que pessoas realmente empenhadas poderão uma hora colocar em risco a privacidade de seus dados, comece de novo o processo de criação. Nunca é tarde para aumentar a segurança de seus cadeados pessoai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79320" y="476280"/>
            <a:ext cx="854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O Difere uma boa senha de uma ruim</a:t>
            </a:r>
            <a:endParaRPr b="0" lang="en-US" sz="3600" spc="-1" strike="noStrike">
              <a:solidFill>
                <a:srgbClr val="000000"/>
              </a:solidFill>
              <a:latin typeface="Times New Roman"/>
            </a:endParaRPr>
          </a:p>
        </p:txBody>
      </p:sp>
      <p:sp>
        <p:nvSpPr>
          <p:cNvPr id="76"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repare-se para mais uma chata explicação técnica sobre invasão de sistemas. Vamos citar o exemplo dos sistemas Unix: todo usuário deste sistema precisa de uma senha. Alguns usuários possuem níveis maiores, onde podem fazer muitas coisas; outros, níveis menores, onde não podem fazer quase nada.</a:t>
            </a:r>
            <a:r>
              <a:rPr b="0" lang="pt-BR"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79320" y="476280"/>
            <a:ext cx="854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O Difere uma boa senha de uma ruim</a:t>
            </a:r>
            <a:endParaRPr b="0" lang="en-US" sz="3600" spc="-1" strike="noStrike">
              <a:solidFill>
                <a:srgbClr val="000000"/>
              </a:solidFill>
              <a:latin typeface="Times New Roman"/>
            </a:endParaRPr>
          </a:p>
        </p:txBody>
      </p:sp>
      <p:sp>
        <p:nvSpPr>
          <p:cNvPr id="79"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ocê sendo o responsável por um sistema desses, jamais daria um tipo de acesso "liberal demais" para um irresponsável (que não tem responsabilidades para com o sistema), mas todos eles possuem acesso ao arquivo de senhas, que é um arquivo geral que contém as senhas de todos os usuários. Então, o fulano irresponsável que possui um nível baixo pode pegar uma cópia deste arquivo e tentar descobrir a senha de usuários com um nível mai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79320" y="476280"/>
            <a:ext cx="854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O Difere uma boa senha de uma ruim</a:t>
            </a:r>
            <a:endParaRPr b="0" lang="en-US" sz="3600" spc="-1" strike="noStrike">
              <a:solidFill>
                <a:srgbClr val="000000"/>
              </a:solidFill>
              <a:latin typeface="Times New Roman"/>
            </a:endParaRPr>
          </a:p>
        </p:txBody>
      </p:sp>
      <p:sp>
        <p:nvSpPr>
          <p:cNvPr id="82"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senha, evidentemente, é codificada e não pode ser lida de forma alguma depois da codificação. Não existe maneira de se recuperar a senha original apenas com o resultado de sua codificação no arquivo de senhas. Então, como o sistema faz para saber se a senha que o usuário digitou está correta? Toda vez em que o usuário tentar entrar no sistema, a senha que ele digitar é codificada, e o resultado comparado com o que consta no arquivo de senhas. Se for igual (o cálculo de codificação é sempre o mesmo) então o acesso àquele usuário é liber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79320" y="476280"/>
            <a:ext cx="854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O Difere uma boa senha de uma ruim</a:t>
            </a:r>
            <a:endParaRPr b="0" lang="en-US" sz="3600" spc="-1" strike="noStrike">
              <a:solidFill>
                <a:srgbClr val="000000"/>
              </a:solidFill>
              <a:latin typeface="Times New Roman"/>
            </a:endParaRPr>
          </a:p>
        </p:txBody>
      </p:sp>
      <p:sp>
        <p:nvSpPr>
          <p:cNvPr id="85"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iorou! Como é então que o fulano vai fazer para descobrir as senhas de outros usuários? Simples: ele codifica uma palavra, se o resultado for igual ao código constante do seu arquivo de senhas, ele sabe, por referência, qual a palavra (senha) que deve ser utilizada. Então ele deve tentar várias palavras até encontrar alguma que se encaixe na codificação? Exatamente! E é aqui que entramos no mérito de "como escolher sua senha". Vejam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79320" y="476280"/>
            <a:ext cx="854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O Difere uma boa senha de uma ruim</a:t>
            </a:r>
            <a:endParaRPr b="0" lang="en-US" sz="3600" spc="-1" strike="noStrike">
              <a:solidFill>
                <a:srgbClr val="000000"/>
              </a:solidFill>
              <a:latin typeface="Times New Roman"/>
            </a:endParaRPr>
          </a:p>
        </p:txBody>
      </p:sp>
      <p:sp>
        <p:nvSpPr>
          <p:cNvPr id="88"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magine se todas as senhas fossem numéricas, de apenas 4 dígitos? Seria muito simples criar um arquivo que contivesse todas as combinações possíveis dos números em 4 posições diferentes. Pronto o arquivo, codifica-se cada uma delas, depois é só comparar para ver qual a senha de cada usuário e correr para o abraç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79320" y="476280"/>
            <a:ext cx="854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O Difere uma boa senha de uma ruim</a:t>
            </a:r>
            <a:endParaRPr b="0" lang="en-US" sz="3600" spc="-1" strike="noStrike">
              <a:solidFill>
                <a:srgbClr val="000000"/>
              </a:solidFill>
              <a:latin typeface="Times New Roman"/>
            </a:endParaRPr>
          </a:p>
        </p:txBody>
      </p:sp>
      <p:sp>
        <p:nvSpPr>
          <p:cNvPr id="91"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Acontece que nenhum sistema sério utiliza regras tão falhas para as senhas. Muitos, inclusive, proíbem até o uso de palavras que existam no dicionário. Assim se evita que algum fulano codifique um arquivo contendo palavras do dicionário e descubra as senhas. Agora, você já deve concordar conosco que, quanto maior em comprimento e mais variados forem os caracteres da senha, melhor. Nã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79320" y="476280"/>
            <a:ext cx="854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O Difere uma boa senha de uma ruim</a:t>
            </a:r>
            <a:endParaRPr b="0" lang="en-US" sz="3600" spc="-1" strike="noStrike">
              <a:solidFill>
                <a:srgbClr val="000000"/>
              </a:solidFill>
              <a:latin typeface="Times New Roman"/>
            </a:endParaRPr>
          </a:p>
        </p:txBody>
      </p:sp>
      <p:sp>
        <p:nvSpPr>
          <p:cNvPr id="94"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as imagine só: o que é maior, um arquivo contendo a combinação de todas as letras minúsculas formando palavras de no máximo 6 letras, ou um arquivo contendo a combinação de todas as letras minúsculas, maiúsculas (são diferentes), números, e símbolos (como vírgula, ponto, hífen, asterisco etc.) formando palavras de no máximo 8 letras? Assuma que cada letra deste arquivo ocupará 1 byte, que tamanho ele terá? Sem falar no tempo que se leva na criação, codificação e comparação com o arquivo de senhas. Todo o processo é automatizado, mas mesmo assim leva muito, muito temp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79320" y="476280"/>
            <a:ext cx="854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O Difere uma boa senha de uma ruim</a:t>
            </a:r>
            <a:endParaRPr b="0" lang="en-US" sz="3600" spc="-1" strike="noStrike">
              <a:solidFill>
                <a:srgbClr val="000000"/>
              </a:solidFill>
              <a:latin typeface="Times New Roman"/>
            </a:endParaRPr>
          </a:p>
        </p:txBody>
      </p:sp>
      <p:sp>
        <p:nvSpPr>
          <p:cNvPr id="97"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5800" y="125892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Times New Roman"/>
              </a:rPr>
              <a:t>Conclusão</a:t>
            </a:r>
            <a:r>
              <a:rPr b="0" lang="pt-BR" sz="3200" spc="-1" strike="noStrike">
                <a:solidFill>
                  <a:srgbClr val="000000"/>
                </a:solidFill>
                <a:latin typeface="Times New Roman"/>
              </a:rPr>
              <a:t>: sua senha deve ser absurdamente complexa, JAMAIS igual ao seu login, NUNCA a placa do seu carro, NEM PENSAR em data de nascimento, ela não pode ser lembrada (pelos outros, claro!). Ela deve beirar o limite do absur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46"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A senha é o nível de identificação enormemente utilizado em sistemas que lidam com informações particulares. Ela se torna muitas vezes o único vínculo de segurança entre o usuário e o sistema. Por isso mesmo, é indispensável pensar seriamente na escolha de suas senhas, o que muitas vezes impedirá que pessoas mal intencionadas tragam conseqüências desagradáveis ao acessarem dados que só você deveria possuir acess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100"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Times New Roman"/>
              </a:rPr>
              <a:t>DICAS AUXILIARES</a:t>
            </a: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se senhas alfanuméricas - Isso irá dificultar o uso de força bruta e outros processo semelhantes de quebra. Enquanto tentativas alfabéticas e numéricas demandam cada uma alguns dias de trabalho, a mistura entre as duas pode fazer com que um cracker fique meses à espera de uma senha válid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103"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Times New Roman"/>
              </a:rPr>
              <a:t>DICAS AUXILIARES</a:t>
            </a: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tilize as letras iniciais de uma frase que você gosta - Dessa forma a senha final pode se tornar simples a você e complicada ao resto do mundo. Frases como "até que a morte os separe" produziria a senha "aqamos". Para digitá-la, você só precisa se lembrar da frase que a originou. Utilize combinações com outras técn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106"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Times New Roman"/>
              </a:rPr>
              <a:t>DICAS AUXILIARES</a:t>
            </a: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emorize assinaturas para utilizar em vários lugares - As técnicas aglutinadas de assinatura e particularidade do local torna sua senha pessoal e intransferível. Como exemplo, suponha que você tivesse a assinatura "era46" e precisasse de uma senha para seu disco virtual. Uma boa escolha poderia ser "virtera46dis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109"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Times New Roman"/>
              </a:rPr>
              <a:t>DICAS AUXILIARES</a:t>
            </a: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Nunca utilize senhas idênticas em mais de um lugar importante - Uma vez que exista alguém interessado em quebrar a segurança de seus dados, ela poderá trabalhar paralelamente em todos os lugares onde você deve se autenticar para conseguir alguma pista da senha que realmente necessita. Não copiar senhas torna o trabalho dessa pessoa inút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112"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Times New Roman"/>
              </a:rPr>
              <a:t>GLOSSÁRIO</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força-bruta. Processo linear de quebra de senhas que se caracteriza pela tentativa e erro. Devido ao tempo gasto nessa tarefa, senhas muito grandes tornam-se praticamente impossíveis de serem quebradas por esse méto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609480"/>
            <a:ext cx="91440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ill Sans"/>
              </a:rPr>
              <a:t>Dúvidas</a:t>
            </a:r>
            <a:endParaRPr b="0" lang="en-US" sz="4400" spc="-1" strike="noStrike">
              <a:solidFill>
                <a:srgbClr val="000000"/>
              </a:solidFill>
              <a:latin typeface="Times New Roman"/>
            </a:endParaRPr>
          </a:p>
        </p:txBody>
      </p:sp>
      <p:graphicFrame>
        <p:nvGraphicFramePr>
          <p:cNvPr id="115" name=""/>
          <p:cNvGraphicFramePr/>
          <p:nvPr/>
        </p:nvGraphicFramePr>
        <p:xfrm>
          <a:off x="2971800" y="2819520"/>
          <a:ext cx="3581280" cy="2666880"/>
        </p:xfrm>
        <a:graphic>
          <a:graphicData uri="http://schemas.openxmlformats.org/presentationml/2006/ole">
            <p:oleObj r:id="rId1" spid="">
              <p:embed/>
              <p:pic>
                <p:nvPicPr>
                  <p:cNvPr id="116" name="" descr=""/>
                  <p:cNvPicPr/>
                  <p:nvPr/>
                </p:nvPicPr>
                <p:blipFill>
                  <a:blip r:embed="rId2"/>
                  <a:stretch/>
                </p:blipFill>
                <p:spPr>
                  <a:xfrm>
                    <a:off x="2971800" y="2819520"/>
                    <a:ext cx="358128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167652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61080" y="3048120"/>
            <a:ext cx="18396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80880" y="838080"/>
            <a:ext cx="8915400" cy="469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Courier New"/>
              </a:rPr>
              <a:t>Perguntas</a:t>
            </a:r>
            <a:endParaRPr b="0" lang="en-US" sz="4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 Qual a importância da senha em sistema de Seguranç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 Quais regras devem ser utilizadas na criação de Senh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3- Crie 5 senhas seguras utilizando o processo ?</a:t>
            </a:r>
            <a:endParaRPr b="0" lang="en-US" sz="2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Courier New"/>
              </a:rPr>
              <a:t>Publicações</a:t>
            </a:r>
            <a:endParaRPr b="0" lang="en-US" sz="4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pa Conceitual.</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85800" y="464832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447560" y="4114440"/>
            <a:ext cx="6476760" cy="1981080"/>
          </a:xfrm>
          <a:prstGeom prst="rect">
            <a:avLst/>
          </a:prstGeom>
          <a:solidFill>
            <a:srgbClr val="ffffff"/>
          </a:solidFill>
          <a:ln w="0">
            <a:noFill/>
          </a:ln>
        </p:spPr>
        <p:txBody>
          <a:bodyPr lIns="90000" rIns="90000" tIns="46800" bIns="46800" anchor="t">
            <a:noAutofit/>
          </a:bodyPr>
          <a:p>
            <a:pPr algn="ct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ill Sans"/>
              </a:rPr>
              <a:t>www.eduardosilvestri.com.br</a:t>
            </a:r>
            <a:endParaRPr b="0" lang="en-US" sz="3200" spc="-1" strike="noStrike">
              <a:solidFill>
                <a:srgbClr val="000000"/>
              </a:solidFill>
              <a:latin typeface="Times New Roman"/>
            </a:endParaRPr>
          </a:p>
          <a:p>
            <a:pPr algn="ct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ill Sans"/>
              </a:rPr>
              <a:t>Eduardo Silvestri</a:t>
            </a:r>
            <a:endParaRPr b="0" lang="en-US" sz="3200" spc="-1" strike="noStrike">
              <a:solidFill>
                <a:srgbClr val="000000"/>
              </a:solidFill>
              <a:latin typeface="Times New Roman"/>
            </a:endParaRPr>
          </a:p>
          <a:p>
            <a:pPr algn="ctr">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Gill Sans"/>
              </a:rPr>
              <a:t>silvestri@eduardosilvestri.com.br</a:t>
            </a:r>
            <a:endParaRPr b="0" lang="en-US" sz="2600" spc="-1" strike="noStrike">
              <a:solidFill>
                <a:srgbClr val="000000"/>
              </a:solidFill>
              <a:latin typeface="Times New Roman"/>
            </a:endParaRPr>
          </a:p>
          <a:p>
            <a:pPr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380880" y="228600"/>
            <a:ext cx="91440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ill Sans"/>
              </a:rPr>
              <a:t>Dúvidas</a:t>
            </a:r>
            <a:endParaRPr b="0" lang="en-US" sz="4400" spc="-1" strike="noStrike">
              <a:solidFill>
                <a:srgbClr val="000000"/>
              </a:solidFill>
              <a:latin typeface="Times New Roman"/>
            </a:endParaRPr>
          </a:p>
        </p:txBody>
      </p:sp>
      <p:graphicFrame>
        <p:nvGraphicFramePr>
          <p:cNvPr id="123" name=""/>
          <p:cNvGraphicFramePr/>
          <p:nvPr/>
        </p:nvGraphicFramePr>
        <p:xfrm>
          <a:off x="3048120" y="1219320"/>
          <a:ext cx="3581280" cy="2666880"/>
        </p:xfrm>
        <a:graphic>
          <a:graphicData uri="http://schemas.openxmlformats.org/presentationml/2006/ole">
            <p:oleObj r:id="rId1" spid="">
              <p:embed/>
              <p:pic>
                <p:nvPicPr>
                  <p:cNvPr id="124" name="" descr=""/>
                  <p:cNvPicPr/>
                  <p:nvPr/>
                </p:nvPicPr>
                <p:blipFill>
                  <a:blip r:embed="rId2"/>
                  <a:stretch/>
                </p:blipFill>
                <p:spPr>
                  <a:xfrm>
                    <a:off x="3048120" y="1219320"/>
                    <a:ext cx="358128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49"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Elaborar bem suas senhas, de forma que sejam simples de usar no dia a dia e ao mesmo tempo difíceis de serem quebradas por alguém interessado em fazê-lo, é a melhor maneira de reforçar o cadeado que você dispõe para proteger seus dados de mãos estranhas e objetivos nefast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52"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ensar previamente sobre o que digitar num campo de cadastro geralmente é uma boa idéia, pois lhe dará mais tempo para a utilização de técnicas na criação e memorização de suas senhas, algumas delas listadas nessa apresentação.</a:t>
            </a:r>
            <a:r>
              <a:rPr b="0" lang="pt-BR"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55"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Muitos truques podem ser utilizados na tarefa de criação do "password" perfeito. Concomitantemente existem regras gerais e condutas que devem ser sempre seguidas à risca. Uma delas, por exemplo, é nunca anotar nada referente à sua senha, sendo o processo de memorização puramente mental. Uma vez que senhas são "assinaturas" do usuário que as utilizam, devem somente fazer parte dele, para que somente ele seja capaz de acessar suas informaçõ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58"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 contexto onde ela será utilizada é algo igualmente importante, já que é muito provável que você tenha vários lugares onde é necessária a autenticação, e é muito difícil lembrar-se de todos eles. Uma bom truque é criar sua senha a partir de uma particularidade do lugar para onde ela foi escolhida junto de uma "assinatura" sua. Dessa forma, a senha se torna ao mesmo tempo algo pessoal e de simples memorizaçã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61"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Também é necessário medir a importância dos lugares onde você se autentica. O acesso à sua conta no banco é bem mais delicado que o acesso ao conteúdo personalizado de seu site de notícias. A regra é que a dificuldade na descoberta de uma senha seja proporcional ao controle e às informações fornecidas a quem consegue se autenticar.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64"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No caso do site de notícias, talvez a única possibilidade do usuário dentro do sistema seja cancelar o recebimento de notícias por e-mail, enquanto que na conta de banco a história é diferent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79320" y="476280"/>
            <a:ext cx="854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3399"/>
                </a:solidFill>
                <a:latin typeface="Gill Sans"/>
                <a:ea typeface="굴림"/>
              </a:rPr>
              <a:t>Senhas</a:t>
            </a:r>
            <a:endParaRPr b="0" lang="en-US" sz="3600" spc="-1" strike="noStrike">
              <a:solidFill>
                <a:srgbClr val="000000"/>
              </a:solidFill>
              <a:latin typeface="Times New Roman"/>
            </a:endParaRPr>
          </a:p>
        </p:txBody>
      </p:sp>
      <p:sp>
        <p:nvSpPr>
          <p:cNvPr id="67" name=""/>
          <p:cNvSpPr/>
          <p:nvPr/>
        </p:nvSpPr>
        <p:spPr>
          <a:xfrm>
            <a:off x="762120" y="1162080"/>
            <a:ext cx="8458200" cy="0"/>
          </a:xfrm>
          <a:prstGeom prst="line">
            <a:avLst/>
          </a:prstGeom>
          <a:ln cap="sq"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85800" y="1268280"/>
            <a:ext cx="84200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conceito de uma senha bem construída está diretamente ligada à facilidade de descobri-la, seja utilizando recursos computacionais ou informações pessoais do usuário. Na verdade, o primeiro pensamento que se deve ter, é quanto ao valor da informação que está sendo protegida pela senha. Fica evidente, que não será necessária uma senha complicadíssima para proteger o acesso à um computador que mantém apenas documentos escolares, contudo, passa a ser fundamental para proteger o acesso à sua conta bancária.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3T13:10:10Z</dcterms:created>
  <dc:creator>Fabio Meneghim</dc:creator>
  <dc:description/>
  <dc:language>en-US</dc:language>
  <cp:lastModifiedBy>silvestri</cp:lastModifiedBy>
  <dcterms:modified xsi:type="dcterms:W3CDTF">2007-09-18T22:55:27Z</dcterms:modified>
  <cp:revision>55</cp:revision>
  <dc:subject/>
  <dc:title>Autenticação Forte Baseada na Biometria</dc:title>
</cp:coreProperties>
</file>